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1BB-80D3-46A1-AB25-206EE2EB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340-38E1-4B59-862D-E1E229E7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25C-EB69-411E-B857-1023EEC3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B11-9C96-4600-8BC3-610120E3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2D1-D021-4732-97E2-E522232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F93-0F19-4BA4-8BA6-BDBE2422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B56-1093-4B4B-96B2-C01A3986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B4E-87F6-4D98-BF38-2AA17063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782-EEB6-4293-AC1F-78DCFA51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F01-24E4-4322-9D68-CD4BA30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2A6-06D6-4199-AB57-E8BCAF1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C96-2A2E-48B2-BD1B-0252912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02ED-B1D5-4895-AA68-D67D24111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II. 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SRGIS</cp:lastModifiedBy>
  <dcterms:modified xsi:type="dcterms:W3CDTF">2006-08-28T20:52:10Z</dcterms:modified>
  <cp:revision>7</cp:revision>
  <dc:subject/>
  <dc:title>Diapositiva 1</dc:title>
</cp:coreProperties>
</file>