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6C68-6303-4D29-8C61-C60E1FA0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3487-395E-47C1-B56E-FE59EA3B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D905-6F12-4480-9F1B-318F2323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89F4-6BC0-4890-A3C6-EA22E168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3858-AB20-401F-B319-ABC682ED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03C-7436-4437-8F49-90775EF3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9AD0-F6E8-4BEC-8D1F-43F3DA52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4176-57B9-4D2F-BCCB-90E14F24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017-B661-462C-BCD6-46295598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8B3-1A66-4EC0-900B-BE5FF0D1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36E-6D8F-45C1-9E21-82F5AAEC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9012-9B41-46E8-9A24-E7FE5B8B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868B-E1FF-425A-B6D5-72C3D5DB6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052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III. Las Imágenes Satelitales y sus Capac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916280"/>
            <a:ext cx="828036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ara comprender las capacidades que puede tener una imagen satelital, es necesario conocer dos datos important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a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aremos los detalles referentes a 4 tipos de imágenes satelitales, ampliamente utilizadas hoy en d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Land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Quick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4105080" cy="390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122800" y="1628640"/>
            <a:ext cx="3409920" cy="388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03280" y="981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Imagen IKONOS                                    Imagen QuickBi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98560" y="595008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¿ A que minas corresponde cada image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ND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8 mts. multiespectral / 14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7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26920" y="3068640"/>
            <a:ext cx="732816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268280"/>
            <a:ext cx="84247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Landsat podemos trabajar a escala 1:100.000 con comodidad, llegando incluso a poder trabajar 1:50.000 utilizando la banda pancro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Oxidos de Fe (Hematita / Jaros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ada escena Landsat abarca un área de 180 x 180 km lo que permite tener una visión distrital/regional de cualquier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124000" y="1504800"/>
            <a:ext cx="5113440" cy="4948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Landsat P001R0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15 (VNIR), 30 (SWIR) y 90 (TIR) mts. multi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14 bandas multiespectrales / 1 banda estereoscóp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484360" y="3319560"/>
            <a:ext cx="431496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1268280"/>
            <a:ext cx="84247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Aster podemos trabajar a escala 1:50.000, 1:100.000 y 1:250.000, según el rango en el que trabaj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 de alta y baja temperatura (Alunita, Kaolinita, Il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Minerales Fe3+ y Fe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Carbonatos y alteración propi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Silic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Gra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estudios detallados se puede llegar a identificar más minerales o asociaciones minerales. Cada escena Aster abarca un área de 60 x 60 km lo que permite tener una visión local/distrital de un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47640" y="1413000"/>
            <a:ext cx="5832720" cy="491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IKONOS &amp; QUICK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2133720"/>
            <a:ext cx="72741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4 mts. multiespectral / 1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Quick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.44 mts multiespectral / 0.61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s bandas multiespectrales de ambos sensores s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Azul, Verde, Rojo e Infrarrojo Cer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1268280"/>
            <a:ext cx="84247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IKONOS podemos trabajar a escala 1:8.000 (multiespectral) y 1:2.000 (pancromática), mientras con las imágenes QuickBIrd podemos trabajar a escala 1:5.000 (multiespectral) y 1:1.500 (pancromá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Óxidos de 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 ventaja de estas imágenes es su resolución espacial, lo que nos permite trabajar a una escala mucho más detallada para ordenamiento territorial, detección de cambios, mapeo local y distrita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Basta entonces imaginar lo que podríamos detectar con imágenes de alta resolución espacial y espectral. Hoy en día la mayoría de estas imágenes se obtiene desde sensores aerotransportados lo que las hace bastante c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22:24:35Z</dcterms:created>
  <dc:creator>José Manuel Lattus</dc:creator>
  <dc:description/>
  <dc:language>en-US</dc:language>
  <cp:lastModifiedBy>SRGIS</cp:lastModifiedBy>
  <dcterms:modified xsi:type="dcterms:W3CDTF">2006-08-28T20:52:10Z</dcterms:modified>
  <cp:revision>7</cp:revision>
  <dc:subject/>
  <dc:title>Diapositiva 1</dc:title>
</cp:coreProperties>
</file>