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54FA-51C6-49C0-A0B9-626CAADB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4A9-158E-4CC5-B18D-2C16DFD1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635-F018-4203-AFD2-55126D97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9C6-CC40-41C1-8439-A5ED7A5E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94A-26F2-4036-B4E4-17E6B6D0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88C0-E2DA-44F5-B685-0DB0C24F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441-9DDA-49E7-9AC4-22A6A83A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D84-B734-46B2-B9B4-FFA9FAE1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A8CD-11B7-4D40-8EAE-06DF7AA5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FDA-F265-4E57-B01B-6EF65BAC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E0C-E267-4538-8DAC-C6FFF96C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355-0D01-4136-9804-8499644B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5BC6-1E17-4908-ABE7-E3106DF5C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http://www.geociencias.unam.mx/cursos_cegeo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http://www.geo.arizona.edu/~pkapp/Lectures_304.ht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86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ressive strength tests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907160" cy="5257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31164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676520" y="1828800"/>
            <a:ext cx="838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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1523880"/>
            <a:ext cx="838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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1219320"/>
            <a:ext cx="838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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3352680"/>
            <a:ext cx="609480" cy="6098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2819520"/>
            <a:ext cx="1523880" cy="1600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209680"/>
            <a:ext cx="3047760" cy="29718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3276720"/>
            <a:ext cx="685800" cy="68580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2819520"/>
            <a:ext cx="1523880" cy="160020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133720"/>
            <a:ext cx="3048120" cy="297180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1905120"/>
            <a:ext cx="3581280" cy="358128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380880"/>
            <a:ext cx="8153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ressive strength tests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ul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envelope of failure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fractures form at angles of 25 to 35 degrees fro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- very consist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5257800" cy="5137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8600" y="1676520"/>
            <a:ext cx="7315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9528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critical shear stress required for failu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cohesive strengt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n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coefficient of internal friction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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80880"/>
            <a:ext cx="3733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ulomb's Law of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800600" cy="4691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365760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c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+ tan</a:t>
            </a:r>
            <a:r>
              <a:rPr b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nsile strength tests with no confining pressure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ach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to compressive strength test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) Rocks are much weaker in tension than in compression  (2) Fracture oriented parallel t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1860480"/>
            <a:ext cx="563904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228600"/>
            <a:ext cx="8305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nsile + Compressive strength test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: Failure envelope is parabol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&lt;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lt;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1440" y="2209680"/>
            <a:ext cx="2838600" cy="3505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733920" y="1752480"/>
            <a:ext cx="46987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5207040" cy="5334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ilure envelopes for different rocks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that slope of envelope is similar for most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29528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c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+ tan</a:t>
            </a:r>
            <a:r>
              <a:rPr b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133720"/>
            <a:ext cx="34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critical shear stress required for failu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cohesive strength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n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coefficient of internal fric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yerlee'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uch shear stress is needed to cause movement along a preexisting fracture surface, subjected to a certain normal stress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Similar to Coulomb law without cohes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ictional sliding envelope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n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, where tan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coefficient of sliding f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419720" cy="3738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4956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yerlee'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La pendiente de la tangente del circulo de Mohr esta dada por el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ángulo de fricción interna. Este ángulo de fricción ø y coeficiente de fricción µ estan relacionados por Tg ø= 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43400" y="2166840"/>
            <a:ext cx="4800600" cy="4691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73120" y="2101680"/>
            <a:ext cx="37702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 la mayo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a de las rocas este ángulo es 30-40º, que es equivalente a un coeficiente de fricción interna entre 0.6 y 0.85. Esta relación es llamada Ley de Byerlee, primero en medir µ a la escala cortical y derivó ø de 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28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existing fracture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of suitable orientat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ay fail before a new fracture is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474920"/>
            <a:ext cx="4419720" cy="4027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00600" y="1494000"/>
            <a:ext cx="43434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762440" cy="3200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3419640" cy="604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33520" y="3505320"/>
            <a:ext cx="441936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c23"/>
                </a:solidFill>
                <a:latin typeface="Arial"/>
              </a:rPr>
              <a:t>Geometric approach: Mohr Stress Diagram </a:t>
            </a:r>
            <a:br>
              <a:rPr sz="2800"/>
            </a:br>
            <a:r>
              <a:rPr b="1" lang="en-US" sz="2800" spc="-1" strike="noStrike">
                <a:solidFill>
                  <a:srgbClr val="fffc23"/>
                </a:solidFill>
                <a:latin typeface="Arial"/>
              </a:rPr>
              <a:t>a plot of </a:t>
            </a:r>
            <a:r>
              <a:rPr b="1" lang="en-US" sz="2800" spc="-1" strike="noStrike">
                <a:solidFill>
                  <a:srgbClr val="fffc23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fffc23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fc23"/>
                </a:solidFill>
                <a:latin typeface="Arial"/>
              </a:rPr>
              <a:t> vs. </a:t>
            </a:r>
            <a:r>
              <a:rPr b="1" lang="en-US" sz="2800" spc="-1" strike="noStrike">
                <a:solidFill>
                  <a:srgbClr val="fffc23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fffc23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295280"/>
            <a:ext cx="8458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step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and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; draw Mohr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79246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464832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c23"/>
                </a:solidFill>
                <a:latin typeface="Arial"/>
              </a:rPr>
              <a:t>effective stres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= confining pressure – flui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c23"/>
                </a:solidFill>
                <a:latin typeface="Arial"/>
              </a:rPr>
              <a:t>fluid pressure: </a:t>
            </a:r>
            <a:r>
              <a:rPr b="0" lang="en-US" sz="2800" spc="-1" strike="noStrike">
                <a:solidFill>
                  <a:srgbClr val="fffc23"/>
                </a:solidFill>
                <a:latin typeface="Arial"/>
              </a:rPr>
              <a:t>serves to decrease confining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c23"/>
                </a:solidFill>
                <a:latin typeface="Arial"/>
              </a:rPr>
              <a:t>Si la presi</a:t>
            </a:r>
            <a:r>
              <a:rPr b="0" lang="en-US" sz="2800" spc="-1" strike="noStrike">
                <a:solidFill>
                  <a:srgbClr val="fffc23"/>
                </a:solidFill>
                <a:latin typeface="Arial"/>
                <a:ea typeface="ＭＳ Ｐゴシック"/>
              </a:rPr>
              <a:t>ón de fluido juega un rol, entonces el criterio de Mohr-Coulomb se formula com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</a:t>
            </a:r>
            <a:r>
              <a:rPr b="0" lang="en-US" sz="35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US" sz="35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-Pf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f=Presión de fluido en los poros. Esto puede ser aproximado como </a:t>
            </a:r>
            <a:r>
              <a:rPr b="0" lang="en-US" sz="37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</a:t>
            </a:r>
            <a:r>
              <a:rPr b="0" lang="en-US" sz="35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µ</a:t>
            </a:r>
            <a:r>
              <a:rPr b="0" lang="en-US" sz="35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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.   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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f/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zon entre presión de fluido y stress litostátic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5029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creasing fluid pressure favors failure!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Also may lead to tensile failure deep in cru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ive stress =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flui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3049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about fluid press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9154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2286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happens at higher confining press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54864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on Mises failure envelop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ailure occurs at 45 degrees from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25780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304920"/>
            <a:ext cx="76960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cks in the crust are generally in a state of compressive stres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d on Coulomb's Law of Failure, at what angle would you expect faults to form with respect to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76520" y="1649520"/>
            <a:ext cx="59436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yes de Byerlee y Amont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Si hay fracturas pre-existentes en una roca, entonces no hay cohesi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ón o la cohesión es muy pequeña comparada a la cohesión de una roca fresca. El stress de cizalle necesario para deformar una roca fracturada esta dado entonces po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00"/>
                </a:solidFill>
                <a:latin typeface="Symbol"/>
                <a:ea typeface="Symbol"/>
              </a:rPr>
              <a:t></a:t>
            </a:r>
            <a:r>
              <a:rPr b="0" lang="en-US" sz="19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=</a:t>
            </a:r>
            <a:r>
              <a:rPr b="0" lang="en-US" sz="35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+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µ</a:t>
            </a:r>
            <a:r>
              <a:rPr b="0" lang="en-US" sz="35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   (</a:t>
            </a:r>
            <a:r>
              <a:rPr b="0" lang="en-US" sz="35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=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0) </a:t>
            </a:r>
            <a:r>
              <a:rPr b="0" lang="en-US" sz="3700" spc="-1" strike="noStrike">
                <a:solidFill>
                  <a:srgbClr val="ffff00"/>
                </a:solidFill>
                <a:latin typeface="Symbol"/>
                <a:ea typeface="Symbol"/>
              </a:rPr>
              <a:t></a:t>
            </a:r>
            <a:r>
              <a:rPr b="0" lang="en-US" sz="2600" spc="-1" strike="noStrike">
                <a:solidFill>
                  <a:srgbClr val="ffff00"/>
                </a:solidFill>
                <a:latin typeface="Symbol"/>
                <a:ea typeface="Symbol"/>
              </a:rPr>
              <a:t></a:t>
            </a:r>
            <a:r>
              <a:rPr b="0" lang="en-US" sz="37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en-US" sz="19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=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µ</a:t>
            </a:r>
            <a:r>
              <a:rPr b="0" lang="en-US" sz="35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, Ley de Amonton]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yes de Byerl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Byerlee (1968, 1970) mostr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ó empiricamente que a presiones bajo 200MPa (menos de 8Km de profundidad) la corteza puede estar caracterizada por un coeficiente de fricción interna igual a:      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µ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= 0.8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 profundidades mayores pero sobre la transición fragil-ductil en la corteza el stress de cizalle es mejor descrito por: </a:t>
            </a:r>
            <a:r>
              <a:rPr b="0" lang="en-US" sz="3300" spc="-1" strike="noStrike">
                <a:solidFill>
                  <a:srgbClr val="ffff00"/>
                </a:solidFill>
                <a:latin typeface="Symbol"/>
                <a:ea typeface="Symbol"/>
              </a:rPr>
              <a:t>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Symbol"/>
                <a:ea typeface="Symbol"/>
              </a:rPr>
              <a:t></a:t>
            </a:r>
            <a:r>
              <a:rPr b="0" lang="en-US" sz="17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=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60MPa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+0.6</a:t>
            </a:r>
            <a:r>
              <a:rPr b="0" lang="en-US" sz="31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ebido</a:t>
            </a:r>
            <a:r>
              <a:rPr b="0" lang="en-US" sz="2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 que</a:t>
            </a:r>
            <a:r>
              <a:rPr b="0" lang="en-US" sz="2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µ≈0.85, la gran mayoría de las fallas ocurren a 30º del stress principal máxim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as leyes de Byerlee indican que rocas a 5 km de profundidad se fallaran en aproximadamente110MPa, en 10km en 230MPa y a 15km en ~300MP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i consideramos la presión de fluidos la Ley de Byerlee se re-escribe como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85</a:t>
            </a:r>
            <a:r>
              <a:rPr b="0" lang="en-US" sz="35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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.  Y   </a:t>
            </a:r>
            <a:r>
              <a:rPr b="0" lang="en-US" sz="37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60MPa+0.6</a:t>
            </a:r>
            <a:r>
              <a:rPr b="0" lang="en-US" sz="35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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666880" y="5029200"/>
            <a:ext cx="6172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ritical shear stress required for fail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hesive streng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efficient of internal fri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ormal 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038480" y="152280"/>
            <a:ext cx="4953240" cy="4840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380880"/>
            <a:ext cx="3200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all Coulomb's Law of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447920"/>
            <a:ext cx="3200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compression, what is the observed angle between the fracture surface and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800600"/>
            <a:ext cx="1828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~30 degre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erson's Theory of Faul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rth's surface i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e surfa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contact between rock and atmosphere) with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shear str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As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al stress directions are directions of zero shear str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y must be parallel (2 of them) and perpendicular (1 of them) to the Earth's surface.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bined with an angle of failure of 30 degrees from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1, this g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22860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step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 line representing the plane at 2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measured from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2296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a de Anderson: Las leyes de Byerlee describen la relación entre Stress de cizalle y stress normal (que se asocian a profundidades en la corteza) en general, pero ellas no explican la orientación espacial de los planos de falla relativos a los stresses principales. Anderson reformuló la Ley de Mohr-Coulomb en términos de stress diferencial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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y stress litostátic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z) en lugar de stress de cizalle y stress normal. El tomó 3 casos para representar Fallas inversas, normales y de rumbo y asumió: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 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=0.5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pectivamente. La relación para cada caso puede ser derivada directamente del circulo de Mohr usando relaciones trigonométr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90720" y="1371600"/>
            <a:ext cx="6553080" cy="53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versas: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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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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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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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lang="en-US" sz="15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L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(1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-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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</a:t>
            </a:r>
            <a:r>
              <a:rPr b="0" lang="en-US" sz="27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1900" spc="-1" strike="noStrike">
                <a:solidFill>
                  <a:srgbClr val="ffffff"/>
                </a:solidFill>
                <a:latin typeface="Symbol"/>
                <a:ea typeface="Symbol"/>
              </a:rPr>
              <a:t></a:t>
            </a:r>
            <a:r>
              <a:rPr b="0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r>
              <a:rPr b="0" lang="en-US" sz="19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rmales: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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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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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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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lang="en-US" sz="15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L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(1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-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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</a:t>
            </a:r>
            <a:r>
              <a:rPr b="0" lang="en-US" sz="27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1900" spc="-1" strike="noStrike">
                <a:solidFill>
                  <a:srgbClr val="ffffff"/>
                </a:solidFill>
                <a:latin typeface="Symbol"/>
                <a:ea typeface="Symbol"/>
              </a:rPr>
              <a:t></a:t>
            </a:r>
            <a:r>
              <a:rPr b="0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r>
              <a:rPr b="0" lang="en-US" sz="19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ヒラギノ角ゴ Pro W3"/>
                <a:ea typeface="ＭＳ Ｐゴシック"/>
              </a:rPr>
              <a:t>_x0012_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umbo</a:t>
            </a:r>
            <a:r>
              <a:rPr b="0" lang="en-US" sz="2800" spc="-1" strike="noStrike">
                <a:solidFill>
                  <a:srgbClr val="ffffff"/>
                </a:solidFill>
                <a:latin typeface="ヒラギノ角ゴ Pro W3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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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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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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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lang="en-US" sz="15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L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(1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-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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</a:t>
            </a:r>
            <a:r>
              <a:rPr b="0" lang="en-US" sz="27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1900" spc="-1" strike="noStrike">
                <a:solidFill>
                  <a:srgbClr val="ffffff"/>
                </a:solidFill>
                <a:latin typeface="Symbol"/>
                <a:ea typeface="Symbol"/>
              </a:rPr>
              <a:t></a:t>
            </a:r>
            <a:r>
              <a:rPr b="0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589200" y="228600"/>
            <a:ext cx="5235840" cy="6248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8600" y="2590920"/>
            <a:ext cx="3124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jugate normal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304920"/>
            <a:ext cx="563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jugate thrust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3520" y="1217520"/>
            <a:ext cx="761976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60640" y="0"/>
            <a:ext cx="50004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s angle of plane from the greatest compressive stress direction 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229600" cy="3573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2578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c23"/>
                </a:solidFill>
                <a:latin typeface="Arial"/>
              </a:rPr>
              <a:t>mean stress: (</a:t>
            </a:r>
            <a:r>
              <a:rPr b="1" lang="en-US" sz="2500" spc="-1" strike="noStrike">
                <a:solidFill>
                  <a:srgbClr val="fffc23"/>
                </a:solidFill>
                <a:latin typeface="Symbol"/>
                <a:ea typeface="Symbol"/>
              </a:rPr>
              <a:t></a:t>
            </a:r>
            <a:r>
              <a:rPr b="1" lang="en-US" sz="2500" spc="-1" strike="noStrike" baseline="-25000">
                <a:solidFill>
                  <a:srgbClr val="fffc23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fffc23"/>
                </a:solidFill>
                <a:latin typeface="Arial"/>
              </a:rPr>
              <a:t>+</a:t>
            </a:r>
            <a:r>
              <a:rPr b="1" lang="en-US" sz="2500" spc="-1" strike="noStrike">
                <a:solidFill>
                  <a:srgbClr val="fffc23"/>
                </a:solidFill>
                <a:latin typeface="Symbol"/>
                <a:ea typeface="Symbol"/>
              </a:rPr>
              <a:t></a:t>
            </a:r>
            <a:r>
              <a:rPr b="1" lang="en-US" sz="2500" spc="-1" strike="noStrike" baseline="-25000">
                <a:solidFill>
                  <a:srgbClr val="fffc23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fffc23"/>
                </a:solidFill>
                <a:latin typeface="Arial"/>
              </a:rPr>
              <a:t>)/2       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enter of circle</a:t>
            </a: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572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c23"/>
                </a:solidFill>
                <a:latin typeface="Arial"/>
              </a:rPr>
              <a:t>differential stress: (</a:t>
            </a:r>
            <a:r>
              <a:rPr b="1" lang="en-US" sz="2500" spc="-1" strike="noStrike">
                <a:solidFill>
                  <a:srgbClr val="fffc23"/>
                </a:solidFill>
                <a:latin typeface="Symbol"/>
                <a:ea typeface="Symbol"/>
              </a:rPr>
              <a:t></a:t>
            </a:r>
            <a:r>
              <a:rPr b="1" lang="en-US" sz="2500" spc="-1" strike="noStrike" baseline="-25000">
                <a:solidFill>
                  <a:srgbClr val="fffc23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fffc23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fffc23"/>
                </a:solidFill>
                <a:latin typeface="Symbol"/>
                <a:ea typeface="Symbol"/>
              </a:rPr>
              <a:t></a:t>
            </a:r>
            <a:r>
              <a:rPr b="1" lang="en-US" sz="2500" spc="-1" strike="noStrike" baseline="-25000">
                <a:solidFill>
                  <a:srgbClr val="fffc23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fffc23"/>
                </a:solidFill>
                <a:latin typeface="Arial"/>
              </a:rPr>
              <a:t>)   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diameter of circle</a:t>
            </a: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01992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c23"/>
                </a:solidFill>
                <a:latin typeface="Arial"/>
              </a:rPr>
              <a:t>deviatoric stress: (</a:t>
            </a:r>
            <a:r>
              <a:rPr b="1" lang="en-US" sz="2500" spc="-1" strike="noStrike">
                <a:solidFill>
                  <a:srgbClr val="fffc23"/>
                </a:solidFill>
                <a:latin typeface="Symbol"/>
                <a:ea typeface="Symbol"/>
              </a:rPr>
              <a:t></a:t>
            </a:r>
            <a:r>
              <a:rPr b="1" lang="en-US" sz="2500" spc="-1" strike="noStrike" baseline="-25000">
                <a:solidFill>
                  <a:srgbClr val="fffc23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fffc23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fffc23"/>
                </a:solidFill>
                <a:latin typeface="Symbol"/>
                <a:ea typeface="Symbol"/>
              </a:rPr>
              <a:t></a:t>
            </a:r>
            <a:r>
              <a:rPr b="1" lang="en-US" sz="2500" spc="-1" strike="noStrike" baseline="-25000">
                <a:solidFill>
                  <a:srgbClr val="fffc23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fffc23"/>
                </a:solidFill>
                <a:latin typeface="Arial"/>
              </a:rPr>
              <a:t>)/2   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radius of circle</a:t>
            </a: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3429000" cy="4698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22860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c23"/>
                </a:solidFill>
                <a:latin typeface="Arial"/>
              </a:rPr>
              <a:t>Mohr circles are useful for visualizing states of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579132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c23"/>
                </a:solidFill>
                <a:latin typeface="Arial"/>
              </a:rPr>
              <a:t>hydrostatic: </a:t>
            </a:r>
            <a:r>
              <a:rPr b="0" lang="en-US" sz="2800" spc="-1" strike="noStrike">
                <a:solidFill>
                  <a:srgbClr val="fffc23"/>
                </a:solidFill>
                <a:latin typeface="Arial"/>
              </a:rPr>
              <a:t>equal stress magnitude in all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762120"/>
            <a:ext cx="8534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o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now is to explore the stress conditions under which rocks fail (e.g., fracture), and the orientation of failure with respect to the principal stress directions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Coulomb law of failur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Byerlee'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111560" cy="6124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erimental studies are fundamental in the study of rock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267080" y="2209680"/>
            <a:ext cx="45720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2292480" cy="5790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76720" y="1327320"/>
            <a:ext cx="5333760" cy="4608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>
            <a:off x="2133720" y="2819520"/>
            <a:ext cx="1828800" cy="27432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1905120"/>
            <a:ext cx="3276720" cy="2438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52280"/>
            <a:ext cx="7696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mon types of deformation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86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ressive strength tests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792468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07:00:39Z</dcterms:created>
  <dc:creator>Cesar</dc:creator>
  <dc:description/>
  <dc:language>en-US</dc:language>
  <cp:lastModifiedBy>Arriagada César</cp:lastModifiedBy>
  <dcterms:modified xsi:type="dcterms:W3CDTF">2006-03-23T14:30:57Z</dcterms:modified>
  <cp:revision>51</cp:revision>
  <dc:subject/>
  <dc:title>Slide 1</dc:title>
</cp:coreProperties>
</file>