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6.jpeg" ContentType="image/jpeg"/>
  <Override PartName="/ppt/media/image5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5.png" ContentType="image/png"/>
  <Override PartName="/ppt/media/image19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5F84-2674-43C9-B36D-ED76EC2E9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204F-2587-4E3A-87BD-89E3C25AF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5701-8050-454C-8F35-2DE8B67DC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67DC-C613-436B-84EE-7B93EBAB0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E9FF-2720-4A04-B173-83D551C97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4DC7-AD5E-4695-8173-9CFA263F1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C992-0583-48B2-BAAE-4D2F76A8B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4B27-B0B3-400D-A37D-576CE7AE2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A48D-BE55-4BC0-A319-726F7555C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DB0D-CCDF-47CF-A177-1D049BC5B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D2B0-71D1-476B-B7AD-3975F4B65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CD43-E2BA-4D4E-B967-843058354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0000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CA6FB-9C35-4A77-B68D-9AA03E8695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0000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http://www.geociencias.unam.mx/cursos_cegeo/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Arial"/>
              </a:rPr>
              <a:t>http://www.geo.arizona.edu/~pkapp/Lectures_304.ht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0000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22860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mpressive strength tests: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52280" y="1143000"/>
            <a:ext cx="4907160" cy="52578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410080" y="1676520"/>
            <a:ext cx="3311640" cy="41148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676520" y="1828800"/>
            <a:ext cx="838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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1523880"/>
            <a:ext cx="838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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43200" y="1219320"/>
            <a:ext cx="838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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47920" y="3352680"/>
            <a:ext cx="609480" cy="60984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447920" y="2819520"/>
            <a:ext cx="1523880" cy="16002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2209680"/>
            <a:ext cx="3047760" cy="29718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828800" y="3276720"/>
            <a:ext cx="685800" cy="685800"/>
          </a:xfrm>
          <a:prstGeom prst="ellipse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828800" y="2819520"/>
            <a:ext cx="1523880" cy="1600200"/>
          </a:xfrm>
          <a:prstGeom prst="ellipse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2133720"/>
            <a:ext cx="3048120" cy="2971800"/>
          </a:xfrm>
          <a:prstGeom prst="ellipse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828800" y="1905120"/>
            <a:ext cx="3581280" cy="3581280"/>
          </a:xfrm>
          <a:prstGeom prst="ellipse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6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0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0000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33520" y="380880"/>
            <a:ext cx="81532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mpressive strength tests: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result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near envelope of failure.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he fractures form at angles of 25 to 35 degrees from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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1- very consisten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819520" y="1523880"/>
            <a:ext cx="5257800" cy="51372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28600" y="1676520"/>
            <a:ext cx="7315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0000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57200" y="495288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 critical shear stress required for failur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 cohesive strength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n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 coefficient of internal friction (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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 normal 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80880"/>
            <a:ext cx="3733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ulomb's Law of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191120" y="152280"/>
            <a:ext cx="4800600" cy="4691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8600" y="3657600"/>
            <a:ext cx="3733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Arial"/>
              </a:rPr>
              <a:t>c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= </a:t>
            </a:r>
            <a:r>
              <a:rPr b="1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Arial"/>
              </a:rPr>
              <a:t>0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+ tan</a:t>
            </a:r>
            <a:r>
              <a:rPr b="1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0000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8600" y="228600"/>
            <a:ext cx="8915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ensile strength tests with no confining pressure</a:t>
            </a:r>
            <a:br>
              <a:rPr sz="28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roach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ilar to compressive strength tests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sults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1) Rocks are much weaker in tension than in compression  (2) Fracture oriented parallel to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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38080" y="1860480"/>
            <a:ext cx="5639040" cy="480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0000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33520" y="228600"/>
            <a:ext cx="83055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ensile + Compressive strength tests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ult: Failure envelope is parabolic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 &lt;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&lt; 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71440" y="2209680"/>
            <a:ext cx="2838600" cy="35053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733920" y="1752480"/>
            <a:ext cx="469872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0000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733920" y="1295280"/>
            <a:ext cx="5207040" cy="53341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80880" y="0"/>
            <a:ext cx="83059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ailure envelopes for different rocks: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e that slope of envelope is similar for most r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295280"/>
            <a:ext cx="3733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Arial"/>
              </a:rPr>
              <a:t>c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= </a:t>
            </a:r>
            <a:r>
              <a:rPr b="1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Arial"/>
              </a:rPr>
              <a:t>0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+ tan</a:t>
            </a:r>
            <a:r>
              <a:rPr b="1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2133720"/>
            <a:ext cx="34290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 critical shear stress required for failur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 cohesive strength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n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 coefficient of internal friction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 normal 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0000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85800" y="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yerlee's 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533520"/>
            <a:ext cx="9144000" cy="63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estion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much shear stress is needed to cause movement along a preexisting fracture surface, subjected to a certain normal stress?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swer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Similar to Coulomb law without cohesio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ictional sliding envelope: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tan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, where tan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the coefficient of sliding fri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4419720" cy="37386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48320" y="1905120"/>
            <a:ext cx="4495680" cy="36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0000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yerlee's 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La pendiente de la tangente del circulo de Mohr esta dada por el 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ángulo de fricción interna. Este ángulo de fricción ø y coeficiente de fricción µ estan relacionados por Tg ø= µ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343400" y="2166840"/>
            <a:ext cx="4800600" cy="46911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73120" y="2101680"/>
            <a:ext cx="377028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n la mayo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ía de las rocas este ángulo es 30-40º, que es equivalente a un coeficiente de fricción interna entre 0.6 y 0.85. Esta relación es llamada Ley de Byerlee, primero en medir µ a la escala cortical y derivó ø de 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0000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52280" y="304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eexisting fractures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of suitable orientation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may fail before a new fracture is 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1474920"/>
            <a:ext cx="4419720" cy="40273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800600" y="1494000"/>
            <a:ext cx="4343400" cy="40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0000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4762440" cy="32004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257800" y="533520"/>
            <a:ext cx="3419640" cy="60483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533520" y="3505320"/>
            <a:ext cx="4419360" cy="30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0000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4920" y="22860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c23"/>
                </a:solidFill>
                <a:latin typeface="Arial"/>
              </a:rPr>
              <a:t>Geometric approach: Mohr Stress Diagram </a:t>
            </a:r>
            <a:br>
              <a:rPr sz="2800"/>
            </a:br>
            <a:r>
              <a:rPr b="1" lang="en-US" sz="2800" spc="-1" strike="noStrike">
                <a:solidFill>
                  <a:srgbClr val="fffc23"/>
                </a:solidFill>
                <a:latin typeface="Arial"/>
              </a:rPr>
              <a:t>a plot of </a:t>
            </a:r>
            <a:r>
              <a:rPr b="1" lang="en-US" sz="2800" spc="-1" strike="noStrike">
                <a:solidFill>
                  <a:srgbClr val="fffc23"/>
                </a:solidFill>
                <a:latin typeface="Symbol"/>
                <a:ea typeface="Symbol"/>
              </a:rPr>
              <a:t></a:t>
            </a:r>
            <a:r>
              <a:rPr b="1" lang="en-US" sz="2800" spc="-1" strike="noStrike" baseline="-25000">
                <a:solidFill>
                  <a:srgbClr val="fffc23"/>
                </a:solidFill>
                <a:latin typeface="Arial"/>
              </a:rPr>
              <a:t>s</a:t>
            </a:r>
            <a:r>
              <a:rPr b="1" lang="en-US" sz="2800" spc="-1" strike="noStrike">
                <a:solidFill>
                  <a:srgbClr val="fffc23"/>
                </a:solidFill>
                <a:latin typeface="Arial"/>
              </a:rPr>
              <a:t> vs. </a:t>
            </a:r>
            <a:r>
              <a:rPr b="1" lang="en-US" sz="2800" spc="-1" strike="noStrike">
                <a:solidFill>
                  <a:srgbClr val="fffc23"/>
                </a:solidFill>
                <a:latin typeface="Symbol"/>
                <a:ea typeface="Symbol"/>
              </a:rPr>
              <a:t></a:t>
            </a:r>
            <a:r>
              <a:rPr b="1" lang="en-US" sz="2800" spc="-1" strike="noStrike" baseline="-25000">
                <a:solidFill>
                  <a:srgbClr val="fffc23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1295280"/>
            <a:ext cx="84582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step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ot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and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; draw Mohr cir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3520" y="2514600"/>
            <a:ext cx="792468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0000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7200" y="380880"/>
            <a:ext cx="8381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4648320"/>
            <a:ext cx="8686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c23"/>
                </a:solidFill>
                <a:latin typeface="Arial"/>
              </a:rPr>
              <a:t>effective stress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= confining pressure – fluid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40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c23"/>
                </a:solidFill>
                <a:latin typeface="Arial"/>
              </a:rPr>
              <a:t>fluid pressure: </a:t>
            </a:r>
            <a:r>
              <a:rPr b="0" lang="en-US" sz="2800" spc="-1" strike="noStrike">
                <a:solidFill>
                  <a:srgbClr val="fffc23"/>
                </a:solidFill>
                <a:latin typeface="Arial"/>
              </a:rPr>
              <a:t>serves to decrease confining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fc23"/>
                </a:solidFill>
                <a:latin typeface="Arial"/>
              </a:rPr>
              <a:t>Si la presi</a:t>
            </a:r>
            <a:r>
              <a:rPr b="0" lang="en-US" sz="2800" spc="-1" strike="noStrike">
                <a:solidFill>
                  <a:srgbClr val="fffc23"/>
                </a:solidFill>
                <a:latin typeface="Arial"/>
                <a:ea typeface="ＭＳ Ｐゴシック"/>
              </a:rPr>
              <a:t>ón de fluido juega un rol, entonces el criterio de Mohr-Coulomb se formula com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</a:t>
            </a:r>
            <a:r>
              <a:rPr b="0" lang="en-US" sz="35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µ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</a:t>
            </a:r>
            <a:r>
              <a:rPr b="0" lang="en-US" sz="35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-Pf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f=Presión de fluido en los poros. Esto puede ser aproximado como </a:t>
            </a:r>
            <a:r>
              <a:rPr b="0" lang="en-US" sz="37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</a:t>
            </a:r>
            <a:r>
              <a:rPr b="0" lang="en-US" sz="35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µ</a:t>
            </a:r>
            <a:r>
              <a:rPr b="0" lang="en-US" sz="35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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).    </a:t>
            </a: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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f/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 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azon entre presión de fluido y stress litostático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0000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09480" y="50292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ncreasing fluid pressure favors failure!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Also may lead to tensile failure deep in cru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ffective stress =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– fluid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30492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hat about fluid pressu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891540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0000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04920" y="22860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hat happens at higher confining pressur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548640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Von Mises failure envelop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Failure occurs at 45 degrees from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676520" y="762120"/>
            <a:ext cx="5257800" cy="45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0000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914400" y="304920"/>
            <a:ext cx="7696080" cy="63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ocks in the crust are generally in a state of compressive stress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sed on Coulomb's Law of Failure, at what angle would you expect faults to form with respect to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676520" y="1649520"/>
            <a:ext cx="594360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0000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eyes de Byerlee y Amont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Si hay fracturas pre-existentes en una roca, entonces no hay cohesi</a:t>
            </a:r>
            <a:r>
              <a:rPr b="0" lang="en-US" sz="26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ón o la cohesión es muy pequeña comparada a la cohesión de una roca fresca. El stress de cizalle necesario para deformar una roca fracturada esta dado entonces por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00"/>
                </a:solidFill>
                <a:latin typeface="Symbol"/>
                <a:ea typeface="Symbol"/>
              </a:rPr>
              <a:t></a:t>
            </a:r>
            <a:r>
              <a:rPr b="0" lang="en-US" sz="19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c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=</a:t>
            </a:r>
            <a:r>
              <a:rPr b="0" lang="en-US" sz="35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9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o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+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µ</a:t>
            </a:r>
            <a:r>
              <a:rPr b="0" lang="en-US" sz="35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3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n   (</a:t>
            </a:r>
            <a:r>
              <a:rPr b="0" lang="en-US" sz="35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19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o=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0) </a:t>
            </a:r>
            <a:r>
              <a:rPr b="0" lang="en-US" sz="3700" spc="-1" strike="noStrike">
                <a:solidFill>
                  <a:srgbClr val="ffff00"/>
                </a:solidFill>
                <a:latin typeface="Symbol"/>
                <a:ea typeface="Symbol"/>
              </a:rPr>
              <a:t></a:t>
            </a:r>
            <a:r>
              <a:rPr b="0" lang="en-US" sz="2600" spc="-1" strike="noStrike">
                <a:solidFill>
                  <a:srgbClr val="ffff00"/>
                </a:solidFill>
                <a:latin typeface="Symbol"/>
                <a:ea typeface="Symbol"/>
              </a:rPr>
              <a:t></a:t>
            </a:r>
            <a:r>
              <a:rPr b="0" lang="en-US" sz="3700" spc="-1" strike="noStrike">
                <a:solidFill>
                  <a:srgbClr val="ffff00"/>
                </a:solidFill>
                <a:latin typeface="Symbol"/>
                <a:ea typeface="Symbol"/>
              </a:rPr>
              <a:t></a:t>
            </a:r>
            <a:r>
              <a:rPr b="0" lang="en-US" sz="19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c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=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µ</a:t>
            </a:r>
            <a:r>
              <a:rPr b="0" lang="en-US" sz="35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3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n, Ley de Amonton]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0000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eyes de Byerl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Byerlee (1968, 1970) mostr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ó empiricamente que a presiones bajo 200MPa (menos de 8Km de profundidad) la corteza puede estar caracterizada por un coeficiente de fricción interna igual a:           </a:t>
            </a:r>
            <a:r>
              <a:rPr b="0" lang="en-US" sz="26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µ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 = 0.85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A profundidades mayores pero sobre la transición fragil-ductil en la corteza el stress de cizalle es mejor descrito por: </a:t>
            </a:r>
            <a:r>
              <a:rPr b="0" lang="en-US" sz="3300" spc="-1" strike="noStrike">
                <a:solidFill>
                  <a:srgbClr val="ffff00"/>
                </a:solidFill>
                <a:latin typeface="Symbol"/>
                <a:ea typeface="Symbol"/>
              </a:rPr>
              <a:t>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00"/>
                </a:solidFill>
                <a:latin typeface="Symbol"/>
                <a:ea typeface="Symbol"/>
              </a:rPr>
              <a:t></a:t>
            </a:r>
            <a:r>
              <a:rPr b="0" lang="en-US" sz="17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c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=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60MPa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+0.6</a:t>
            </a:r>
            <a:r>
              <a:rPr b="0" lang="en-US" sz="31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1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n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Debido</a:t>
            </a:r>
            <a:r>
              <a:rPr b="0" lang="en-US" sz="21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 </a:t>
            </a:r>
            <a:r>
              <a:rPr b="0" lang="en-US" sz="26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a que</a:t>
            </a:r>
            <a:r>
              <a:rPr b="0" lang="en-US" sz="21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 </a:t>
            </a:r>
            <a:r>
              <a:rPr b="0" lang="en-US" sz="26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µ≈0.85, la gran mayoría de las fallas ocurren a 30º del stress principal máxim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0000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Las leyes de Byerlee indican que rocas a 5 km de profundidad se fallaran en aproximadamente110MPa, en 10km en 230MPa y a 15km en ~300MP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Si consideramos la presión de fluidos la Ley de Byerlee se re-escribe como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0.85</a:t>
            </a:r>
            <a:r>
              <a:rPr b="0" lang="en-US" sz="35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</a:t>
            </a: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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).  Y   </a:t>
            </a:r>
            <a:r>
              <a:rPr b="0" lang="en-US" sz="37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60MPa+0.6</a:t>
            </a:r>
            <a:r>
              <a:rPr b="0" lang="en-US" sz="35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</a:t>
            </a: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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)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666880" y="5029200"/>
            <a:ext cx="6172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ritical shear stress required for failu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ohesive streng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oefficient of internal fri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normal st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038480" y="152280"/>
            <a:ext cx="4953240" cy="48405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7200" y="380880"/>
            <a:ext cx="3200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call Coulomb's Law of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0880" y="1447920"/>
            <a:ext cx="3200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compression, what is the observed angle between the fracture surface and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4800600"/>
            <a:ext cx="1828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~30 degre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0000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nderson's Theory of Faul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arth's surface is 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ee surfa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contact between rock and atmosphere) with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 shear stres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 As th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ncipal stress directions are directions of zero shear stres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they must be parallel (2 of them) and perpendicular (1 of them) to the Earth's surface. 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ombined with an angle of failure of 30 degrees from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1, this giv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0000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8534160" cy="59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0000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228600"/>
            <a:ext cx="84582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step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aw a line representing the plane at 2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measured from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822960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0000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53352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o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ía de Anderson: Las leyes de Byerlee describen la relación entre Stress de cizalle y stress normal (que se asocian a profundidades en la corteza) en general, pero ellas no explican la orientación espacial de los planos de falla relativos a los stresses principales. Anderson reformuló la Ley de Mohr-Coulomb en términos de stress diferencial (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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y stress litostático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z) en lugar de stress de cizalle y stress normal. El tomó 3 casos para representar Fallas inversas, normales y de rumbo y asumió: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=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3,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=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 y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=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2=0.5(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+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3)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spectivamente. La relación para cada caso puede ser derivada directamente del circulo de Mohr usando relaciones trigonométric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0000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990720" y="1371600"/>
            <a:ext cx="6553080" cy="53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versas:       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700" spc="-1" strike="noStrike">
                <a:solidFill>
                  <a:srgbClr val="ffffff"/>
                </a:solidFill>
                <a:latin typeface="Symbol"/>
                <a:ea typeface="Symbol"/>
              </a:rPr>
              <a:t>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</a:t>
            </a:r>
            <a:r>
              <a:rPr b="0" lang="en-US" sz="1700" spc="-1" strike="noStrike">
                <a:solidFill>
                  <a:srgbClr val="ffffff"/>
                </a:solidFill>
                <a:latin typeface="Symbol"/>
                <a:ea typeface="Symbol"/>
              </a:rPr>
              <a:t>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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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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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</a:t>
            </a:r>
            <a:r>
              <a:rPr b="0" lang="en-US" sz="15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L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(1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-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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</a:t>
            </a:r>
            <a:r>
              <a:rPr b="0" lang="en-US" sz="27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9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</a:t>
            </a:r>
            <a:r>
              <a:rPr b="0" lang="en-US" sz="1900" spc="-1" strike="noStrike">
                <a:solidFill>
                  <a:srgbClr val="ffffff"/>
                </a:solidFill>
                <a:latin typeface="Symbol"/>
                <a:ea typeface="Symbol"/>
              </a:rPr>
              <a:t></a:t>
            </a:r>
            <a:r>
              <a:rPr b="0" lang="en-US" sz="2900" spc="-1" strike="noStrike">
                <a:solidFill>
                  <a:srgbClr val="ffffff"/>
                </a:solidFill>
                <a:latin typeface="Symbol"/>
                <a:ea typeface="Symbol"/>
              </a:rPr>
              <a:t></a:t>
            </a:r>
            <a:r>
              <a:rPr b="0" lang="en-US" sz="19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ormales:    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700" spc="-1" strike="noStrike">
                <a:solidFill>
                  <a:srgbClr val="ffffff"/>
                </a:solidFill>
                <a:latin typeface="Symbol"/>
                <a:ea typeface="Symbol"/>
              </a:rPr>
              <a:t>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</a:t>
            </a:r>
            <a:r>
              <a:rPr b="0" lang="en-US" sz="1700" spc="-1" strike="noStrike">
                <a:solidFill>
                  <a:srgbClr val="ffffff"/>
                </a:solidFill>
                <a:latin typeface="Symbol"/>
                <a:ea typeface="Symbol"/>
              </a:rPr>
              <a:t>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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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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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</a:t>
            </a:r>
            <a:r>
              <a:rPr b="0" lang="en-US" sz="15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L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(1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-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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</a:t>
            </a:r>
            <a:r>
              <a:rPr b="0" lang="en-US" sz="27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9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</a:t>
            </a:r>
            <a:r>
              <a:rPr b="0" lang="en-US" sz="1900" spc="-1" strike="noStrike">
                <a:solidFill>
                  <a:srgbClr val="ffffff"/>
                </a:solidFill>
                <a:latin typeface="Symbol"/>
                <a:ea typeface="Symbol"/>
              </a:rPr>
              <a:t></a:t>
            </a:r>
            <a:r>
              <a:rPr b="0" lang="en-US" sz="2900" spc="-1" strike="noStrike">
                <a:solidFill>
                  <a:srgbClr val="ffffff"/>
                </a:solidFill>
                <a:latin typeface="Symbol"/>
                <a:ea typeface="Symbol"/>
              </a:rPr>
              <a:t></a:t>
            </a:r>
            <a:r>
              <a:rPr b="0" lang="en-US" sz="1900" spc="-1" strike="noStrike">
                <a:solidFill>
                  <a:srgbClr val="ffffff"/>
                </a:solidFill>
                <a:latin typeface="Symbol"/>
                <a:ea typeface="Symbol"/>
              </a:rPr>
              <a:t>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ヒラギノ角ゴ Pro W3"/>
                <a:ea typeface="ＭＳ Ｐゴシック"/>
              </a:rPr>
              <a:t>_x0012_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umbo</a:t>
            </a:r>
            <a:r>
              <a:rPr b="0" lang="en-US" sz="2800" spc="-1" strike="noStrike">
                <a:solidFill>
                  <a:srgbClr val="ffffff"/>
                </a:solidFill>
                <a:latin typeface="ヒラギノ角ゴ Pro W3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       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700" spc="-1" strike="noStrike">
                <a:solidFill>
                  <a:srgbClr val="ffffff"/>
                </a:solidFill>
                <a:latin typeface="Symbol"/>
                <a:ea typeface="Symbol"/>
              </a:rPr>
              <a:t>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</a:t>
            </a:r>
            <a:r>
              <a:rPr b="0" lang="en-US" sz="1700" spc="-1" strike="noStrike">
                <a:solidFill>
                  <a:srgbClr val="ffffff"/>
                </a:solidFill>
                <a:latin typeface="Symbol"/>
                <a:ea typeface="Symbol"/>
              </a:rPr>
              <a:t>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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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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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</a:t>
            </a:r>
            <a:r>
              <a:rPr b="0" lang="en-US" sz="15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L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(1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-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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</a:t>
            </a:r>
            <a:r>
              <a:rPr b="0" lang="en-US" sz="27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9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</a:t>
            </a:r>
            <a:r>
              <a:rPr b="0" lang="en-US" sz="1900" spc="-1" strike="noStrike">
                <a:solidFill>
                  <a:srgbClr val="ffffff"/>
                </a:solidFill>
                <a:latin typeface="Symbol"/>
                <a:ea typeface="Symbol"/>
              </a:rPr>
              <a:t></a:t>
            </a:r>
            <a:r>
              <a:rPr b="0" lang="en-US" sz="2900" spc="-1" strike="noStrike">
                <a:solidFill>
                  <a:srgbClr val="ffffff"/>
                </a:solidFill>
                <a:latin typeface="Symbol"/>
                <a:ea typeface="Symbol"/>
              </a:rPr>
              <a:t>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0000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589200" y="228600"/>
            <a:ext cx="5235840" cy="62485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28600" y="2590920"/>
            <a:ext cx="3124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njugate normal fa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0000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447920" y="304920"/>
            <a:ext cx="5638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njugate thrust fa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33520" y="1217520"/>
            <a:ext cx="7619760" cy="50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0000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060640" y="0"/>
            <a:ext cx="500040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0000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0"/>
            <a:ext cx="8458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s angle of plane from the greatest compressive stress direction (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8229600" cy="3573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57200" y="5257800"/>
            <a:ext cx="7696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c23"/>
                </a:solidFill>
                <a:latin typeface="Arial"/>
              </a:rPr>
              <a:t>mean stress: (</a:t>
            </a:r>
            <a:r>
              <a:rPr b="1" lang="en-US" sz="2500" spc="-1" strike="noStrike">
                <a:solidFill>
                  <a:srgbClr val="fffc23"/>
                </a:solidFill>
                <a:latin typeface="Symbol"/>
                <a:ea typeface="Symbol"/>
              </a:rPr>
              <a:t></a:t>
            </a:r>
            <a:r>
              <a:rPr b="1" lang="en-US" sz="2500" spc="-1" strike="noStrike" baseline="-25000">
                <a:solidFill>
                  <a:srgbClr val="fffc23"/>
                </a:solidFill>
                <a:latin typeface="Arial"/>
              </a:rPr>
              <a:t>1</a:t>
            </a:r>
            <a:r>
              <a:rPr b="1" lang="en-US" sz="2500" spc="-1" strike="noStrike">
                <a:solidFill>
                  <a:srgbClr val="fffc23"/>
                </a:solidFill>
                <a:latin typeface="Arial"/>
              </a:rPr>
              <a:t>+</a:t>
            </a:r>
            <a:r>
              <a:rPr b="1" lang="en-US" sz="2500" spc="-1" strike="noStrike">
                <a:solidFill>
                  <a:srgbClr val="fffc23"/>
                </a:solidFill>
                <a:latin typeface="Symbol"/>
                <a:ea typeface="Symbol"/>
              </a:rPr>
              <a:t></a:t>
            </a:r>
            <a:r>
              <a:rPr b="1" lang="en-US" sz="2500" spc="-1" strike="noStrike" baseline="-25000">
                <a:solidFill>
                  <a:srgbClr val="fffc23"/>
                </a:solidFill>
                <a:latin typeface="Arial"/>
              </a:rPr>
              <a:t>3</a:t>
            </a:r>
            <a:r>
              <a:rPr b="1" lang="en-US" sz="2500" spc="-1" strike="noStrike">
                <a:solidFill>
                  <a:srgbClr val="fffc23"/>
                </a:solidFill>
                <a:latin typeface="Arial"/>
              </a:rPr>
              <a:t>)/2        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center of circle</a:t>
            </a:r>
            <a:br>
              <a:rPr sz="2500"/>
            </a:b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45720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c23"/>
                </a:solidFill>
                <a:latin typeface="Arial"/>
              </a:rPr>
              <a:t>differential stress: (</a:t>
            </a:r>
            <a:r>
              <a:rPr b="1" lang="en-US" sz="2500" spc="-1" strike="noStrike">
                <a:solidFill>
                  <a:srgbClr val="fffc23"/>
                </a:solidFill>
                <a:latin typeface="Symbol"/>
                <a:ea typeface="Symbol"/>
              </a:rPr>
              <a:t></a:t>
            </a:r>
            <a:r>
              <a:rPr b="1" lang="en-US" sz="2500" spc="-1" strike="noStrike" baseline="-25000">
                <a:solidFill>
                  <a:srgbClr val="fffc23"/>
                </a:solidFill>
                <a:latin typeface="Arial"/>
              </a:rPr>
              <a:t>1</a:t>
            </a:r>
            <a:r>
              <a:rPr b="1" lang="en-US" sz="2500" spc="-1" strike="noStrike">
                <a:solidFill>
                  <a:srgbClr val="fffc23"/>
                </a:solidFill>
                <a:latin typeface="Arial"/>
              </a:rPr>
              <a:t>-</a:t>
            </a:r>
            <a:r>
              <a:rPr b="1" lang="en-US" sz="2500" spc="-1" strike="noStrike">
                <a:solidFill>
                  <a:srgbClr val="fffc23"/>
                </a:solidFill>
                <a:latin typeface="Symbol"/>
                <a:ea typeface="Symbol"/>
              </a:rPr>
              <a:t></a:t>
            </a:r>
            <a:r>
              <a:rPr b="1" lang="en-US" sz="2500" spc="-1" strike="noStrike" baseline="-25000">
                <a:solidFill>
                  <a:srgbClr val="fffc23"/>
                </a:solidFill>
                <a:latin typeface="Arial"/>
              </a:rPr>
              <a:t>3</a:t>
            </a:r>
            <a:r>
              <a:rPr b="1" lang="en-US" sz="2500" spc="-1" strike="noStrike">
                <a:solidFill>
                  <a:srgbClr val="fffc23"/>
                </a:solidFill>
                <a:latin typeface="Arial"/>
              </a:rPr>
              <a:t>)    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diameter of circle</a:t>
            </a:r>
            <a:br>
              <a:rPr sz="2500"/>
            </a:b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019920"/>
            <a:ext cx="7696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c23"/>
                </a:solidFill>
                <a:latin typeface="Arial"/>
              </a:rPr>
              <a:t>deviatoric stress: (</a:t>
            </a:r>
            <a:r>
              <a:rPr b="1" lang="en-US" sz="2500" spc="-1" strike="noStrike">
                <a:solidFill>
                  <a:srgbClr val="fffc23"/>
                </a:solidFill>
                <a:latin typeface="Symbol"/>
                <a:ea typeface="Symbol"/>
              </a:rPr>
              <a:t></a:t>
            </a:r>
            <a:r>
              <a:rPr b="1" lang="en-US" sz="2500" spc="-1" strike="noStrike" baseline="-25000">
                <a:solidFill>
                  <a:srgbClr val="fffc23"/>
                </a:solidFill>
                <a:latin typeface="Arial"/>
              </a:rPr>
              <a:t>1</a:t>
            </a:r>
            <a:r>
              <a:rPr b="1" lang="en-US" sz="2500" spc="-1" strike="noStrike">
                <a:solidFill>
                  <a:srgbClr val="fffc23"/>
                </a:solidFill>
                <a:latin typeface="Arial"/>
              </a:rPr>
              <a:t>-</a:t>
            </a:r>
            <a:r>
              <a:rPr b="1" lang="en-US" sz="2500" spc="-1" strike="noStrike">
                <a:solidFill>
                  <a:srgbClr val="fffc23"/>
                </a:solidFill>
                <a:latin typeface="Symbol"/>
                <a:ea typeface="Symbol"/>
              </a:rPr>
              <a:t></a:t>
            </a:r>
            <a:r>
              <a:rPr b="1" lang="en-US" sz="2500" spc="-1" strike="noStrike" baseline="-25000">
                <a:solidFill>
                  <a:srgbClr val="fffc23"/>
                </a:solidFill>
                <a:latin typeface="Arial"/>
              </a:rPr>
              <a:t>3</a:t>
            </a:r>
            <a:r>
              <a:rPr b="1" lang="en-US" sz="2500" spc="-1" strike="noStrike">
                <a:solidFill>
                  <a:srgbClr val="fffc23"/>
                </a:solidFill>
                <a:latin typeface="Arial"/>
              </a:rPr>
              <a:t>)/2    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radius of circle</a:t>
            </a:r>
            <a:br>
              <a:rPr sz="2500"/>
            </a:b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0000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666880" y="990720"/>
            <a:ext cx="3429000" cy="46987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80880" y="228600"/>
            <a:ext cx="8763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c23"/>
                </a:solidFill>
                <a:latin typeface="Arial"/>
              </a:rPr>
              <a:t>Mohr circles are useful for visualizing states of 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5791320"/>
            <a:ext cx="8839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c23"/>
                </a:solidFill>
                <a:latin typeface="Arial"/>
              </a:rPr>
              <a:t>hydrostatic: </a:t>
            </a:r>
            <a:r>
              <a:rPr b="0" lang="en-US" sz="2800" spc="-1" strike="noStrike">
                <a:solidFill>
                  <a:srgbClr val="fffc23"/>
                </a:solidFill>
                <a:latin typeface="Arial"/>
              </a:rPr>
              <a:t>equal stress magnitude in all dir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0000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80880" y="762120"/>
            <a:ext cx="85345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o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now is to explore the stress conditions under which rocks fail (e.g., fracture), and the orientation of failure with respect to the principal stress directions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. Coulomb law of failure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. Byerlee's 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0000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4111560" cy="61246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85800" y="0"/>
            <a:ext cx="7696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perimental studies are fundamental in the study of rock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267080" y="2209680"/>
            <a:ext cx="457200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0000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2292480" cy="57909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276720" y="1327320"/>
            <a:ext cx="5333760" cy="46083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 flipH="1">
            <a:off x="2133720" y="2819520"/>
            <a:ext cx="1828800" cy="27432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1905120"/>
            <a:ext cx="3276720" cy="24382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152280"/>
            <a:ext cx="7696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mmon types of deformation experi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0000cc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22860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mpressive strength tests: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Go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7924680" cy="57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2T07:00:39Z</dcterms:created>
  <dc:creator>Cesar</dc:creator>
  <dc:description/>
  <dc:language>en-US</dc:language>
  <cp:lastModifiedBy>Arriagada César</cp:lastModifiedBy>
  <dcterms:modified xsi:type="dcterms:W3CDTF">2006-03-23T14:30:57Z</dcterms:modified>
  <cp:revision>51</cp:revision>
  <dc:subject/>
  <dc:title>Slide 1</dc:title>
</cp:coreProperties>
</file>