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2D20-B6C9-4F7D-9F0A-646BAA884E8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416-6BD8-432D-ABF7-86DF68F4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162-3311-4ACC-9F98-58F46688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B9A-4E12-4424-ADAA-A87C7269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9AD-3414-4155-A02A-AC392934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11AA-9D1D-48BE-9BD0-193FC56F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B711-CE47-4E42-975A-95A0D0F7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162-8AB4-48B9-A7C0-91424896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4D60-A577-4A23-B814-6690406C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894A-8526-4011-B216-0C149A10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DCD7-4A22-4662-882E-21F68CC7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9F7C-3B8C-4443-A465-4B3511B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496-EEBB-4E5B-A176-9FC1E447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9813-362F-428C-9A1E-BD7D6D66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B1D7-66B3-4269-956A-77A0D90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DBA5-7522-4B89-B959-817560D1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6E28-9F90-4384-8C82-33A8586E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1FF7-D648-4E44-A671-E45906CD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F50-2288-4941-8243-8D062AA0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EBF-CF2F-461E-B823-A81B74E4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289-1E51-4A41-B5EE-0888EBE6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4B3-E3BB-4101-96D1-4E6E5B7F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AA0-FEE4-47D9-AAEC-B506B8C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153-FCFF-41D0-8128-98DB30D7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FDB-68FE-4D87-8AFF-1BC0F4BE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B91-1DBB-4D24-B6B0-0B3B0CAFF4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C87A-869B-4B4D-BA08-EB479D48CC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a: Resumen de algunos elementos traza particularmente útiles en petrología Í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4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incompatibles que substituyen K en Feld-K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480" y="3317760"/>
            <a:ext cx="59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menos fácilmente en Hb que en Feld-K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440" y="3852720"/>
            <a:ext cx="63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Feld-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1-02T01:54:14Z</dcterms:modified>
  <cp:revision>2</cp:revision>
  <dc:subject/>
  <dc:title>Diapositiva 1</dc:title>
</cp:coreProperties>
</file>