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04F-7230-44B9-9DC4-CF2E76A3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746-FD6F-451C-A221-D0991D72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E17-18D9-40BF-9EB5-71EDB4E9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3BC-C6F9-4831-978A-1CAEA737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6A1FF-0663-4F51-9408-70B51813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6429-6D25-48CA-BFC7-9EB9511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F85DA-571A-40EE-A52B-DAB54DC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0863-3BAB-4BCB-963E-A6CF8E25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C8FE-012F-4648-96E5-83C85D77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517BD-EDAE-49F4-A5BE-DA13CB25F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6233-392E-479A-83B7-813A98D1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161-42E0-4251-80FE-6432EAB5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034DD-9D4F-4C1C-8421-07301E4B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59DC-27EA-4A8C-9189-E2F5BB9B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C9B0-CF8D-44B9-B36B-3EA755C5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C165-6C8C-4576-A720-FA0AD728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86B0-98CF-43A7-A9FE-3F7D344DE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126D-D740-40AB-887B-CBCBD764F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AEF-6A55-4713-9F24-644F103C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AA3-DDE6-4182-8018-5557E07C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CD93-0BB9-4E61-A564-3D59567A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A40F-867F-4A73-BAB9-C3E3BA7D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E8E-DB45-40C7-8BC8-5778A177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210-3956-425E-8952-2C99981A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1E81-095E-4D8B-A964-5C04A9FCAA2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7880-3B49-4D07-A08F-5173BC9A61E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ccecff"/>
                </a:solidFill>
                <a:latin typeface="Arial"/>
              </a:rPr>
              <a:t>Isótopos Radiogénicos en Petrogén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r Luis López V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L45C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DM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95640" y="3357720"/>
            <a:ext cx="79200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35640" y="4508640"/>
            <a:ext cx="649080" cy="576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50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REMA </a:t>
            </a:r>
            <a:r>
              <a:rPr b="0" lang="es-C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 Prevalent Man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presentativo de mezclas de fuentes mantélic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PREM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5300640"/>
            <a:ext cx="792000" cy="576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HIMU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“high - µ”</a:t>
            </a: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nriquecido en µ (= 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38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U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transporte de Pb en el núcle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reciclaje de corteza oceánica vieja por subducción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U-enriquecimiento por metasomatismo en parte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H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0000" y="5372280"/>
            <a:ext cx="504720" cy="43308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724360" y="1989000"/>
            <a:ext cx="50508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23280" y="234792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28000" y="2852640"/>
            <a:ext cx="504720" cy="4334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1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pelágicos (&lt;5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278136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484360" y="386244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84720" y="4653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21440" y="2060640"/>
            <a:ext cx="50292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537372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</a:t>
            </a:r>
            <a:r>
              <a:rPr b="0" lang="es-CL" sz="4000" spc="-1" strike="noStrike">
                <a:solidFill>
                  <a:srgbClr val="ccecff"/>
                </a:solidFill>
                <a:latin typeface="Arial"/>
              </a:rPr>
              <a:t>Radiogénicos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EMII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Enriched Mantle 2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HIMU con sedimentos terrígenos (&lt;10%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6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/</a:t>
            </a:r>
            <a:r>
              <a:rPr b="0" lang="es-CL" sz="2800" spc="-1" strike="noStrike" baseline="30000">
                <a:solidFill>
                  <a:srgbClr val="ffffff"/>
                </a:solidFill>
                <a:latin typeface="Verdana"/>
              </a:rPr>
              <a:t>204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213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92360" y="37159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484360" y="4220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EM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292428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021440" y="2421000"/>
            <a:ext cx="503280" cy="36036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104760"/>
            <a:ext cx="838188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Sm/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Rb/S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No radiogénico en 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Empobrecido en elementos incompatibles (por fusión parcial y extracción del líquido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227772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627280" y="2781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484360" y="328464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MOR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N-MORB: la razó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K/Ba es alta (usualmente &gt; 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Superior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E-MORB: la razón K/Ba es ~ 30’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rigen: Manto Superior/Medio, posiblemente plumas alimentadoras de las dorsales proveniente de manto profundo, pero que se acumulan en las medianías del Mant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s Magmáticas: MOR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06800" y="1916280"/>
            <a:ext cx="1249200" cy="40338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OIB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Verdana"/>
                <a:ea typeface="Arial"/>
              </a:rPr>
              <a:t>ε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Sm/Nd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Rb/Sr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6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baseline="30000">
                <a:solidFill>
                  <a:srgbClr val="ffffff"/>
                </a:solidFill>
                <a:latin typeface="Verdana"/>
                <a:ea typeface="Arial"/>
              </a:rPr>
              <a:t>207</a:t>
            </a:r>
            <a:r>
              <a:rPr b="0" lang="es-MX" sz="2800" spc="-1" strike="noStrike">
                <a:solidFill>
                  <a:srgbClr val="ffffff"/>
                </a:solidFill>
                <a:latin typeface="Verdana"/>
                <a:ea typeface="Arial"/>
              </a:rPr>
              <a:t>P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978200" y="2276640"/>
            <a:ext cx="217440" cy="2887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11280" y="335772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340000" y="3860280"/>
            <a:ext cx="216000" cy="2876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40000" y="4294080"/>
            <a:ext cx="216000" cy="287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625840" y="2779200"/>
            <a:ext cx="217440" cy="2890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Los elementos traza LILE (K, Rb, Cs, Ba, Pb</a:t>
            </a:r>
            <a:r>
              <a:rPr b="0" lang="es-CL" sz="3200" spc="-1" strike="noStrike" baseline="30000">
                <a:solidFill>
                  <a:srgbClr val="ffffff"/>
                </a:solidFill>
                <a:latin typeface="Verdana"/>
              </a:rPr>
              <a:t>2+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and Sr) son incompatibles y están enriquecidos en los magmas OIB con respecto a MORB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T, la razón K/Ba está entre 25-40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Para OIA, la razón K/Ba está sobre los 20’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La/Yb (pendiente de las REE) correlaciona con el grado de subsaturación de sílice en OIB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Magmas altamente subsaturados: La/Yb &gt; 3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A: ~ 1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OIT: ~ 4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  <a:ea typeface="Arial"/>
              </a:rPr>
              <a:t>Origen: Manifestaciones superficiales de plumas mantélicas. Manto profundo empobrecido reenriquecido de elementos incompatib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51000" y="1266840"/>
            <a:ext cx="8572320" cy="4754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047000" y="2541600"/>
            <a:ext cx="7920" cy="47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81080"/>
            <a:ext cx="777240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uente Magmática: O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6920" y="4005360"/>
            <a:ext cx="1368720" cy="187164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716360" y="3141720"/>
            <a:ext cx="863640" cy="2232000"/>
          </a:xfrm>
          <a:prstGeom prst="rect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uentes Magmáticas: </a:t>
            </a: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Isótopos Radiogénicos y Comportamiento Geoquímico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DMM </a:t>
            </a:r>
            <a:r>
              <a:rPr b="0" lang="es-C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 Depleted MORB Mant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Polo más empobrecido de los MORB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Origen: Extracción del Manto sublitosférico hace 1-2 G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22:54:39Z</dcterms:created>
  <dc:creator>Luis López V.</dc:creator>
  <dc:description/>
  <dc:language>en-US</dc:language>
  <cp:lastModifiedBy>Luis López V.</cp:lastModifiedBy>
  <dcterms:modified xsi:type="dcterms:W3CDTF">2006-11-02T01:26:42Z</dcterms:modified>
  <cp:revision>4</cp:revision>
  <dc:subject/>
  <dc:title>Isótopos Radiogénicos en Petrogénesis</dc:title>
</cp:coreProperties>
</file>