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7A80-0DA7-4910-B9C8-FF355B922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108E-7741-4C7D-9828-3E9694E25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4734-CC89-4008-B3F8-58CC5DCD0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FE90-3942-4C7F-8D3A-EB2C98A7E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ADE91-7674-4876-9305-4900258F3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36273-3478-48CE-8BEA-2A177E2B5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8FA6D-39CC-4F9D-AD55-04CC41E67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7EAAA-F86F-46D6-ABA1-90934CA3D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D73C1-C273-4947-844A-A18BB865F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3FD68-8116-4EDD-87DB-91CCAA77D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6EFCD-C467-401E-A2CC-E8E1C12E5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2587-E28C-4410-A6CF-2DA584B91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2B694-28B2-4EAD-B568-BBD3C8761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57DB4-B7A3-4BDD-BC92-9090573DC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3F4F2-6844-4E85-B282-ECE85F8EC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FB91A-FA8E-4EE5-B305-64D093C7B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38CD0-EDE6-4B4D-AA29-5FEA66671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6061-5B35-4C04-AA5B-B0736831B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7194-DEC8-4791-A0E4-930BD1281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796D-BAA0-4A74-B26B-E220B7E0F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FD71-590B-43C7-A691-2803C1689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BFA7-6E4F-40A0-8093-0737B476D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BC31-3787-419C-ACD9-09169C969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031E-4E6A-4E75-BB56-D77667D0E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513A1-7C8D-4CA3-9BE8-9129A52368C4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BF729-5878-49AB-A557-F14EBD9182F4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400" spc="-1" strike="noStrike">
                <a:solidFill>
                  <a:srgbClr val="ccecff"/>
                </a:solidFill>
                <a:latin typeface="Arial"/>
              </a:rPr>
              <a:t>Isótopos Radiogénicos en Petrogénesi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or Luis López V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L45C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351000" y="1266840"/>
            <a:ext cx="8572320" cy="475452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7047000" y="2541600"/>
            <a:ext cx="7920" cy="47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85800" y="181080"/>
            <a:ext cx="777240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uente Magmática: DM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95640" y="3357720"/>
            <a:ext cx="792000" cy="576000"/>
          </a:xfrm>
          <a:prstGeom prst="rect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435640" y="4508640"/>
            <a:ext cx="649080" cy="576000"/>
          </a:xfrm>
          <a:prstGeom prst="rect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Fuentes Magmáticas: </a:t>
            </a:r>
            <a:r>
              <a:rPr b="0" lang="es-MX" sz="4000" spc="-1" strike="noStrike">
                <a:solidFill>
                  <a:srgbClr val="ccecff"/>
                </a:solidFill>
                <a:latin typeface="Arial"/>
              </a:rPr>
              <a:t>Isótopos </a:t>
            </a:r>
            <a:r>
              <a:rPr b="0" lang="es-CL" sz="4000" spc="-1" strike="noStrike">
                <a:solidFill>
                  <a:srgbClr val="ccecff"/>
                </a:solidFill>
                <a:latin typeface="Arial"/>
              </a:rPr>
              <a:t>Radiogénicos</a:t>
            </a:r>
            <a:r>
              <a:rPr b="0" lang="es-MX" sz="4000" spc="-1" strike="noStrike">
                <a:solidFill>
                  <a:srgbClr val="ccecff"/>
                </a:solidFill>
                <a:latin typeface="Arial"/>
              </a:rPr>
              <a:t> y Comportamiento Geoquímico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507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Verdana"/>
              </a:rPr>
              <a:t>PREMA </a:t>
            </a:r>
            <a:r>
              <a:rPr b="0" lang="es-CL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es-CL" sz="2800" spc="-1" strike="noStrike">
                <a:solidFill>
                  <a:srgbClr val="ffffff"/>
                </a:solidFill>
                <a:latin typeface="Verdana"/>
              </a:rPr>
              <a:t> Prevalent Mantl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Representativo de mezclas de fuentes mantélica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351000" y="1266840"/>
            <a:ext cx="8572320" cy="47545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7047000" y="2541600"/>
            <a:ext cx="7920" cy="47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85800" y="181080"/>
            <a:ext cx="777240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uente Magmática: PREM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156360" y="5300640"/>
            <a:ext cx="792000" cy="576360"/>
          </a:xfrm>
          <a:prstGeom prst="rect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Fuentes Magmáticas: </a:t>
            </a:r>
            <a:r>
              <a:rPr b="0" lang="es-MX" sz="4000" spc="-1" strike="noStrike">
                <a:solidFill>
                  <a:srgbClr val="ccecff"/>
                </a:solidFill>
                <a:latin typeface="Arial"/>
              </a:rPr>
              <a:t>Isótopos </a:t>
            </a:r>
            <a:r>
              <a:rPr b="0" lang="es-CL" sz="4000" spc="-1" strike="noStrike">
                <a:solidFill>
                  <a:srgbClr val="ccecff"/>
                </a:solidFill>
                <a:latin typeface="Arial"/>
              </a:rPr>
              <a:t>Radiogénicos</a:t>
            </a:r>
            <a:r>
              <a:rPr b="0" lang="es-MX" sz="4000" spc="-1" strike="noStrike">
                <a:solidFill>
                  <a:srgbClr val="ccecff"/>
                </a:solidFill>
                <a:latin typeface="Arial"/>
              </a:rPr>
              <a:t> y Comportamiento Geoquímico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Verdana"/>
              </a:rPr>
              <a:t>HIMU </a:t>
            </a:r>
            <a:r>
              <a:rPr b="0" lang="es-CL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es-CL" sz="3200" spc="-1" strike="noStrike">
                <a:solidFill>
                  <a:srgbClr val="ffffff"/>
                </a:solidFill>
                <a:latin typeface="Verdana"/>
              </a:rPr>
              <a:t> “high - µ”</a:t>
            </a:r>
            <a:r>
              <a:rPr b="1" lang="es-CL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Verdana"/>
              </a:rPr>
              <a:t>Enriquecido en µ (= </a:t>
            </a:r>
            <a:r>
              <a:rPr b="0" lang="es-CL" sz="2800" spc="-1" strike="noStrike" baseline="30000">
                <a:solidFill>
                  <a:srgbClr val="ffffff"/>
                </a:solidFill>
                <a:latin typeface="Verdana"/>
              </a:rPr>
              <a:t>238</a:t>
            </a:r>
            <a:r>
              <a:rPr b="0" lang="es-CL" sz="2800" spc="-1" strike="noStrike">
                <a:solidFill>
                  <a:srgbClr val="ffffff"/>
                </a:solidFill>
                <a:latin typeface="Verdana"/>
              </a:rPr>
              <a:t>U/</a:t>
            </a:r>
            <a:r>
              <a:rPr b="0" lang="es-CL" sz="2800" spc="-1" strike="noStrike" baseline="30000">
                <a:solidFill>
                  <a:srgbClr val="ffffff"/>
                </a:solidFill>
                <a:latin typeface="Verdana"/>
              </a:rPr>
              <a:t>204</a:t>
            </a:r>
            <a:r>
              <a:rPr b="0" lang="es-CL" sz="2800" spc="-1" strike="noStrike">
                <a:solidFill>
                  <a:srgbClr val="ffffff"/>
                </a:solidFill>
                <a:latin typeface="Verdana"/>
              </a:rPr>
              <a:t>Pb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Verdana"/>
              </a:rPr>
              <a:t>Rb/S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Verdana"/>
              </a:rPr>
              <a:t>Orige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transporte de Pb en el núcleo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reciclaje de corteza oceánica vieja por subducción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U-enriquecimiento por metasomatismo en partes del manto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2484360" y="2781360"/>
            <a:ext cx="0" cy="360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351000" y="1266840"/>
            <a:ext cx="8572320" cy="475452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7047000" y="2541600"/>
            <a:ext cx="7920" cy="47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85800" y="181080"/>
            <a:ext cx="777240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uente Magmática: HIM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580000" y="5372280"/>
            <a:ext cx="504720" cy="433080"/>
          </a:xfrm>
          <a:prstGeom prst="rect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724360" y="1989000"/>
            <a:ext cx="505080" cy="433440"/>
          </a:xfrm>
          <a:prstGeom prst="rect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523280" y="2347920"/>
            <a:ext cx="504720" cy="433440"/>
          </a:xfrm>
          <a:prstGeom prst="rect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028000" y="2852640"/>
            <a:ext cx="504720" cy="433440"/>
          </a:xfrm>
          <a:prstGeom prst="rect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Fuentes Magmáticas: </a:t>
            </a:r>
            <a:r>
              <a:rPr b="0" lang="es-MX" sz="4000" spc="-1" strike="noStrike">
                <a:solidFill>
                  <a:srgbClr val="ccecff"/>
                </a:solidFill>
                <a:latin typeface="Arial"/>
              </a:rPr>
              <a:t>Isótopos </a:t>
            </a:r>
            <a:r>
              <a:rPr b="0" lang="es-CL" sz="4000" spc="-1" strike="noStrike">
                <a:solidFill>
                  <a:srgbClr val="ccecff"/>
                </a:solidFill>
                <a:latin typeface="Arial"/>
              </a:rPr>
              <a:t>Radiogénicos</a:t>
            </a:r>
            <a:r>
              <a:rPr b="0" lang="es-MX" sz="4000" spc="-1" strike="noStrike">
                <a:solidFill>
                  <a:srgbClr val="ccecff"/>
                </a:solidFill>
                <a:latin typeface="Arial"/>
              </a:rPr>
              <a:t> y Comportamiento Geoquímico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Verdana"/>
              </a:rPr>
              <a:t>EMI </a:t>
            </a:r>
            <a:r>
              <a:rPr b="0" lang="es-CL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es-CL" sz="3200" spc="-1" strike="noStrike">
                <a:solidFill>
                  <a:srgbClr val="ffffff"/>
                </a:solidFill>
                <a:latin typeface="Verdana"/>
              </a:rPr>
              <a:t> Enriched Mantle 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Verdana"/>
              </a:rPr>
              <a:t>HIMU con sedimentos pelágicos (&lt;5%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Verdana"/>
              </a:rPr>
              <a:t>Sm/N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 baseline="30000">
                <a:solidFill>
                  <a:srgbClr val="ffffff"/>
                </a:solidFill>
                <a:latin typeface="Verdana"/>
              </a:rPr>
              <a:t>206</a:t>
            </a:r>
            <a:r>
              <a:rPr b="0" lang="es-CL" sz="2800" spc="-1" strike="noStrike">
                <a:solidFill>
                  <a:srgbClr val="ffffff"/>
                </a:solidFill>
                <a:latin typeface="Verdana"/>
              </a:rPr>
              <a:t>Pb/</a:t>
            </a:r>
            <a:r>
              <a:rPr b="0" lang="es-CL" sz="2800" spc="-1" strike="noStrike" baseline="30000">
                <a:solidFill>
                  <a:srgbClr val="ffffff"/>
                </a:solidFill>
                <a:latin typeface="Verdana"/>
              </a:rPr>
              <a:t>204</a:t>
            </a:r>
            <a:r>
              <a:rPr b="0" lang="es-CL" sz="2800" spc="-1" strike="noStrike">
                <a:solidFill>
                  <a:srgbClr val="ffffff"/>
                </a:solidFill>
                <a:latin typeface="Verdana"/>
              </a:rPr>
              <a:t>Pb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Verdana"/>
              </a:rPr>
              <a:t>Rb/Sr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2627280" y="2781360"/>
            <a:ext cx="0" cy="360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348000" y="3357720"/>
            <a:ext cx="216000" cy="287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2484360" y="3862440"/>
            <a:ext cx="216000" cy="287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351000" y="1266840"/>
            <a:ext cx="8572320" cy="475452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7047000" y="2541600"/>
            <a:ext cx="7920" cy="47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85800" y="181080"/>
            <a:ext cx="777240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uente Magmática: EM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084720" y="4653000"/>
            <a:ext cx="503280" cy="360360"/>
          </a:xfrm>
          <a:prstGeom prst="rect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221440" y="2060640"/>
            <a:ext cx="502920" cy="360360"/>
          </a:xfrm>
          <a:prstGeom prst="rect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003640" y="5373720"/>
            <a:ext cx="503280" cy="360360"/>
          </a:xfrm>
          <a:prstGeom prst="rect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Fuentes Magmáticas: </a:t>
            </a:r>
            <a:r>
              <a:rPr b="0" lang="es-MX" sz="4000" spc="-1" strike="noStrike">
                <a:solidFill>
                  <a:srgbClr val="ccecff"/>
                </a:solidFill>
                <a:latin typeface="Arial"/>
              </a:rPr>
              <a:t>Isótopos </a:t>
            </a:r>
            <a:r>
              <a:rPr b="0" lang="es-CL" sz="4000" spc="-1" strike="noStrike">
                <a:solidFill>
                  <a:srgbClr val="ccecff"/>
                </a:solidFill>
                <a:latin typeface="Arial"/>
              </a:rPr>
              <a:t>Radiogénicos</a:t>
            </a:r>
            <a:r>
              <a:rPr b="0" lang="es-MX" sz="4000" spc="-1" strike="noStrike">
                <a:solidFill>
                  <a:srgbClr val="ccecff"/>
                </a:solidFill>
                <a:latin typeface="Arial"/>
              </a:rPr>
              <a:t> y Comportamiento Geoquímico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Verdana"/>
              </a:rPr>
              <a:t>EMII </a:t>
            </a:r>
            <a:r>
              <a:rPr b="0" lang="es-CL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es-CL" sz="3200" spc="-1" strike="noStrike">
                <a:solidFill>
                  <a:srgbClr val="ffffff"/>
                </a:solidFill>
                <a:latin typeface="Verdana"/>
              </a:rPr>
              <a:t> Enriched Mantle 2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Verdana"/>
              </a:rPr>
              <a:t>HIMU con sedimentos terrígenos (&lt;10%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Verdana"/>
              </a:rPr>
              <a:t>Sm/N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 baseline="30000">
                <a:solidFill>
                  <a:srgbClr val="ffffff"/>
                </a:solidFill>
                <a:latin typeface="Verdana"/>
              </a:rPr>
              <a:t>206</a:t>
            </a:r>
            <a:r>
              <a:rPr b="0" lang="es-CL" sz="2800" spc="-1" strike="noStrike">
                <a:solidFill>
                  <a:srgbClr val="ffffff"/>
                </a:solidFill>
                <a:latin typeface="Verdana"/>
              </a:rPr>
              <a:t>Pb/</a:t>
            </a:r>
            <a:r>
              <a:rPr b="0" lang="es-CL" sz="2800" spc="-1" strike="noStrike" baseline="30000">
                <a:solidFill>
                  <a:srgbClr val="ffffff"/>
                </a:solidFill>
                <a:latin typeface="Verdana"/>
              </a:rPr>
              <a:t>204</a:t>
            </a:r>
            <a:r>
              <a:rPr b="0" lang="es-CL" sz="2800" spc="-1" strike="noStrike">
                <a:solidFill>
                  <a:srgbClr val="ffffff"/>
                </a:solidFill>
                <a:latin typeface="Verdana"/>
              </a:rPr>
              <a:t>Pb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Verdana"/>
              </a:rPr>
              <a:t>Rb/S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"/>
          <p:cNvSpPr/>
          <p:nvPr/>
        </p:nvSpPr>
        <p:spPr>
          <a:xfrm>
            <a:off x="2627280" y="3213000"/>
            <a:ext cx="0" cy="360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3492360" y="3715920"/>
            <a:ext cx="0" cy="360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484360" y="4220640"/>
            <a:ext cx="0" cy="360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351000" y="1266840"/>
            <a:ext cx="8572320" cy="47545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7047000" y="2541600"/>
            <a:ext cx="7920" cy="47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81080"/>
            <a:ext cx="777240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uente Magmática: EMI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524720" y="2924280"/>
            <a:ext cx="503280" cy="360360"/>
          </a:xfrm>
          <a:prstGeom prst="rect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021440" y="2421000"/>
            <a:ext cx="503280" cy="360360"/>
          </a:xfrm>
          <a:prstGeom prst="rect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395280" y="104760"/>
            <a:ext cx="8381880" cy="670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Fuentes Magmáticas: </a:t>
            </a:r>
            <a:r>
              <a:rPr b="0" lang="es-MX" sz="4000" spc="-1" strike="noStrike">
                <a:solidFill>
                  <a:srgbClr val="ccecff"/>
                </a:solidFill>
                <a:latin typeface="Arial"/>
              </a:rPr>
              <a:t>Isótopos Radiogénicos y Comportamiento Geoquímico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Verdana"/>
              </a:rPr>
              <a:t>MORB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Verdana"/>
                <a:ea typeface="Arial"/>
              </a:rPr>
              <a:t>ε</a:t>
            </a:r>
            <a:r>
              <a:rPr b="0" lang="es-CL" sz="2800" spc="-1" strike="noStrike">
                <a:solidFill>
                  <a:srgbClr val="ffffff"/>
                </a:solidFill>
                <a:latin typeface="Verdana"/>
                <a:ea typeface="Arial"/>
              </a:rPr>
              <a:t>N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Verdana"/>
                <a:ea typeface="Arial"/>
              </a:rPr>
              <a:t>Sm/N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Verdana"/>
                <a:ea typeface="Arial"/>
              </a:rPr>
              <a:t>Rb/S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Verdana"/>
                <a:ea typeface="Arial"/>
              </a:rPr>
              <a:t>No radiogénico en Pb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Verdana"/>
                <a:ea typeface="Arial"/>
              </a:rPr>
              <a:t>Empobrecido en elementos incompatibles (por fusión parcial y extracción del líquido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050920" y="2277720"/>
            <a:ext cx="0" cy="360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2627280" y="2781000"/>
            <a:ext cx="0" cy="360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484360" y="3284640"/>
            <a:ext cx="0" cy="360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Fuentes Magmáticas: </a:t>
            </a:r>
            <a:r>
              <a:rPr b="0" lang="es-MX" sz="4000" spc="-1" strike="noStrike">
                <a:solidFill>
                  <a:srgbClr val="ccecff"/>
                </a:solidFill>
                <a:latin typeface="Arial"/>
              </a:rPr>
              <a:t>Isótopos Radiogénicos y Comportamiento Geoquímico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Verdana"/>
              </a:rPr>
              <a:t>MORB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Verdana"/>
              </a:rPr>
              <a:t>N-MORB: la razón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CL" sz="2800" spc="-1" strike="noStrike">
                <a:solidFill>
                  <a:srgbClr val="ffffff"/>
                </a:solidFill>
                <a:latin typeface="Verdana"/>
              </a:rPr>
              <a:t>K/Ba es alta (usualmente &gt; 100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Origen: Manto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Superior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Verdana"/>
              </a:rPr>
              <a:t>E-MORB: la razón K/Ba es ~ 30’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Origen: Manto Superior/Medio, posiblemente plumas alimentadoras de las dorsales proveniente de manto profundo, pero que se acumulan en las medianías del Manto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351000" y="1266840"/>
            <a:ext cx="8572320" cy="475452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7047000" y="2541600"/>
            <a:ext cx="7920" cy="47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85800" y="181080"/>
            <a:ext cx="777240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uentes Magmáticas: MORB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106800" y="1916280"/>
            <a:ext cx="1249200" cy="4033800"/>
          </a:xfrm>
          <a:prstGeom prst="rect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Fuentes Magmáticas: </a:t>
            </a:r>
            <a:r>
              <a:rPr b="0" lang="es-MX" sz="4000" spc="-1" strike="noStrike">
                <a:solidFill>
                  <a:srgbClr val="ccecff"/>
                </a:solidFill>
                <a:latin typeface="Arial"/>
              </a:rPr>
              <a:t>Isótopos Radiogénicos y Comportamiento Geoquímico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Verdana"/>
              </a:rPr>
              <a:t>OIB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Verdana"/>
                <a:ea typeface="Arial"/>
              </a:rPr>
              <a:t>ε</a:t>
            </a:r>
            <a:r>
              <a:rPr b="0" lang="es-MX" sz="2800" spc="-1" strike="noStrike">
                <a:solidFill>
                  <a:srgbClr val="ffffff"/>
                </a:solidFill>
                <a:latin typeface="Verdana"/>
                <a:ea typeface="Arial"/>
              </a:rPr>
              <a:t>Nd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Verdana"/>
                <a:ea typeface="Arial"/>
              </a:rPr>
              <a:t>Sm/Nd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Verdana"/>
                <a:ea typeface="Arial"/>
              </a:rPr>
              <a:t>Rb/Sr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 baseline="30000">
                <a:solidFill>
                  <a:srgbClr val="ffffff"/>
                </a:solidFill>
                <a:latin typeface="Verdana"/>
                <a:ea typeface="Arial"/>
              </a:rPr>
              <a:t>206</a:t>
            </a:r>
            <a:r>
              <a:rPr b="0" lang="es-MX" sz="2800" spc="-1" strike="noStrike">
                <a:solidFill>
                  <a:srgbClr val="ffffff"/>
                </a:solidFill>
                <a:latin typeface="Verdana"/>
                <a:ea typeface="Arial"/>
              </a:rPr>
              <a:t>Pb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 baseline="30000">
                <a:solidFill>
                  <a:srgbClr val="ffffff"/>
                </a:solidFill>
                <a:latin typeface="Verdana"/>
                <a:ea typeface="Arial"/>
              </a:rPr>
              <a:t>207</a:t>
            </a:r>
            <a:r>
              <a:rPr b="0" lang="es-MX" sz="2800" spc="-1" strike="noStrike">
                <a:solidFill>
                  <a:srgbClr val="ffffff"/>
                </a:solidFill>
                <a:latin typeface="Verdana"/>
                <a:ea typeface="Arial"/>
              </a:rPr>
              <a:t>Pb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1978200" y="2276640"/>
            <a:ext cx="217440" cy="288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411280" y="3357720"/>
            <a:ext cx="216000" cy="287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2340000" y="3860280"/>
            <a:ext cx="216000" cy="287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2340000" y="4294080"/>
            <a:ext cx="216000" cy="287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2625840" y="2779200"/>
            <a:ext cx="217440" cy="2890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Fuentes Magmáticas: </a:t>
            </a:r>
            <a:r>
              <a:rPr b="0" lang="es-MX" sz="4000" spc="-1" strike="noStrike">
                <a:solidFill>
                  <a:srgbClr val="ccecff"/>
                </a:solidFill>
                <a:latin typeface="Arial"/>
              </a:rPr>
              <a:t>Isótopos Radiogénicos y Comportamiento Geoquímico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Verdana"/>
              </a:rPr>
              <a:t>Los elementos traza LILE (K, Rb, Cs, Ba, Pb</a:t>
            </a:r>
            <a:r>
              <a:rPr b="0" lang="es-CL" sz="3200" spc="-1" strike="noStrike" baseline="30000">
                <a:solidFill>
                  <a:srgbClr val="ffffff"/>
                </a:solidFill>
                <a:latin typeface="Verdana"/>
              </a:rPr>
              <a:t>2+</a:t>
            </a:r>
            <a:r>
              <a:rPr b="0" lang="es-CL" sz="3200" spc="-1" strike="noStrike">
                <a:solidFill>
                  <a:srgbClr val="ffffff"/>
                </a:solidFill>
                <a:latin typeface="Verdana"/>
              </a:rPr>
              <a:t> and Sr) son incompatibles y están enriquecidos en los magmas OIB con respecto a MORB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Verdana"/>
              </a:rPr>
              <a:t>Para OIT, la razón K/Ba está entre 25-40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Verdana"/>
              </a:rPr>
              <a:t>Para OIA, la razón K/Ba está sobre los 20’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Fuentes Magmáticas: </a:t>
            </a:r>
            <a:r>
              <a:rPr b="0" lang="es-MX" sz="4000" spc="-1" strike="noStrike">
                <a:solidFill>
                  <a:srgbClr val="ccecff"/>
                </a:solidFill>
                <a:latin typeface="Arial"/>
              </a:rPr>
              <a:t>Isótopos Radiogénicos y Comportamiento Geoquímico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La/Yb (pendiente de las REE) correlaciona con el grado de subsaturación de sílice en OIB: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Magmas altamente subsaturados: La/Yb &gt; 30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OIA: ~ 12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OIT: ~ 4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Verdana"/>
                <a:ea typeface="Arial"/>
              </a:rPr>
              <a:t>Origen: Manifestaciones superficiales de plumas mantélicas. Manto profundo empobrecido reenriquecido de elementos incompatible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351000" y="1266840"/>
            <a:ext cx="8572320" cy="475452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7047000" y="2541600"/>
            <a:ext cx="7920" cy="47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85800" y="181080"/>
            <a:ext cx="777240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uente Magmática: OIB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826920" y="4005360"/>
            <a:ext cx="1368720" cy="1871640"/>
          </a:xfrm>
          <a:prstGeom prst="rect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716360" y="3141720"/>
            <a:ext cx="863640" cy="2232000"/>
          </a:xfrm>
          <a:prstGeom prst="rect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Fuentes Magmáticas: </a:t>
            </a:r>
            <a:r>
              <a:rPr b="0" lang="es-MX" sz="4000" spc="-1" strike="noStrike">
                <a:solidFill>
                  <a:srgbClr val="ccecff"/>
                </a:solidFill>
                <a:latin typeface="Arial"/>
              </a:rPr>
              <a:t>Isótopos Radiogénicos y Comportamiento Geoquímico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Verdana"/>
              </a:rPr>
              <a:t>DMM </a:t>
            </a:r>
            <a:r>
              <a:rPr b="0" lang="es-CL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es-CL" sz="3200" spc="-1" strike="noStrike">
                <a:solidFill>
                  <a:srgbClr val="ffffff"/>
                </a:solidFill>
                <a:latin typeface="Verdana"/>
              </a:rPr>
              <a:t> Depleted MORB Mantl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Verdana"/>
              </a:rPr>
              <a:t>Polo más empobrecido de los MORB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Verdana"/>
              </a:rPr>
              <a:t>Origen: Extracción del Manto sublitosférico hace 1-2 G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1T22:54:39Z</dcterms:created>
  <dc:creator>Luis López V.</dc:creator>
  <dc:description/>
  <dc:language>en-US</dc:language>
  <cp:lastModifiedBy>Luis López V.</cp:lastModifiedBy>
  <dcterms:modified xsi:type="dcterms:W3CDTF">2006-11-02T01:26:42Z</dcterms:modified>
  <cp:revision>4</cp:revision>
  <dc:subject/>
  <dc:title>Isótopos Radiogénicos en Petrogénesis</dc:title>
</cp:coreProperties>
</file>