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8DF-30F1-4C59-8D9D-07BF2D81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5E0-08DA-4D12-9900-CDB2EF4E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B29-30A1-4000-9807-31BAFB5B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82E-7493-4EF5-8B18-D94CD613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EB56-494A-49C9-9D06-583C21D3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0870-C0D6-4CC5-B438-1780097B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B5F1-8F5F-47CF-9601-DC6ECE61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6A34-6C9E-49DE-9DAA-48778AF2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F268-C19C-46CC-BDA6-F400CA41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1AFD-7126-4D74-B923-D16A1DA3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2802-9DFA-44BA-9C5F-6DB4E952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299-65BD-4DB1-8553-26FA2DE6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BBF5-E7D0-41EC-B92B-BF4AEB5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9745-A07B-4F91-95D3-E1085A1F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6E78-6617-423C-86CC-04CCAEA8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FE43-1047-44AE-B09B-C869A83D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E8CE-DB8A-4271-B870-FE989736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157-C2CA-4C80-9D92-9F23E974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5B7-9E36-4A60-B326-6A7670EA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DA0-EA4F-46AA-A491-84F2589E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02B-4031-497C-B784-E9030CEE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CFF-8590-4C3B-84CB-64A5FC6A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A53-90E2-4BD7-B19A-BD2143B2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657-FB9D-4A9A-802F-9F64D0D9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90B-87E4-4A85-B86F-1CB7654E14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9730-563B-4E07-B1B5-F5553A74A6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ccecff"/>
                </a:solidFill>
                <a:latin typeface="Arial"/>
              </a:rPr>
              <a:t>Isótopos Radiogénicos en Petrogéne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45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DM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3357720"/>
            <a:ext cx="79200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5640" y="4508640"/>
            <a:ext cx="64908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REM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Prevalent Man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presentativo de mezclas de fuentes mantélic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PR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5300640"/>
            <a:ext cx="792000" cy="576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HIMU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“high - µ”</a:t>
            </a: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nriquecido en µ (= 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38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U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ransporte de Pb en el núcle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ciclaje de corteza oceánica vieja por subduc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U-enriquecimiento por metasomatismo en parte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H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0000" y="5372280"/>
            <a:ext cx="504720" cy="4330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1989000"/>
            <a:ext cx="50508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23280" y="234792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285264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pelágicos (&lt;5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484360" y="386244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4653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1440" y="2060640"/>
            <a:ext cx="50292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537372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terrígenos (&lt;10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321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7159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484360" y="4220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292428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1440" y="2421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104760"/>
            <a:ext cx="838188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o radiogénico en 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Empobrecido en elementos incompatibles (por fusión parcial y extracción del líquid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0920" y="2277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27280" y="2781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284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-MORB: la razó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K/Ba es alta (usualmente &gt; 1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uperi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-MORB: la razón K/Ba es ~ 30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 Superior/Medio, posiblemente plumas alimentadoras de las dorsales proveniente de manto profundo, pero que se acumulan en las medianía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s Magmáticas: MOR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06800" y="1916280"/>
            <a:ext cx="1249200" cy="40338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OI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Sm/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6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7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78200" y="2276640"/>
            <a:ext cx="217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340000" y="3860280"/>
            <a:ext cx="21600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40000" y="429408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625840" y="2779200"/>
            <a:ext cx="21744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Los elementos traza LILE (K, Rb, Cs, Ba, Pb</a:t>
            </a:r>
            <a:r>
              <a:rPr b="0" lang="es-CL" sz="3200" spc="-1" strike="noStrike" baseline="30000">
                <a:solidFill>
                  <a:srgbClr val="ffffff"/>
                </a:solidFill>
                <a:latin typeface="Verdana"/>
              </a:rPr>
              <a:t>2+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and Sr) son incompatibles y están enriquecidos en los magmas OIB con respecto a MORB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T, la razón K/Ba está entre 25-4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A, la razón K/Ba está sobre los 20’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/Yb (pendiente de las REE) correlaciona con el grado de subsaturación de sílice en OIB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Magmas altamente subsaturados: La/Yb &gt; 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A: ~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T: ~ 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Origen: Manifestaciones superficiales de plumas mantélicas. Manto profundo empobrecido reenriquecido de elementos incompatib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O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005360"/>
            <a:ext cx="1368720" cy="18716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3141720"/>
            <a:ext cx="863640" cy="2232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MM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Depleted MORB Man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olo más empobrecido de los MOR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: Extracción del Manto sublitosférico hace 1-2 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2:54:39Z</dcterms:created>
  <dc:creator>Luis López V.</dc:creator>
  <dc:description/>
  <dc:language>en-US</dc:language>
  <cp:lastModifiedBy>Luis López V.</cp:lastModifiedBy>
  <dcterms:modified xsi:type="dcterms:W3CDTF">2006-11-02T01:26:42Z</dcterms:modified>
  <cp:revision>4</cp:revision>
  <dc:subject/>
  <dc:title>Isótopos Radiogénicos en Petrogénesis</dc:title>
</cp:coreProperties>
</file>