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428-7C7F-4774-B704-422E7658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7E5-843C-4D12-A44C-27D6EEB0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84C-0BCA-4D3E-8053-084D419B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4F9-0B04-460F-97FB-10C8E06C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1231-7AA5-495C-888D-9F147D5B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6734-1E1A-4EC3-BED8-FB0D758B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981E-A830-4C52-858D-64BF8A82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EC91-2FA4-4243-ACE0-ED58B29E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0C09-07AD-4D40-BB32-9024B084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25E1-37E9-4C3A-A6AC-B304E0D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1F08-0C66-48D4-A7CF-CA9EC57E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821-EB74-4975-A6EF-885F622B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5031-94E4-4E99-B161-23CBE9A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1D65-9417-44C6-AB95-807BFEFF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366B-16F3-4875-93A6-500970E4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CF11-6C67-4621-B84E-7716D556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D8B3-DE78-4379-B829-1739AFE4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DD4-F06D-4FBD-B205-F5306054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D6A-FBA6-4B01-B79B-425DC3BD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7DD-7918-40A5-A56F-5044FF25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3EF-DD48-42BF-A406-29C5A963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AA7-F853-48D8-9EE1-D1507B4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036-FB9A-4595-B211-F38769C4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FBE-A535-495C-9666-388559BE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4933-0B20-4CCE-9887-C0BC1F3D77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8DB7-5BEA-4CE6-BC8A-B57D726B0F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ccecff"/>
                </a:solidFill>
                <a:latin typeface="Arial"/>
              </a:rPr>
              <a:t>Isótopos Radiogénicos en Petrogéne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45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DM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3357720"/>
            <a:ext cx="79200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5640" y="4508640"/>
            <a:ext cx="64908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REM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Prevalent Man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presentativo de mezclas de fuentes mantélic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PR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5300640"/>
            <a:ext cx="792000" cy="576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HIMU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“high - µ”</a:t>
            </a: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nriquecido en µ (= 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38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U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ransporte de Pb en el núcle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ciclaje de corteza oceánica vieja por subduc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U-enriquecimiento por metasomatismo en parte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H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0000" y="5372280"/>
            <a:ext cx="504720" cy="4330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1989000"/>
            <a:ext cx="50508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23280" y="234792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285264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pelágicos (&lt;5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484360" y="386244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4653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1440" y="2060640"/>
            <a:ext cx="50292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537372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terrígenos (&lt;10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321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7159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484360" y="4220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292428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1440" y="2421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104760"/>
            <a:ext cx="838188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o radiogénico en 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Empobrecido en elementos incompatibles (por fusión parcial y extracción del líquid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0920" y="2277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27280" y="2781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284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-MORB: la razó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K/Ba es alta (usualmente &gt; 1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uperi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-MORB: la razón K/Ba es ~ 30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 Superior/Medio, posiblemente plumas alimentadoras de las dorsales proveniente de manto profundo, pero que se acumulan en las medianía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s Magmáticas: MOR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06800" y="1916280"/>
            <a:ext cx="1249200" cy="40338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OI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Sm/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6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7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78200" y="2276640"/>
            <a:ext cx="217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340000" y="3860280"/>
            <a:ext cx="21600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40000" y="429408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625840" y="2779200"/>
            <a:ext cx="21744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Los elementos traza LILE (K, Rb, Cs, Ba, Pb</a:t>
            </a:r>
            <a:r>
              <a:rPr b="0" lang="es-CL" sz="3200" spc="-1" strike="noStrike" baseline="30000">
                <a:solidFill>
                  <a:srgbClr val="ffffff"/>
                </a:solidFill>
                <a:latin typeface="Verdana"/>
              </a:rPr>
              <a:t>2+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and Sr) son incompatibles y están enriquecidos en los magmas OIB con respecto a MORB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T, la razón K/Ba está entre 25-4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A, la razón K/Ba está sobre los 20’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/Yb (pendiente de las REE) correlaciona con el grado de subsaturación de sílice en OIB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Magmas altamente subsaturados: La/Yb &gt; 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A: ~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T: ~ 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Origen: Manifestaciones superficiales de plumas mantélicas. Manto profundo empobrecido reenriquecido de elementos incompatib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O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005360"/>
            <a:ext cx="1368720" cy="18716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3141720"/>
            <a:ext cx="863640" cy="2232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MM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Depleted MORB Man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olo más empobrecido de los MOR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: Extracción del Manto sublitosférico hace 1-2 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2:54:39Z</dcterms:created>
  <dc:creator>Luis López V.</dc:creator>
  <dc:description/>
  <dc:language>en-US</dc:language>
  <cp:lastModifiedBy>Luis López V.</cp:lastModifiedBy>
  <dcterms:modified xsi:type="dcterms:W3CDTF">2006-11-02T01:26:42Z</dcterms:modified>
  <cp:revision>4</cp:revision>
  <dc:subject/>
  <dc:title>Isótopos Radiogénicos en Petrogénesis</dc:title>
</cp:coreProperties>
</file>