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68D-A1E0-41E7-963B-FD5760AF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A3E-5CDE-48FE-85DF-1D244EA0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0F8-2D83-4474-8765-7DAACCE3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88F-D8C6-4F70-9723-FB8EEA9E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D801-8010-4470-AAB6-3C1F5FEA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EBC5-2454-44AF-BCD4-450356AD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A956-3523-4B77-9198-3D24200F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7338-66D3-4A81-9376-840B4CCF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5EBA-0BF8-4867-A560-96148F81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C8A2-D34B-4F6C-82FB-38AF3D91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B8D9-EE61-4E56-A9B8-E2F070ED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FDE-6E4A-4474-8635-9F116F07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CEB1-BE40-44D4-9E56-D21D2CD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D26E-2827-4F8D-B330-FF2555A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2CFD-1EC5-489C-8121-5008FDD8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74AF-8274-453A-A8F6-F8C5D77E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7432-F9CB-4636-8510-7535BA2C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C9E-8D37-45DF-89B1-25FEBE6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D38-98A4-406E-9E13-789B4ADA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49E-DE4D-4C42-B907-21FC15A9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D93-6C1D-469B-9BE4-AD0AEFD9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632-0C08-4FF2-81AF-8B22E24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76C-DE36-44D0-8C25-1DF739B7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6A8-728E-4BFB-AC26-4EFDED94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20B9-2EC7-485B-8115-805E245FD7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7959-3EB2-4B97-A1D6-481AE85C0C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ccecff"/>
                </a:solidFill>
                <a:latin typeface="Arial"/>
              </a:rPr>
              <a:t>Isótopos Radiogénicos en Petrogéne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45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DM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3357720"/>
            <a:ext cx="792000" cy="576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5640" y="4508640"/>
            <a:ext cx="649080" cy="576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REMA 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Prevalent Man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presentativo de mezclas de fuentes mantélic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PR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5300640"/>
            <a:ext cx="792000" cy="576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HIMU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“high - µ”</a:t>
            </a: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nriquecido en µ (= 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38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U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Ori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transporte de Pb en el núcle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ciclaje de corteza oceánica vieja por subducc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U-enriquecimiento por metasomatismo en partes del ma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2781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H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0000" y="5372280"/>
            <a:ext cx="504720" cy="4330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1989000"/>
            <a:ext cx="50508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23280" y="2347920"/>
            <a:ext cx="50472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28000" y="2852640"/>
            <a:ext cx="50472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MI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Enriched Mantle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HIMU con sedimentos pelágicos (&lt;5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6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2781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335772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484360" y="386244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EM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465300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21440" y="2060640"/>
            <a:ext cx="50292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537372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MII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Enriched Mantle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HIMU con sedimentos terrígenos (&lt;10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6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321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92360" y="37159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484360" y="4220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EM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4720" y="292428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1440" y="242100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104760"/>
            <a:ext cx="838188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OR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No radiogénico en 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Empobrecido en elementos incompatibles (por fusión parcial y extracción del líquid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50920" y="2277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27280" y="2781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284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OR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N-MORB: la razó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K/Ba es alta (usualmente &gt; 1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rigen: Mant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uperi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-MORB: la razón K/Ba es ~ 30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rigen: Manto Superior/Medio, posiblemente plumas alimentadoras de las dorsales proveniente de manto profundo, pero que se acumulan en las medianías del Ma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s Magmáticas: MOR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06800" y="1916280"/>
            <a:ext cx="1249200" cy="40338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OI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Sm/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Rb/S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06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07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78200" y="2276640"/>
            <a:ext cx="21744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335772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340000" y="3860280"/>
            <a:ext cx="21600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40000" y="429408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625840" y="2779200"/>
            <a:ext cx="21744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Los elementos traza LILE (K, Rb, Cs, Ba, Pb</a:t>
            </a:r>
            <a:r>
              <a:rPr b="0" lang="es-CL" sz="3200" spc="-1" strike="noStrike" baseline="30000">
                <a:solidFill>
                  <a:srgbClr val="ffffff"/>
                </a:solidFill>
                <a:latin typeface="Verdana"/>
              </a:rPr>
              <a:t>2+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and Sr) son incompatibles y están enriquecidos en los magmas OIB con respecto a MORB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OIT, la razón K/Ba está entre 25-4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OIA, la razón K/Ba está sobre los 20’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/Yb (pendiente de las REE) correlaciona con el grado de subsaturación de sílice en OIB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Magmas altamente subsaturados: La/Yb &gt; 3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IA: ~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IT: ~ 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Origen: Manifestaciones superficiales de plumas mantélicas. Manto profundo empobrecido reenriquecido de elementos incompatib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O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005360"/>
            <a:ext cx="1368720" cy="18716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3141720"/>
            <a:ext cx="863640" cy="2232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MM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Depleted MORB Man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olo más empobrecido de los MOR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Origen: Extracción del Manto sublitosférico hace 1-2 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2:54:39Z</dcterms:created>
  <dc:creator>Luis López V.</dc:creator>
  <dc:description/>
  <dc:language>en-US</dc:language>
  <cp:lastModifiedBy>Luis López V.</cp:lastModifiedBy>
  <dcterms:modified xsi:type="dcterms:W3CDTF">2006-11-02T01:26:42Z</dcterms:modified>
  <cp:revision>4</cp:revision>
  <dc:subject/>
  <dc:title>Isótopos Radiogénicos en Petrogénesis</dc:title>
</cp:coreProperties>
</file>