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wmf" ContentType="image/x-wmf"/>
  <Override PartName="/ppt/media/image11.jpeg" ContentType="image/jpeg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4009-4337-4870-9CD2-80C1FA0A6D2F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a/Sr will help identify Kspar vs P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oth are incompatible -&gt; first partial melts (or residual liquids of F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depends on the mineral phase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S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excluded from most common minerals except </a:t>
            </a: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plagiocla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00"/>
                </a:solidFill>
                <a:latin typeface="Arial"/>
              </a:rPr>
              <a:t>B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imilarly excluded except in </a:t>
            </a:r>
            <a:r>
              <a:rPr b="0" lang="en-US" sz="1400" spc="-1" strike="noStrike">
                <a:solidFill>
                  <a:srgbClr val="00cc00"/>
                </a:solidFill>
                <a:latin typeface="Arial"/>
              </a:rPr>
              <a:t>alkali feldsp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the </a:t>
            </a: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rati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a/Sr increases with crystallization of plagioclase, but may decrease when orthoclase begins to crystall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all of the above cases using ratios, the idea is to find a mineral with a unique pair of elements for which it alone has a relatively high value of D for one element and a relatively low value of D for the other. The ratio of these elements is then sensitive only to liquid/crystal fractionation associated with that particular min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embers of Group IIIA of the Periodic Table La -&gt; to Lutetium (Z = 57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7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ll have very similar chemical and physical properties -&gt; behave as a coherent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ll have a 3+ oxidation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onic radius decreases steadily with increasing atomic number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anthanide contra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hondrite normaliz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ormalize to chondrite meteorites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) avoid Oddo-Harkins (even Z more comm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) think chondrite = primitive earth, so can compare to initial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* is the value Eu “should” have if Eu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id not -&gt; plagiocl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other example of how RATIOS can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 alone is inconclusive (low REE of low E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/Eu is slope or Eu anomaly trough (Use Eu*/Eu anyw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der of elements based on estimates of increasing incompatibility from right to left in a "typical" mantle undergoing partial mel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s are all incompatible (D&lt;1) during most partial melting and fractional crystallization processes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main exceptions 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r, which may be compatible if plagioclase is involve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Y and Yb with ga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i with magne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roughs at these elements would indicate respective mineral invol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ceanic basal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= large degrees of PM, their spider diagrams should reflect the trace element patterns of their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ess incompatible elements on the right-hand side should be less enriched during PM (particularly for small degrees of it), tilting the curve up on the left -&gt; (-) slop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dditionally, FX subsequent to magma segregation from the source should tip the pattern even fur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 Distribu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..as a tool in the interpretation of the history of igneous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 elements have diff. affinities for environments to reside: Si later melts  -  Mg early x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member from Chapter 1: A.  Goldschmid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me elements meta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deroph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e, Pt, 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me elements sulfides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halcoph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,Cu,Z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me elements silicates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ithoph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,K,Ca,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MPLISTIC    Xl Field Theory best results.  Study of elec. envir. in lattice &amp; melt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ce Elements: very low co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's don't govern the appearance of a phase (as K req. Ksp or Bi), but enter various phases by substit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Compare Ha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jor E usually vary by &lt;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ORB-normaliz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IL on left and HFS on right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cr. incompatibility toward cen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herent magma with enrichment has hump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 often vary by &gt;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very useful since so sensitive to distr. &amp; fractio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refore some TE's will follow similar major 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is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pends on the minerals involv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!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r -&gt; melt as ol &amp; px separate  -&gt;  plag (Ca) &amp; not melt if plag is phenocryst 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mmonly standardized to mantle compositions (olivine, pyroxenes, and perhaps garn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us the major elements Mg and Fe would usually be referred to as compatible, while K and Na as incompati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ot exact, sinc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varies with the composition of mins &amp; mel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FA3C-9A6C-42EC-A585-74998AF13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0195-508C-458C-B940-E9C3D1D7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1AF8-2B90-410E-AE6A-CA898697B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6799-570A-471F-995E-97920DD43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AC09E-8C76-4771-87F3-A2A5AF719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75B3-07C8-43B0-A400-A9E2B843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A802-DDEE-49C8-8A63-C3806E9A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8DA9D-B0B5-4C7D-B652-0DD143AF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52B13-CBA8-4CD7-A51B-419B29C9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7B53-F45F-451C-B0CC-0C437CB7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40DA-4454-48A8-85FC-BF2EC2BF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5CC3-0025-45CD-BBE1-5C144DC7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2A2C8-E2F5-4BF6-B9FD-D683564E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A032-D7F2-4F1C-92A2-81AE69AD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ACC7-B281-4BB0-8C53-7849E878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2891-E47E-423D-B579-E1DEDA334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BE56-A448-4749-8726-BA2D528E6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A54F-2501-4A00-82D3-EBF7CA10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97D4-FD73-4975-ABD7-4691AE67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C5C5-F70A-435A-BD03-76102589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6FCC-DD7F-412F-99BB-E520A037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ED5B-3C63-4C2F-A29C-92F74B64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A0D9-3F72-490E-BB67-3192624C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DAE0-C673-4A8E-AD12-A4C6BE8B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E063-7589-4B69-8B59-7A52719403F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FD3C-8249-4AD7-9DB6-ED715FBD8A1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064240" y="2043000"/>
            <a:ext cx="5426280" cy="23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Desdemona"/>
              </a:rPr>
              <a:t>GEOQUÍMICA 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Desdemona"/>
              </a:rPr>
              <a:t>ELEMENTOS TRA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Herramientas para la interpret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de la historia de rocas Igne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371600" y="47372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Por Luis López V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GL54C</a:t>
            </a: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25520" y="511200"/>
            <a:ext cx="825660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276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mentos Incompatible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íqu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76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lejan la proporción de líquido a un estado dado de  cristalización o fusió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851120" y="2419200"/>
            <a:ext cx="5427720" cy="41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8948880" cy="57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r y Ba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Elem. Inc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)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comportamiento depende de las fases minerales involucrad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419040" indent="-3816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Sr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s excluido desde la mayoria de los minerales comunes excepto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Pg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419040" indent="-3816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Ba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xcluido de la misma manera excepto en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Fd-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579760" y="2440080"/>
          <a:ext cx="6084720" cy="441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9760" y="2440080"/>
                    <a:ext cx="6084720" cy="44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0" y="3387600"/>
            <a:ext cx="265104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cc00"/>
                </a:solidFill>
                <a:latin typeface="Times New Roman"/>
              </a:rPr>
              <a:t>FX Pg  =&gt; Ba/Sr </a:t>
            </a:r>
            <a:r>
              <a:rPr b="1" lang="es-CL" sz="2200" spc="-1" strike="noStrike">
                <a:solidFill>
                  <a:srgbClr val="00cc00"/>
                </a:solidFill>
                <a:latin typeface="Symbol"/>
                <a:ea typeface="Symbol"/>
              </a:rPr>
              <a:t>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cc00"/>
                </a:solidFill>
                <a:latin typeface="Times New Roman"/>
              </a:rPr>
              <a:t>FX Or =&gt; Ba/Sr </a:t>
            </a:r>
            <a:r>
              <a:rPr b="1" lang="es-CL" sz="2200" spc="-1" strike="noStrike">
                <a:solidFill>
                  <a:srgbClr val="00cc00"/>
                </a:solidFill>
                <a:latin typeface="Symbol"/>
                <a:ea typeface="Symbol"/>
              </a:rPr>
              <a:t>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351000"/>
            <a:ext cx="8256600" cy="30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Ejm. Elementos compatibl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Ni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fuertemente fraccionado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olivino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&gt; piroxe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Cr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Sc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piroxenos &gt;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olivin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i/Cr o Ni/Sc permiten distinguir el efecto de olivino y augita en un fundido parcial o en una serie de rocas generadas por F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822240" y="3757680"/>
          <a:ext cx="7423200" cy="261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240" y="3757680"/>
                    <a:ext cx="7423200" cy="26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rcRect l="0" t="1055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15880" y="0"/>
            <a:ext cx="797868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are Earth Elements (RE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41560" y="4967280"/>
            <a:ext cx="7107120" cy="887400"/>
          </a:xfrm>
          <a:prstGeom prst="rect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58880" y="784080"/>
            <a:ext cx="255816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b76"/>
                </a:solidFill>
                <a:latin typeface="Times New Roman"/>
              </a:rPr>
              <a:t>Similares, e.d.o. +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b76"/>
                </a:solidFill>
                <a:latin typeface="Symbol"/>
                <a:ea typeface="Symbol"/>
              </a:rPr>
              <a:t></a:t>
            </a:r>
            <a:r>
              <a:rPr b="0" lang="es-CL" sz="2400" spc="-1" strike="noStrike">
                <a:solidFill>
                  <a:srgbClr val="003b76"/>
                </a:solidFill>
                <a:latin typeface="Times New Roman"/>
              </a:rPr>
              <a:t>N°At =&gt; </a:t>
            </a:r>
            <a:r>
              <a:rPr b="0" lang="es-CL" sz="2400" spc="-1" strike="noStrike">
                <a:solidFill>
                  <a:srgbClr val="003b76"/>
                </a:solidFill>
                <a:latin typeface="Symbol"/>
                <a:ea typeface="Symbol"/>
              </a:rPr>
              <a:t></a:t>
            </a:r>
            <a:r>
              <a:rPr b="0" lang="es-CL" sz="2400" spc="-1" strike="noStrike">
                <a:solidFill>
                  <a:srgbClr val="003b76"/>
                </a:solidFill>
                <a:latin typeface="Times New Roman"/>
              </a:rPr>
              <a:t>R.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11040" y="177840"/>
            <a:ext cx="850104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rastes y similitudes en los Coeficientes de Partició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das las REE son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incompatible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454120" y="1679400"/>
          <a:ext cx="6550200" cy="505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4120" y="1679400"/>
                    <a:ext cx="6550200" cy="50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0" y="2136600"/>
            <a:ext cx="2612880" cy="28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HRE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nos incompatibles, especialmente en el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34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Eu</a:t>
            </a:r>
            <a:r>
              <a:rPr b="0" lang="en-US" sz="2400" spc="-1" strike="noStrike" baseline="30000">
                <a:solidFill>
                  <a:srgbClr val="ff0066"/>
                </a:solidFill>
                <a:latin typeface="Times New Roman"/>
              </a:rPr>
              <a:t>2+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e concentra en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210960"/>
            <a:ext cx="777240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agramas de R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63400" y="1108080"/>
            <a:ext cx="8188560" cy="55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áficos de concentración (eje-y) v/s número atómico creci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do de compatibilidad aumenta desde la izquierda a la derec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774800" y="3227040"/>
            <a:ext cx="0" cy="27558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-128520" y="4584240"/>
            <a:ext cx="25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ntr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36600" y="6118200"/>
            <a:ext cx="5029200" cy="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11600" y="6278400"/>
            <a:ext cx="657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 Ce  Nd  Sm  Eu  Tb  Er  Dy  Yb L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455760" y="0"/>
          <a:ext cx="8340480" cy="473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0"/>
                    <a:ext cx="8340480" cy="47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233280" y="4799160"/>
            <a:ext cx="8493120" cy="18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rmalizando a un estándar se elimina </a:t>
            </a:r>
            <a:r>
              <a:rPr b="0" lang="en-US" sz="2400" spc="-1" strike="noStrike">
                <a:solidFill>
                  <a:srgbClr val="00cc00"/>
                </a:solidFill>
                <a:latin typeface="Verdana"/>
              </a:rPr>
              <a:t>Oddo-Harkins effec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hace la escala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más fun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stimaciones de las REE del manto primord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centraciones de los meteoritos condrít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26208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¿Cómo se veria un diagrama de REE normalizado al condri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805040" y="2119320"/>
            <a:ext cx="5332320" cy="3746520"/>
            <a:chOff x="1805040" y="2119320"/>
            <a:chExt cx="5332320" cy="3746520"/>
          </a:xfrm>
        </p:grpSpPr>
        <p:sp>
          <p:nvSpPr>
            <p:cNvPr id="225" name=""/>
            <p:cNvSpPr/>
            <p:nvPr/>
          </p:nvSpPr>
          <p:spPr>
            <a:xfrm>
              <a:off x="1805040" y="2119320"/>
              <a:ext cx="5332320" cy="3746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735280" y="2430360"/>
              <a:ext cx="3801960" cy="255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35280" y="2430360"/>
              <a:ext cx="3801960" cy="25527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735280" y="2430360"/>
              <a:ext cx="1440" cy="255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35280" y="498312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35280" y="474012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35280" y="448452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35280" y="424188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35280" y="398628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735280" y="374328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35280" y="348768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735280" y="324468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35280" y="298944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735280" y="274644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35280" y="248904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35280" y="498312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35280" y="448452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735280" y="398628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35280" y="348768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35280" y="298944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35280" y="2489040"/>
              <a:ext cx="414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35280" y="4983120"/>
              <a:ext cx="3801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273528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295272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316872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384720" y="4954320"/>
              <a:ext cx="288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360216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3817800" y="495432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403560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425448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4483080" y="495432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4700520" y="495432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491652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513396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534996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556740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578340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5999040" y="495432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6216480" y="495432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273528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316872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360216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403560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4483080" y="4938480"/>
              <a:ext cx="32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491652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534996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578340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6216480" y="4938480"/>
              <a:ext cx="180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63400" y="48783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363400" y="43797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363400" y="3881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63400" y="33829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63400" y="28843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86720" y="238608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60532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03876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7184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0528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5312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8656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2000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65308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8652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6200000">
              <a:off x="1392480" y="3572280"/>
              <a:ext cx="1476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ample/chondrit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805040" y="2119320"/>
              <a:ext cx="5332320" cy="3746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84600" y="5175360"/>
              <a:ext cx="250560" cy="24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22040" y="5191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05080" y="5189400"/>
              <a:ext cx="279360" cy="249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638520" y="5189400"/>
              <a:ext cx="279360" cy="249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84560" y="5189400"/>
              <a:ext cx="266760" cy="249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543040" y="5056200"/>
              <a:ext cx="4121280" cy="53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582280" y="50752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82800" y="5105520"/>
              <a:ext cx="354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  Ce       Nd      Sm  Eu      Tb         Er        Yb  Lu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030560" y="33084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b76"/>
                  </a:solidFill>
                  <a:latin typeface="Times New Roman"/>
                </a:rPr>
                <a:t>?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43080" y="4484520"/>
            <a:ext cx="821664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Anomalía d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europio (Eu/Eu*)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uando plagioclasa 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 mineral que cristaliz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 sólido residual en la fu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30880" y="887400"/>
            <a:ext cx="26481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agrama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E de una lherzolita hipotética con 20 wt% Pg, lo que resulta en una pronunciada </a:t>
            </a: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anomalía negativa de Eu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Eu*= (Sm+Gd)/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Anomalía=Eu/Eu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90400" y="334800"/>
            <a:ext cx="5337360" cy="3857760"/>
            <a:chOff x="590400" y="334800"/>
            <a:chExt cx="5337360" cy="3857760"/>
          </a:xfrm>
        </p:grpSpPr>
        <p:pic>
          <p:nvPicPr>
            <p:cNvPr id="302" name="" descr=""/>
            <p:cNvPicPr/>
            <p:nvPr/>
          </p:nvPicPr>
          <p:blipFill>
            <a:blip r:embed="rId1"/>
            <a:stretch/>
          </p:blipFill>
          <p:spPr>
            <a:xfrm>
              <a:off x="590400" y="334800"/>
              <a:ext cx="533736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 rot="16200000">
              <a:off x="-441000" y="1884240"/>
              <a:ext cx="3232080" cy="40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0.1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	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1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	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10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	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2600" y="190440"/>
            <a:ext cx="91440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Diagramas Multielementales (Araña o “Spider”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93680" y="1065240"/>
            <a:ext cx="89503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n una extensión de la técnica de normalización utilizada en las REE hacia un mayor espectro de element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76040" y="2774880"/>
            <a:ext cx="3986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gt;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hondrite/Mantle-normalized spider diagram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on comúnmente ordenados por aumento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del grado de incompati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gt; Diferentes estimacione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iferente ordenamien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poca estandarización!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3983040" y="2328840"/>
            <a:ext cx="51609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2965320"/>
            <a:ext cx="407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ar la magnitud de los cambios en la concentración de 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elementos mayor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&lt;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062240" y="919080"/>
            <a:ext cx="5081760" cy="5938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5120" y="0"/>
            <a:ext cx="761940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Elementos Mayores ([X]&gt;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0.1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wt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%-1000 ppm) </a:t>
            </a: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Tradicionalmente son 10 (Si, Ti, Al, Fe, Mn, Mg, Ca, Na, K y P), se expresan como óxid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1. Clasificación de roc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2. Construcción de diagramas de vari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3. Métodos compara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4. Usados (+ET) en la identificación 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ambiente tectónico de formación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635040" y="63360"/>
            <a:ext cx="82598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Diagrama Spider normalizado a MOR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57280" y="685800"/>
            <a:ext cx="856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(Pearce (1983): Separa LILE y HFSE de acuerdo a su grado de incompatibilidad y a su movilidad en un medio acuo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613560" y="3948120"/>
            <a:ext cx="23479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IB graficado en un mid-ocean ridge basalt (MORB) normalized spider diagram del tipo propuesto por Pearce (1983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93680" y="1576440"/>
            <a:ext cx="6315120" cy="52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193760" y="169920"/>
            <a:ext cx="72010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Aplicación de Elementos Traza 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Sistemas Igne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1405080"/>
            <a:ext cx="77724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n usados como los elementos mayores en diagramas de variación para describir FX, asimilacíon, etc. en un set de ro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ás sensitivos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grandes variaciones durante los proce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56160" y="3336840"/>
            <a:ext cx="4587840" cy="35211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0" y="3855960"/>
            <a:ext cx="429264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Identificación de la roca fuente o de un mineral particular involucrado ya sea en procesos de fusión parcial o de Cx fraccion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2587680" y="1851120"/>
          <a:ext cx="6549840" cy="505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87680" y="1851120"/>
                    <a:ext cx="6549840" cy="50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0" y="0"/>
            <a:ext cx="8404200" cy="18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Ejm.: Kd </a:t>
            </a:r>
            <a:r>
              <a:rPr b="0" lang="en-US" sz="2400" spc="-1" strike="noStrike" baseline="-25000">
                <a:solidFill>
                  <a:srgbClr val="00cc00"/>
                </a:solidFill>
                <a:latin typeface="Times New Roman"/>
              </a:rPr>
              <a:t>HREE-Gt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&gt; 1 (</a:t>
            </a:r>
            <a:r>
              <a:rPr b="0" lang="en-US" sz="2400" spc="-1" strike="noStrike">
                <a:solidFill>
                  <a:srgbClr val="00cc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G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ncentra HRE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í, si el Gt está en equilibrio con el fundido parcial (es una fase residual en la fuente) esperaríamos una pendiente (-) fuerte en REE y especialmente en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HR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65240" y="2887560"/>
            <a:ext cx="8118000" cy="3436200"/>
            <a:chOff x="165240" y="2887560"/>
            <a:chExt cx="8118000" cy="3436200"/>
          </a:xfrm>
        </p:grpSpPr>
        <p:sp>
          <p:nvSpPr>
            <p:cNvPr id="320" name=""/>
            <p:cNvSpPr/>
            <p:nvPr/>
          </p:nvSpPr>
          <p:spPr>
            <a:xfrm>
              <a:off x="165240" y="2887560"/>
              <a:ext cx="2321280" cy="343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cc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00"/>
                  </a:solidFill>
                  <a:latin typeface="Times New Roman"/>
                </a:rPr>
                <a:t>Ejm.: Kd </a:t>
              </a:r>
              <a:r>
                <a:rPr b="0" lang="en-US" sz="2400" spc="-1" strike="noStrike" baseline="-25000">
                  <a:solidFill>
                    <a:srgbClr val="00cc00"/>
                  </a:solidFill>
                  <a:latin typeface="Times New Roman"/>
                </a:rPr>
                <a:t>Eu-Pg</a:t>
              </a:r>
              <a:r>
                <a:rPr b="0" lang="en-US" sz="2400" spc="-1" strike="noStrike">
                  <a:solidFill>
                    <a:srgbClr val="00cc00"/>
                  </a:solidFill>
                  <a:latin typeface="Times New Roman"/>
                </a:rPr>
                <a:t> Fusión parcial de un manto a poca profundidad     (&lt; 40 km) tendrá </a:t>
              </a: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plagioclasa</a:t>
              </a:r>
              <a:r>
                <a:rPr b="0" lang="en-US" sz="2400" spc="-1" strike="noStrike">
                  <a:solidFill>
                    <a:srgbClr val="00cc00"/>
                  </a:solidFill>
                  <a:latin typeface="Times New Roman"/>
                </a:rPr>
                <a:t> en el residuo y se generará  anomalía de </a:t>
              </a: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E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739280" y="4914720"/>
              <a:ext cx="543960" cy="493560"/>
            </a:xfrm>
            <a:prstGeom prst="rect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513480" y="5362560"/>
            <a:ext cx="716040" cy="1112760"/>
          </a:xfrm>
          <a:prstGeom prst="rect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"/>
          <p:cNvGrpSpPr/>
          <p:nvPr/>
        </p:nvGrpSpPr>
        <p:grpSpPr>
          <a:xfrm>
            <a:off x="173160" y="209520"/>
            <a:ext cx="4327560" cy="2917800"/>
            <a:chOff x="173160" y="209520"/>
            <a:chExt cx="4327560" cy="2917800"/>
          </a:xfrm>
        </p:grpSpPr>
        <p:sp>
          <p:nvSpPr>
            <p:cNvPr id="324" name=""/>
            <p:cNvSpPr/>
            <p:nvPr/>
          </p:nvSpPr>
          <p:spPr>
            <a:xfrm>
              <a:off x="173160" y="209520"/>
              <a:ext cx="4327560" cy="2917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73360" y="511200"/>
              <a:ext cx="3379680" cy="225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73360" y="511200"/>
              <a:ext cx="3379680" cy="225756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73360" y="511200"/>
              <a:ext cx="1440" cy="225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73360" y="2768760"/>
              <a:ext cx="28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73360" y="2544840"/>
              <a:ext cx="28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73360" y="231948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73360" y="209556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73360" y="187020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73360" y="1646280"/>
              <a:ext cx="2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73360" y="1411200"/>
              <a:ext cx="2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73360" y="1185840"/>
              <a:ext cx="2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73360" y="96228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73360" y="735120"/>
              <a:ext cx="28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73360" y="511200"/>
              <a:ext cx="28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73360" y="2768760"/>
              <a:ext cx="381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73360" y="231948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73360" y="187020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73360" y="141120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73360" y="96228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73360" y="511200"/>
              <a:ext cx="381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73360" y="2768760"/>
              <a:ext cx="33796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87336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108756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129240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150840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172260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192744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2143080" y="273996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234972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2562480" y="2739960"/>
              <a:ext cx="28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277812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298152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3197520" y="2739960"/>
              <a:ext cx="28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341316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3618000" y="273996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383220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403884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425304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873360" y="27306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1292400" y="2730600"/>
              <a:ext cx="32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1722600" y="27306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2143080" y="2730600"/>
              <a:ext cx="180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562480" y="2730600"/>
              <a:ext cx="288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81520" y="2730600"/>
              <a:ext cx="32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13160" y="2730600"/>
              <a:ext cx="32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832200" y="2730600"/>
              <a:ext cx="32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253040" y="27306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087560" y="874800"/>
              <a:ext cx="204840" cy="477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292400" y="1352520"/>
              <a:ext cx="430200" cy="30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22600" y="1656000"/>
              <a:ext cx="420480" cy="206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143080" y="1862280"/>
              <a:ext cx="2066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349720" y="1862280"/>
              <a:ext cx="428400" cy="47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778120" y="1909800"/>
              <a:ext cx="635040" cy="115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13160" y="2025720"/>
              <a:ext cx="419040" cy="11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3832200" y="1977840"/>
              <a:ext cx="206640" cy="58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70600" y="269244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70600" y="22417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70600" y="179244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70600" y="133200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70600" y="8827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02560" y="43488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3988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25964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8840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10744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52720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94732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7752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79728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21812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6200000">
              <a:off x="-155880" y="1542960"/>
              <a:ext cx="951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ample/chondrite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65360" y="2847960"/>
              <a:ext cx="372276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068120" y="2876760"/>
              <a:ext cx="311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 Ce     Nd   Sm Eu    Tb          Er     Yb Lu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909800" y="804960"/>
              <a:ext cx="185436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777680" y="816120"/>
              <a:ext cx="209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7% Ol    17% Opx    17% Cp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336920" y="3524400"/>
            <a:ext cx="4533840" cy="3270240"/>
            <a:chOff x="4336920" y="3524400"/>
            <a:chExt cx="4533840" cy="3270240"/>
          </a:xfrm>
        </p:grpSpPr>
        <p:sp>
          <p:nvSpPr>
            <p:cNvPr id="401" name=""/>
            <p:cNvSpPr/>
            <p:nvPr/>
          </p:nvSpPr>
          <p:spPr>
            <a:xfrm>
              <a:off x="4336920" y="3524400"/>
              <a:ext cx="4533840" cy="3270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060880" y="3888000"/>
              <a:ext cx="3558960" cy="23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060880" y="3888000"/>
              <a:ext cx="3558960" cy="237636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060880" y="3888000"/>
              <a:ext cx="2880" cy="237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60880" y="6264360"/>
              <a:ext cx="298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060880" y="602964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60880" y="57913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060880" y="555660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60880" y="531828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60880" y="50817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060880" y="483588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60880" y="45975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060880" y="4361040"/>
              <a:ext cx="298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060880" y="4123080"/>
              <a:ext cx="298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060880" y="388800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060880" y="6264360"/>
              <a:ext cx="410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060880" y="5791320"/>
              <a:ext cx="41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060880" y="5318280"/>
              <a:ext cx="41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060880" y="483588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060880" y="4361040"/>
              <a:ext cx="410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060880" y="388800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060880" y="6264360"/>
              <a:ext cx="35589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5060880" y="6235560"/>
              <a:ext cx="288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5286240" y="623556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550368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573084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595620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6171840" y="62355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639900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6615000" y="623556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6840360" y="623556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7067520" y="6235560"/>
              <a:ext cx="288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7281720" y="623556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751032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7737120" y="62355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795168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8178480" y="62355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8394480" y="623556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8619840" y="62355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5060880" y="6224760"/>
              <a:ext cx="288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5503680" y="622476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5956200" y="622476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6399000" y="622476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6840360" y="6224760"/>
              <a:ext cx="32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7281720" y="6224760"/>
              <a:ext cx="32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7737120" y="622476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8178480" y="622476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8619840" y="622476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286240" y="4329360"/>
              <a:ext cx="217440" cy="422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503680" y="4751640"/>
              <a:ext cx="452520" cy="309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956200" y="5061240"/>
              <a:ext cx="442800" cy="185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399000" y="5247000"/>
              <a:ext cx="216000" cy="31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615000" y="5565960"/>
              <a:ext cx="452520" cy="452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067520" y="6018480"/>
              <a:ext cx="669600" cy="154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737120" y="6172560"/>
              <a:ext cx="441360" cy="29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178480" y="6202440"/>
              <a:ext cx="216000" cy="11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746240" y="61837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746240" y="57103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746240" y="523584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746240" y="475164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746240" y="427860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680000" y="38070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02560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46948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92200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36336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80688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24896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70148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14284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58636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16200000">
              <a:off x="3994920" y="4984560"/>
              <a:ext cx="951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ample/chondrite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948200" y="6348600"/>
              <a:ext cx="3921120" cy="4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349240" y="6378840"/>
              <a:ext cx="311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 Ce     Nd   Sm Eu    Tb          Er     Yb Lu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697360" y="4196160"/>
              <a:ext cx="25732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571720" y="4206960"/>
              <a:ext cx="278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7% Ol    14% Opx    14% Cpx   14% Gr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4944960" y="1028880"/>
            <a:ext cx="3786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ecto del Granate y la Plagioclasa en los patrones de H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57240" y="3521160"/>
            <a:ext cx="4110120" cy="3290760"/>
            <a:chOff x="57240" y="3521160"/>
            <a:chExt cx="4110120" cy="3290760"/>
          </a:xfrm>
        </p:grpSpPr>
        <p:sp>
          <p:nvSpPr>
            <p:cNvPr id="479" name=""/>
            <p:cNvSpPr/>
            <p:nvPr/>
          </p:nvSpPr>
          <p:spPr>
            <a:xfrm>
              <a:off x="57240" y="3521160"/>
              <a:ext cx="4110120" cy="3290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7240" y="3521160"/>
              <a:ext cx="4110120" cy="32907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574640" y="3905280"/>
              <a:ext cx="30168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2" name=""/>
            <p:cNvGrpSpPr/>
            <p:nvPr/>
          </p:nvGrpSpPr>
          <p:grpSpPr>
            <a:xfrm>
              <a:off x="206280" y="3936960"/>
              <a:ext cx="3738240" cy="2470680"/>
              <a:chOff x="206280" y="3936960"/>
              <a:chExt cx="3738240" cy="2470680"/>
            </a:xfrm>
          </p:grpSpPr>
          <p:sp>
            <p:nvSpPr>
              <p:cNvPr id="483" name=""/>
              <p:cNvSpPr/>
              <p:nvPr/>
            </p:nvSpPr>
            <p:spPr>
              <a:xfrm>
                <a:off x="783720" y="4015440"/>
                <a:ext cx="3157560" cy="231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83720" y="4015440"/>
                <a:ext cx="3157560" cy="231660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83720" y="4015440"/>
                <a:ext cx="1440" cy="2316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3720" y="633204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83720" y="609696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83720" y="587088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83720" y="563544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83720" y="5409360"/>
                <a:ext cx="26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83720" y="517248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83720" y="4937400"/>
                <a:ext cx="26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83720" y="471348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83720" y="447840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83720" y="4252320"/>
                <a:ext cx="26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83720" y="4015440"/>
                <a:ext cx="2664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83720" y="6332040"/>
                <a:ext cx="3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83720" y="5870880"/>
                <a:ext cx="3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83720" y="5409360"/>
                <a:ext cx="35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83720" y="4937400"/>
                <a:ext cx="35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83720" y="4478400"/>
                <a:ext cx="3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83720" y="4015440"/>
                <a:ext cx="3528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83720" y="6332040"/>
                <a:ext cx="31575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78372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98532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117792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137808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157068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177228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196524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216684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>
                <a:off x="236664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255960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V="1">
                <a:off x="276084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295416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>
                <a:off x="315360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334548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354852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373968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V="1">
                <a:off x="3941280" y="6302160"/>
                <a:ext cx="32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>
                <a:off x="783720" y="62935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1177920" y="62935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1570680" y="62935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1965240" y="62935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2366640" y="62935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2760840" y="62935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3153600" y="62935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V="1">
                <a:off x="3548520" y="62935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V="1">
                <a:off x="3941280" y="6293520"/>
                <a:ext cx="32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985320" y="4563720"/>
                <a:ext cx="192600" cy="3733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177920" y="4937400"/>
                <a:ext cx="392760" cy="235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570680" y="5172480"/>
                <a:ext cx="394560" cy="196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965240" y="5369400"/>
                <a:ext cx="201240" cy="33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2166840" y="5409360"/>
                <a:ext cx="392760" cy="295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559600" y="5409360"/>
                <a:ext cx="593640" cy="127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153600" y="5537160"/>
                <a:ext cx="394560" cy="19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548520" y="5556960"/>
                <a:ext cx="191160" cy="67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89600" y="62550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89600" y="57942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89600" y="533124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89600" y="486108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6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89600" y="43981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8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28760" y="39369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16200000">
                <a:off x="-241920" y="5058360"/>
                <a:ext cx="1049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ample/chondrit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222200" y="4447080"/>
                <a:ext cx="232632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942840" y="4173480"/>
                <a:ext cx="2833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0%  Ol   15% Opx   15%  Cpx   10%Plag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7" name=""/>
            <p:cNvSpPr/>
            <p:nvPr/>
          </p:nvSpPr>
          <p:spPr>
            <a:xfrm>
              <a:off x="757440" y="6446880"/>
              <a:ext cx="3074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 Ce   Nd   Sm Eu     Tb          Er     Yb Lu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1314720" y="490680"/>
            <a:ext cx="689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Tabla: Resumen de algunos elementos traza particularmente útiles en petrología Ígne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180800" y="1112760"/>
            <a:ext cx="80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Elemen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675960" y="1095480"/>
            <a:ext cx="334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Uso como indicador petrogenét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193400" y="1549440"/>
            <a:ext cx="66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Ni, Co, C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037600" y="1511280"/>
            <a:ext cx="626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cecff"/>
                </a:solidFill>
                <a:latin typeface="Arial"/>
              </a:rPr>
              <a:t>Elementos altamente incompatibles. Ni (y Co) son concentrados en olivino, y Cr en espinel 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039400" y="1716120"/>
            <a:ext cx="4518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cecff"/>
                </a:solidFill>
                <a:latin typeface="Arial"/>
              </a:rPr>
              <a:t>clinopiroxeno. Altas concentraciones indican una fuente mantélica</a:t>
            </a: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282680" y="204624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V, T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037240" y="2046240"/>
            <a:ext cx="663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cecff"/>
                </a:solidFill>
                <a:latin typeface="Arial"/>
              </a:rPr>
              <a:t>Ambos altamente fraccionados en Fe-Ti óxidos (ilmenita o titanomagnetita). Si ellos se comport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035440" y="2249640"/>
            <a:ext cx="638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diferentemente, Probablemente el Ti se fracciono en una fase accesoria, como esfeno o rutil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283040" y="2581200"/>
            <a:ext cx="38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Zr, H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039040" y="2581200"/>
            <a:ext cx="5721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cecff"/>
                </a:solidFill>
                <a:latin typeface="Arial"/>
              </a:rPr>
              <a:t>Elementos muy incompatibles que no se sustituyen en las fases mayores silicatad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042640" y="2782800"/>
            <a:ext cx="376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(aunque ellos pueden reemplazar Ti en esfeno o rutilo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280880" y="3116160"/>
            <a:ext cx="46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Ba, R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036520" y="3116160"/>
            <a:ext cx="6140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cecff"/>
                </a:solidFill>
                <a:latin typeface="Arial"/>
              </a:rPr>
              <a:t>Elementos incompatibles que substituyen K en Feld-K, micas, o hornblenda. Rb substituy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040480" y="3317760"/>
            <a:ext cx="590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cecff"/>
                </a:solidFill>
                <a:latin typeface="Arial"/>
              </a:rPr>
              <a:t>menos fácilmente en Hb que en Feld-K y en micas, K/Ba permite distinguir estas fas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1208160" y="1406520"/>
            <a:ext cx="7548120" cy="1619280"/>
            <a:chOff x="1208160" y="1406520"/>
            <a:chExt cx="7548120" cy="1619280"/>
          </a:xfrm>
        </p:grpSpPr>
        <p:sp>
          <p:nvSpPr>
            <p:cNvPr id="564" name=""/>
            <p:cNvSpPr/>
            <p:nvPr/>
          </p:nvSpPr>
          <p:spPr>
            <a:xfrm>
              <a:off x="1208160" y="1406520"/>
              <a:ext cx="7548120" cy="1584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208160" y="1941480"/>
              <a:ext cx="754812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208160" y="3011400"/>
              <a:ext cx="754812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1282320" y="385272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S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035440" y="3852720"/>
            <a:ext cx="635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cecff"/>
                </a:solidFill>
                <a:latin typeface="Arial"/>
              </a:rPr>
              <a:t>Sustituye al Ca en plagioclasas (pero no en piroxenos), y, en menor cantidad, K en los Feld-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032560" y="4057560"/>
            <a:ext cx="673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Se comporta como elemento compatible a baja presión donde plagioclasa se forma temprano, per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036520" y="4259160"/>
            <a:ext cx="541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como incompatible a mayores presiones, donde la plagioclasa ya no es esta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281960" y="459108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R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034360" y="4591080"/>
            <a:ext cx="6718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Granate acomoda las HREE más que las LREE, y ortopiroxeno y hornblenda en menor proporció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043360" y="4791240"/>
            <a:ext cx="680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Esfeno y plagioclasa acomodan más las LREE. Eu</a:t>
            </a:r>
            <a:r>
              <a:rPr b="0" lang="en-US" sz="1200" spc="-1" strike="noStrike" baseline="30000">
                <a:solidFill>
                  <a:srgbClr val="ccecff"/>
                </a:solidFill>
                <a:latin typeface="Arial"/>
              </a:rPr>
              <a:t>2+ </a:t>
            </a: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es fuertemente fraccionado por las plagioclas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281960" y="5330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034360" y="5330880"/>
            <a:ext cx="683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cecff"/>
                </a:solidFill>
                <a:latin typeface="Arial"/>
              </a:rPr>
              <a:t>Comunmente incompatible (como HREE). Fuertemente particionado en el granate y anfíbola. Esfe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034000" y="5533920"/>
            <a:ext cx="6483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Y apatito también concentran Y, por lo tanto la presencia de ellos como accesorios podría ten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un efecto significativ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1978200" y="1030320"/>
            <a:ext cx="10800" cy="4913280"/>
            <a:chOff x="1978200" y="1030320"/>
            <a:chExt cx="10800" cy="4913280"/>
          </a:xfrm>
        </p:grpSpPr>
        <p:sp>
          <p:nvSpPr>
            <p:cNvPr id="578" name=""/>
            <p:cNvSpPr/>
            <p:nvPr/>
          </p:nvSpPr>
          <p:spPr>
            <a:xfrm>
              <a:off x="1978200" y="1030320"/>
              <a:ext cx="10800" cy="34128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978200" y="1371600"/>
              <a:ext cx="10800" cy="1584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978200" y="1387440"/>
              <a:ext cx="10800" cy="51912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78200" y="1906560"/>
              <a:ext cx="1080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78200" y="1920960"/>
              <a:ext cx="10800" cy="5205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78200" y="2441520"/>
              <a:ext cx="1080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78200" y="2455920"/>
              <a:ext cx="10800" cy="5205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78200" y="2976480"/>
              <a:ext cx="1080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78200" y="2990880"/>
              <a:ext cx="10800" cy="7239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78200" y="3714840"/>
              <a:ext cx="10800" cy="1404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78200" y="3728880"/>
              <a:ext cx="10800" cy="7257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78200" y="4465800"/>
              <a:ext cx="10800" cy="725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978200" y="5207040"/>
              <a:ext cx="10800" cy="7221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978200" y="5929200"/>
              <a:ext cx="1080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1225440" y="3745080"/>
            <a:ext cx="7548840" cy="158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225440" y="4524480"/>
            <a:ext cx="7548840" cy="140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225440" y="5245200"/>
            <a:ext cx="7548840" cy="140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0" y="6276960"/>
            <a:ext cx="584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257640" y="6243480"/>
            <a:ext cx="4292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reen (1980). Tectonophys.,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3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367-385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868200" y="2840040"/>
            <a:ext cx="1736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0" spc="-1" strike="noStrike">
                <a:solidFill>
                  <a:srgbClr val="00cc00"/>
                </a:solidFill>
                <a:latin typeface="Desdemona"/>
              </a:rPr>
              <a:t>FIN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68200" y="728640"/>
            <a:ext cx="4226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hora notar la magnitud de los cambios en la concentración de 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elementos traz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&gt;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y útiles =&gt; Alta sensibilidad en procesos de fraccion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determinan la aparición de una fase (K en Bt; K-Fel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Sustituyen a otros elemento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 los cris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692600" y="619200"/>
            <a:ext cx="438624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65200" y="369720"/>
            <a:ext cx="7772400" cy="59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Distribución de los element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imes New Roman"/>
              </a:rPr>
              <a:t>Reglas de Goldschmidt (simplísticas, pero úti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1400" indent="-484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Dos iones con la misma valencia y radio debieran intercambiarse fácilmente y entrar en una solución sólida en cantidades iguales a sus proporciones origin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1400" indent="-484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Si dos iones tienen distintos radios iónicos y la misma valencia, el más pequeño es preferencialnmente incorporado en el sólido más que en el líqui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1400" indent="-484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Si dos iones tienen radios ionicos similares pero diferente valencia, el con la carga más alta es preferencialmente incorporado en el sólido más que en el líqui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002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Fraccionamiento Químic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5520" y="1459080"/>
            <a:ext cx="847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ícese de la distribución inequitativa de un ion entre dos fases competentes (en equilibri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39840" y="3011400"/>
            <a:ext cx="855180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cambio en equilibrio de un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componente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66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tre dos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fases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sólido y líquid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K</a:t>
            </a:r>
            <a:r>
              <a:rPr b="0" lang="en-US" sz="3600" spc="-1" strike="noStrike" baseline="-25000">
                <a:solidFill>
                  <a:srgbClr val="00cc00"/>
                </a:solidFill>
                <a:latin typeface="Times New Roman"/>
              </a:rPr>
              <a:t>d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 =           =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Coeficiente de part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414240" y="3979800"/>
            <a:ext cx="1035720" cy="1258920"/>
            <a:chOff x="3414240" y="3979800"/>
            <a:chExt cx="1035720" cy="1258920"/>
          </a:xfrm>
        </p:grpSpPr>
        <p:sp>
          <p:nvSpPr>
            <p:cNvPr id="175" name=""/>
            <p:cNvSpPr/>
            <p:nvPr/>
          </p:nvSpPr>
          <p:spPr>
            <a:xfrm>
              <a:off x="3414240" y="3979800"/>
              <a:ext cx="1035720" cy="118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a </a:t>
              </a:r>
              <a:r>
                <a:rPr b="0" lang="en-US" sz="2800" spc="-1" strike="noStrike" baseline="30000">
                  <a:solidFill>
                    <a:srgbClr val="00cc00"/>
                  </a:solidFill>
                  <a:latin typeface="Times New Roman"/>
                </a:rPr>
                <a:t>solid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a </a:t>
              </a:r>
              <a:r>
                <a:rPr b="0" lang="en-US" sz="2800" spc="-1" strike="noStrike" baseline="30000">
                  <a:solidFill>
                    <a:srgbClr val="00cc00"/>
                  </a:solidFill>
                  <a:latin typeface="Times New Roman"/>
                </a:rPr>
                <a:t>liquid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49520" y="4687560"/>
              <a:ext cx="588960" cy="0"/>
            </a:xfrm>
            <a:prstGeom prst="line">
              <a:avLst/>
            </a:prstGeom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68320" y="4170240"/>
              <a:ext cx="238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-25000">
                  <a:solidFill>
                    <a:srgbClr val="00cc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68320" y="4659120"/>
              <a:ext cx="238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-25000">
                  <a:solidFill>
                    <a:srgbClr val="00cc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908600" y="3916440"/>
            <a:ext cx="1403280" cy="1361520"/>
            <a:chOff x="4908600" y="3916440"/>
            <a:chExt cx="1403280" cy="1361520"/>
          </a:xfrm>
        </p:grpSpPr>
        <p:sp>
          <p:nvSpPr>
            <p:cNvPr id="180" name=""/>
            <p:cNvSpPr/>
            <p:nvPr/>
          </p:nvSpPr>
          <p:spPr>
            <a:xfrm>
              <a:off x="4908600" y="3916440"/>
              <a:ext cx="1403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cc00"/>
                  </a:solidFill>
                  <a:latin typeface="Symbol"/>
                  <a:ea typeface="Symbol"/>
                </a:rPr>
                <a:t></a:t>
              </a: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cc00"/>
                  </a:solidFill>
                  <a:latin typeface="Times New Roman"/>
                </a:rPr>
                <a:t>X</a:t>
              </a: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 </a:t>
              </a:r>
              <a:r>
                <a:rPr b="0" lang="en-US" sz="2800" spc="-1" strike="noStrike" baseline="30000">
                  <a:solidFill>
                    <a:srgbClr val="00cc00"/>
                  </a:solidFill>
                  <a:latin typeface="Times New Roman"/>
                </a:rPr>
                <a:t>solid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cc00"/>
                  </a:solidFill>
                  <a:latin typeface="Symbol"/>
                  <a:ea typeface="Symbol"/>
                </a:rPr>
                <a:t></a:t>
              </a: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cc00"/>
                  </a:solidFill>
                  <a:latin typeface="Times New Roman"/>
                </a:rPr>
                <a:t>X</a:t>
              </a: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 </a:t>
              </a:r>
              <a:r>
                <a:rPr b="0" lang="en-US" sz="2800" spc="-1" strike="noStrike" baseline="30000">
                  <a:solidFill>
                    <a:srgbClr val="00cc00"/>
                  </a:solidFill>
                  <a:latin typeface="Times New Roman"/>
                </a:rPr>
                <a:t>liquid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4937040" y="4111560"/>
              <a:ext cx="727560" cy="1166400"/>
              <a:chOff x="4937040" y="4111560"/>
              <a:chExt cx="727560" cy="1166400"/>
            </a:xfrm>
          </p:grpSpPr>
          <p:sp>
            <p:nvSpPr>
              <p:cNvPr id="182" name=""/>
              <p:cNvSpPr/>
              <p:nvPr/>
            </p:nvSpPr>
            <p:spPr>
              <a:xfrm>
                <a:off x="4937040" y="4669920"/>
                <a:ext cx="592200" cy="1080"/>
              </a:xfrm>
              <a:prstGeom prst="line">
                <a:avLst/>
              </a:prstGeom>
              <a:ln w="93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019480" y="4127040"/>
                <a:ext cx="238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cc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006880" y="4698360"/>
                <a:ext cx="238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cc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425920" y="4111560"/>
                <a:ext cx="238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cc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419440" y="4698360"/>
                <a:ext cx="238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cc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7" name=""/>
          <p:cNvGrpSpPr/>
          <p:nvPr/>
        </p:nvGrpSpPr>
        <p:grpSpPr>
          <a:xfrm>
            <a:off x="6957720" y="3987720"/>
            <a:ext cx="1247760" cy="1248480"/>
            <a:chOff x="6957720" y="3987720"/>
            <a:chExt cx="1247760" cy="1248480"/>
          </a:xfrm>
        </p:grpSpPr>
        <p:sp>
          <p:nvSpPr>
            <p:cNvPr id="188" name=""/>
            <p:cNvSpPr/>
            <p:nvPr/>
          </p:nvSpPr>
          <p:spPr>
            <a:xfrm>
              <a:off x="6957720" y="3987720"/>
              <a:ext cx="1247760" cy="12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600" spc="-1" strike="noStrike">
                  <a:solidFill>
                    <a:srgbClr val="00cc00"/>
                  </a:solidFill>
                  <a:latin typeface="Times New Roman"/>
                </a:rPr>
                <a:t>C</a:t>
              </a:r>
              <a:r>
                <a:rPr b="0" lang="es-CL" sz="1800" spc="-1" strike="noStrike">
                  <a:solidFill>
                    <a:srgbClr val="00cc00"/>
                  </a:solidFill>
                  <a:latin typeface="Times New Roman"/>
                </a:rPr>
                <a:t>Miner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600" spc="-1" strike="noStrike">
                  <a:solidFill>
                    <a:srgbClr val="00cc00"/>
                  </a:solidFill>
                  <a:latin typeface="Times New Roman"/>
                </a:rPr>
                <a:t>C</a:t>
              </a:r>
              <a:r>
                <a:rPr b="0" lang="es-CL" sz="1800" spc="-1" strike="noStrike">
                  <a:solidFill>
                    <a:srgbClr val="00cc00"/>
                  </a:solidFill>
                  <a:latin typeface="Times New Roman"/>
                </a:rPr>
                <a:t>Fundid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149960" y="4648320"/>
              <a:ext cx="927360" cy="0"/>
            </a:xfrm>
            <a:prstGeom prst="line">
              <a:avLst/>
            </a:prstGeom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85920" y="1001880"/>
            <a:ext cx="833724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ementos 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incompatibl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n concentrados en el líquido (fundid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erdana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ó D  «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ementos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 compatibl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n concentrados en el sólido (minera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erdana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ó D »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60440" y="282600"/>
            <a:ext cx="8170920" cy="62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lementos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incompatible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comúnmente divididos en dos subgrup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High Field Strength Element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(HFSE):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Más pequeños (bajo radio iónico), alta carga, inmóviles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(REE, Th, U, Ce, Pb</a:t>
            </a:r>
            <a:r>
              <a:rPr b="0" lang="en-US" sz="2800" spc="-1" strike="noStrike" baseline="30000">
                <a:solidFill>
                  <a:srgbClr val="00cc00"/>
                </a:solidFill>
                <a:latin typeface="Verdana"/>
              </a:rPr>
              <a:t>4+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, Ti, Zr-Hf, Nb-T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Low field strength Elements (LFSE) ó Large Ion Lithophile Elements (LILE):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ja carga y alto radio iónico, móviles, particularmente cuando está involucrada una fase fluida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(K, Rb, Cs, Ba, Pb</a:t>
            </a:r>
            <a:r>
              <a:rPr b="0" lang="en-US" sz="2800" spc="-1" strike="noStrike" baseline="30000">
                <a:solidFill>
                  <a:srgbClr val="00cc00"/>
                </a:solidFill>
                <a:latin typeface="Verdana"/>
              </a:rPr>
              <a:t>2+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, Sr, Eu</a:t>
            </a:r>
            <a:r>
              <a:rPr b="0" lang="en-US" sz="2800" spc="-1" strike="noStrike" baseline="30000">
                <a:solidFill>
                  <a:srgbClr val="00cc00"/>
                </a:solidFill>
                <a:latin typeface="Verdana"/>
              </a:rPr>
              <a:t>2+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2030400" y="2403360"/>
          <a:ext cx="6006960" cy="436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0" y="2403360"/>
                    <a:ext cx="600696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243000" y="270000"/>
            <a:ext cx="89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 compatibilidad depende de los minerales y los fundidos involucrados, por lo tanto no son valores exactos (depende de cada sistema)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Qué elementos son incompatibles? Por qué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jm.: PF v/s FX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25520" y="333360"/>
            <a:ext cx="825660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Verdana"/>
              </a:rPr>
              <a:t>COMPORTAMIENTO DE LOS ELEMENTOS (K</a:t>
            </a:r>
            <a:r>
              <a:rPr b="0" lang="en-US" sz="2800" spc="-1" strike="noStrike" baseline="-25000">
                <a:solidFill>
                  <a:srgbClr val="66ccff"/>
                </a:solidFill>
                <a:latin typeface="Verdana"/>
              </a:rPr>
              <a:t>d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lementos Traza compatibles (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ólido) son fuertemente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fraccionado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n determinados miner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Verdana"/>
              </a:rPr>
              <a:t>Ni-olivino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 la Tabla = 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545000" y="3327480"/>
            <a:ext cx="459900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05:16:19Z</dcterms:created>
  <dc:creator>Luis López V.</dc:creator>
  <dc:description/>
  <dc:language>en-US</dc:language>
  <cp:lastModifiedBy>Luis López V.</cp:lastModifiedBy>
  <dcterms:modified xsi:type="dcterms:W3CDTF">2006-11-02T01:54:14Z</dcterms:modified>
  <cp:revision>2</cp:revision>
  <dc:subject/>
  <dc:title>Diapositiva 1</dc:title>
</cp:coreProperties>
</file>