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CFDC-6ECF-44D0-802C-6727A11A59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isten tres tipos principales de terraz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rrazas de ero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rrazas de acunmulación, que tienden al solevanta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rrazas de acunmulación, que tienden al entrampa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RRAZAS ALUVIALE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: están cubiertas por sedimento aluv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RRAZA FLUVIAL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: superficie plana, en contacto lateralmente con una ladera, cuyo contacto es un fuerte cambio de pend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general las terrazas más altas son las más viej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las terrazas de acumulación del tipo B las laderas proporcionan material. Son debidas a un aumento de la sequía o a un enfriamiento del clima (glaciació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terrazas de acumulación del tipo C, son debidas a cambios del nivel del mar. Se observan cerca de la cos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gure 7.10 Caption (Burbank and Anderson, 1999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fter abandonment of strath1, the river bevels a lower bench in the bedrock. This will become strath2 after more incision occurs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ates of river incision can be calculated using the age of the strath surface and the height of the strath above the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gure 7.11 Caption (Burbank and Anderson, 1999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rath terraces are shown with their cosmogenic nuclide exposure ages and their heights above the modern river level. At river level, apatite fission-track ages are shown. Note that the fission-track ages get progressively older toward the Skardu basin in the east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ncision rates versus distance along the Indus. Rates calculated from cosmogenic ages. Note that the highest rates are associated with the steepest river gradient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ates of denudation based on apatite fission-track data. Two calculations are made, each with a different geothermal gradient (35°C/km and 60°C/km). Note that the zone of maximum long-term denudation coincides with the zone of most rapid river incision. Modified after Burbank et al.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1996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na red fluvial se compone de una red con arte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uenca fluvial contiene todas las aguas que escurrirá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HACER DIBUJO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CON RED DE DRENAJE: A) RECOLECCION DE LAS AGUAS (ZONA DE EROSIÓN) TRANSFERENCIA. B) ZONA DE CONFLUENCIA (ZONA DE ACUMULACIÓN). En A todas las aguas convergen hacia un canal principal. Zona de transferencia. A y B tendrán morfologías difer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 Existe una relación directa entre la geometría y número de desarrollo de una red (1, 2, 3, 4), según Horton y ot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E67-318E-4285-B6CE-4D87B15E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BDB-7E90-4A97-8039-1E7F2734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3ED-B533-4F3F-BD36-1D488CC7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C26-E572-4F40-99C9-19993DED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C36-F52D-4FFD-AF74-98BE707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ECA-5257-440A-9A01-DBBF3DAA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2F8-5F7C-4401-B2F4-67C78762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98F-435F-43E5-BB65-CDCA88CA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23E-C42D-430F-B258-676F4F72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BF2-D7AB-446B-9B49-0C12480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65E-BEE0-4FD7-AA6A-EE338451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280-74B7-4B61-9E22-47C11ED1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1673-6223-40C7-8DAB-955392329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Erosión y depositación fluvia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sos de erosión flu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owncutt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rosión Retróg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troceso de lad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AD0-4EEF-4437-A2F9-B643F54D52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72200" y="9144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XAYA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leo-red paral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570996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3D6-D799-4B38-AF0F-EAFC5A895B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36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724280" y="4114800"/>
            <a:ext cx="1524240" cy="1676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49D-87C5-4894-806F-B915AEB2D5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4572000" y="2743200"/>
            <a:ext cx="9907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8F0-A9F4-4390-8911-3D56C3868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A32-CEC5-49FA-9FD5-3F9CEF5297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811080"/>
            <a:ext cx="7564320" cy="3506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546440"/>
            <a:ext cx="5402160" cy="2082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1498680"/>
            <a:ext cx="175248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0160" y="189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DAB-C97B-43B4-AB95-22E28FFE8A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772400" cy="334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94120" y="4124160"/>
            <a:ext cx="509760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3598920" cy="2625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3200400"/>
            <a:ext cx="106668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895480"/>
            <a:ext cx="205740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4720" y="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7E0-B7E8-42BB-955B-E762DC0D40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77480" cy="3484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CA6-1CDE-46CC-AF7C-AB168481C4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sos de depositación flu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la parte baja de un sistema de drenaje el gradiente del canal es muy bajo =&gt; el río es incapaz de transportar su ca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parte importante del sedimento se deposita formando una planicie de inund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C9D-B157-4066-8E14-70568DCD7A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61400" cy="501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CF5-CF22-4B34-9732-C20D10923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461960"/>
            <a:ext cx="3219480" cy="4633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43400" y="3367080"/>
            <a:ext cx="2951280" cy="268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96520" y="272880"/>
            <a:ext cx="49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uerza erosiva de un rí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F61-D75F-4A9A-ACD2-CA67E0C28F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59280" y="44280"/>
            <a:ext cx="277020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C77-6B77-4FE0-A197-FA74BC129C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240" y="0"/>
            <a:ext cx="5751720" cy="678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3920" y="228600"/>
            <a:ext cx="2057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0760" y="365040"/>
            <a:ext cx="49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AZ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EROSIÓN (Paread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n escalonadas y tienen muy poca acu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43360" y="1197000"/>
            <a:ext cx="528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AZAS DE ACUMULACIÓN (tipo aluvi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Tienen tendencia a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olevantamien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e produc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 zonas de alzamiento tectónic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4040" y="2133720"/>
            <a:ext cx="534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 Tienen tendencia a la subsidencia y a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ampamien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Disminución de la capacidad de evacuación, en zonas relativamente est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42560" y="3048120"/>
            <a:ext cx="42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AZAS DE TRASLA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sucesión de relleno y corte par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17000" y="373392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RRAZAS NO PARE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7800" y="4495680"/>
            <a:ext cx="310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º) subsi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) predominio de la dise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80360" y="3645000"/>
            <a:ext cx="934920" cy="5760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3789360"/>
            <a:ext cx="934920" cy="5763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4437000"/>
            <a:ext cx="935280" cy="5763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63D-0817-4478-9038-0BC089921A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4041720" cy="48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F61-B948-4CA2-A0EA-31F119E501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3713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33040" y="65088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RDENES EN LAS REDES FLUV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Fig. 9.34. Métodos para determinar las jerarquías en una red de drenaje: (a) Horton (1945); (b) Strahler (1952); (c) Shreve (1967); (d) Scheidegger (1970); (e) Leopold et al. (1964), el punteado (A) representa un área drenada por el canal de 3er orden y que no contribuye ni a los canales de primer o segundo ord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663-0AFA-48B7-9332-B18B1BFEA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15:03:27Z</dcterms:created>
  <dc:creator>Carlos Palacios M.</dc:creator>
  <dc:description/>
  <dc:language>en-US</dc:language>
  <cp:lastModifiedBy>usr45pr06</cp:lastModifiedBy>
  <dcterms:modified xsi:type="dcterms:W3CDTF">2006-10-17T22:17:11Z</dcterms:modified>
  <cp:revision>170</cp:revision>
  <dc:subject/>
  <dc:title>Aguas superficiales y subterráneas</dc:title>
</cp:coreProperties>
</file>