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5FD2-D0B2-4F1D-A813-DDBD7574D76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isten tres tipos principales de terraz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rrazas de ero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rrazas de acunmulación, que tienden al solevanta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rrazas de acunmulación, que tienden al entrampa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ERRAZAS ALUVIALE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: están cubiertas por sedimento aluv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ERRAZA FLUVIAL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: superficie plana, en contacto lateralmente con una ladera, cuyo contacto es un fuerte cambio de pend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 general las terrazas más altas son las más viej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las terrazas de acumulación del tipo B las laderas proporcionan material. Son debidas a un aumento de la sequía o a un enfriamiento del clima (glaciació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terrazas de acumulación del tipo C, son debidas a cambios del nivel del mar. Se observan cerca de la cos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igure 7.10 Caption (Burbank and Anderson, 1999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fter abandonment of strath1, the river bevels a lower bench in the bedrock. This will become strath2 after more incision occurs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ates of river incision can be calculated using the age of the strath surface and the height of the strath above the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igure 7.11 Caption (Burbank and Anderson, 1999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Strath terraces are shown with their cosmogenic nuclide exposure ages and their heights above the modern river level. At river level, apatite fission-track ages are shown. Note that the fission-track ages get progressively older toward the Skardu basin in the east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Incision rates versus distance along the Indus. Rates calculated from cosmogenic ages. Note that the highest rates are associated with the steepest river gradient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ates of denudation based on apatite fission-track data. Two calculations are made, each with a different geothermal gradient (35°C/km and 60°C/km). Note that the zone of maximum long-term denudation coincides with the zone of most rapid river incision. Modified after Burbank et al.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(1996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Una red fluvial se compone de una red con arte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uenca fluvial contiene todas las aguas que escurrirá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HACER DIBUJ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CON RED DE DRENAJE: A) RECOLECCION DE LAS AGUAS (ZONA DE EROSIÓN) TRANSFERENCIA. B) ZONA DE CONFLUENCIA (ZONA DE ACUMULACIÓN). En A todas las aguas convergen hacia un canal principal. Zona de transferencia. A y B tendrán morfologías diferen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 Existe una relación directa entre la geometría y número de desarrollo de una red (1, 2, 3, 4), según Horton y otr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AD3E-7E46-47EB-99DD-D564CE86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DF7-7243-4D63-AD2F-4CC0FA4A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A04-A0A6-42DD-9D7E-8D997A01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4CF9-BC52-48F4-9D47-FF5A47AE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ACE-A51D-4506-8F72-8F66808B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A419-A9E6-4C70-8E07-F257F7B0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B2E-25EB-41BC-8654-17FDB743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279-7A56-498C-B511-8CD4DE90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594B-2872-4589-ACFE-207A7533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1A71-271C-4513-A49D-BF7F4D06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AFB-31AB-4C51-97A0-42C798BB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ED9-0326-4B9D-BEA8-8CC140F4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EE8A-C4B1-4A43-B62D-6F6BF96098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Erosión y depositación fluvial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ocesos de erosión flu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owncuttin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rosión Retrógr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troceso de lad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4C21-4A23-428F-89F9-E7A7D85F30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72200" y="9144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XAYA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leo-red paral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570996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6024-E449-4299-8743-4A6EB4D581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10960"/>
            <a:ext cx="9144000" cy="6436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724280" y="4114800"/>
            <a:ext cx="1524240" cy="1676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7FFA-CD11-43D4-AF41-22A072FFC7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60600" y="0"/>
            <a:ext cx="60228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H="1">
            <a:off x="4572000" y="2743200"/>
            <a:ext cx="9907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B4F-1B33-4367-80F3-654B15CDDC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C59-65DF-4BC5-8F1E-5E5394BB29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811080"/>
            <a:ext cx="7564320" cy="3506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4546440"/>
            <a:ext cx="5402160" cy="2082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1498680"/>
            <a:ext cx="1752480" cy="761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0160" y="1890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9C16-02A8-4E56-80D7-7285CF062C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7772400" cy="3346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94120" y="4124160"/>
            <a:ext cx="5097600" cy="2625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52280" y="4114800"/>
            <a:ext cx="3598920" cy="2625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19320" y="3200400"/>
            <a:ext cx="1066680" cy="762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2895480"/>
            <a:ext cx="205740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4720" y="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BDE-C385-401F-A1BE-F21998631A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77480" cy="3484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DC4-97B1-43F3-AE28-5A32E53CF5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5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ocesos de depositación flu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n la parte baja de un sistema de drenaje el gradiente del canal es muy bajo =&gt; el río es incapaz de transportar su car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Una parte importante del sedimento se deposita formando una planicie de inund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164-534B-483B-B95D-B73E547CFD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961400" cy="501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1D96-3D40-46E0-9D38-CBC21991F5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461960"/>
            <a:ext cx="3219480" cy="4633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343400" y="3367080"/>
            <a:ext cx="2951280" cy="268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96520" y="272880"/>
            <a:ext cx="49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uerza erosiva de un rí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E13A-5644-4558-BD47-D0FFCE25D9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59280" y="44280"/>
            <a:ext cx="2770200" cy="66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1EA-73BB-414F-9726-872492CED8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240" y="0"/>
            <a:ext cx="5751720" cy="6781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33920" y="228600"/>
            <a:ext cx="20574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0760" y="365040"/>
            <a:ext cx="49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RAZA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EROSIÓN (Paread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n escalonadas y tienen muy poca acu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43360" y="1197000"/>
            <a:ext cx="528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RAZAS DE ACUMULACIÓN (tipo aluvi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) Tienen tendencia al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olevantamient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Se produc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 zonas de alzamiento tectónic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94040" y="2133720"/>
            <a:ext cx="534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) Tienen tendencia a la subsidencia y al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ntrampamient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Disminución de la capacidad de evacuación, en zonas relativamente estab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42560" y="3048120"/>
            <a:ext cx="42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RAZAS DE TRASLA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e sucesión de relleno y corte par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17000" y="373392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RRAZAS NO PARE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17800" y="4495680"/>
            <a:ext cx="310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BIN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º) subsi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º) predominio de la dise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80360" y="3645000"/>
            <a:ext cx="934920" cy="57600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3789360"/>
            <a:ext cx="934920" cy="57636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4437000"/>
            <a:ext cx="935280" cy="57636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548-52E7-40D3-B1AF-490813D0DC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84360" y="981000"/>
            <a:ext cx="4041720" cy="482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1EA-9067-4C8C-B41B-925D0B6F2C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3713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33040" y="650880"/>
            <a:ext cx="57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RDENES EN LAS REDES FLUV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Fig. 9.34. Métodos para determinar las jerarquías en una red de drenaje: (a) Horton (1945); (b) Strahler (1952); (c) Shreve (1967); (d) Scheidegger (1970); (e) Leopold et al. (1964), el punteado (A) representa un área drenada por el canal de 3er orden y que no contribuye ni a los canales de primer o segundo ord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5C63-E7BE-4723-BCF6-E466DF3B6C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15:03:27Z</dcterms:created>
  <dc:creator>Carlos Palacios M.</dc:creator>
  <dc:description/>
  <dc:language>en-US</dc:language>
  <cp:lastModifiedBy>usr45pr06</cp:lastModifiedBy>
  <dcterms:modified xsi:type="dcterms:W3CDTF">2006-10-17T22:17:11Z</dcterms:modified>
  <cp:revision>170</cp:revision>
  <dc:subject/>
  <dc:title>Aguas superficiales y subterráneas</dc:title>
</cp:coreProperties>
</file>