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4FFB-9468-49FF-802E-EB99ABFAF5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isten tres tipos principales de terraz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rrazas de ero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rrazas de acunmulación, que tienden al solevanta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rrazas de acunmulación, que tienden al entrampa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ERRAZAS ALUVIALE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: están cubiertas por sedimento aluv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ERRAZA FLUVIAL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: superficie plana, en contacto lateralmente con una ladera, cuyo contacto es un fuerte cambio de pend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general las terrazas más altas son las más viej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las terrazas de acumulación del tipo B las laderas proporcionan material. Son debidas a un aumento de la sequía o a un enfriamiento del clima (glaciació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terrazas de acumulación del tipo C, son debidas a cambios del nivel del mar. Se observan cerca de la cos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gure 7.10 Caption (Burbank and Anderson, 1999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fter abandonment of strath1, the river bevels a lower bench in the bedrock. This will become strath2 after more incision occurs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ates of river incision can be calculated using the age of the strath surface and the height of the strath above the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gure 7.11 Caption (Burbank and Anderson, 1999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rath terraces are shown with their cosmogenic nuclide exposure ages and their heights above the modern river level. At river level, apatite fission-track ages are shown. Note that the fission-track ages get progressively older toward the Skardu basin in the east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ncision rates versus distance along the Indus. Rates calculated from cosmogenic ages. Note that the highest rates are associated with the steepest river gradient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ates of denudation based on apatite fission-track data. Two calculations are made, each with a different geothermal gradient (35°C/km and 60°C/km). Note that the zone of maximum long-term denudation coincides with the zone of most rapid river incision. Modified after Burbank et al.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1996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Una red fluvial se compone de una red con arte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uenca fluvial contiene todas las aguas que escurrirá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HACER DIBUJ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CON RED DE DRENAJE: A) RECOLECCION DE LAS AGUAS (ZONA DE EROSIÓN) TRANSFERENCIA. B) ZONA DE CONFLUENCIA (ZONA DE ACUMULACIÓN). En A todas las aguas convergen hacia un canal principal. Zona de transferencia. A y B tendrán morfologías difer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 Existe una relación directa entre la geometría y número de desarrollo de una red (1, 2, 3, 4), según Horton y ot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747-9144-4E98-A2F9-38EAC67E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2FA-6490-4F33-87A0-7C9D749F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F2F-82E5-4881-A624-E89B6559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772-533B-42C5-8CB6-520458BB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935-4209-4871-B51B-54F6B00D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DB7-90D2-4BB1-B162-63783362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3BA-6B6D-4846-9054-38E0ADC3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03B-2245-4957-9380-C84E15B8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CD1-0803-41C1-88A8-A20CF418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C8D-A97B-4368-834E-4CDD056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F7E-11C1-4580-85BA-B41A33AF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B84-3D25-449E-886F-11D80D3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4444-A588-404F-AC9F-20ACF778F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Erosión y depositación fluvia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cesos de erosión flu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owncutt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rosión Retróg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troceso de lad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EA7-B0AC-4E55-9243-7119D4D815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72200" y="9144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XAYA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leo-red paral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570996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31E-6A0E-4596-9CA5-2A5DEDE6FF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436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724280" y="4114800"/>
            <a:ext cx="1524240" cy="1676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2A2-CDB8-4EC2-B499-4E00DF94DB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606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4572000" y="2743200"/>
            <a:ext cx="9907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ECA-504C-43EB-A564-3AA990BEBD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AA9-D1AD-4A75-AAF0-C46E4E121C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811080"/>
            <a:ext cx="7564320" cy="3506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546440"/>
            <a:ext cx="5402160" cy="2082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1498680"/>
            <a:ext cx="175248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0160" y="1890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DAA-20AF-455F-93D9-336589918C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772400" cy="3346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94120" y="4124160"/>
            <a:ext cx="5097600" cy="262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3598920" cy="2625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3200400"/>
            <a:ext cx="106668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2895480"/>
            <a:ext cx="205740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4720" y="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8DA-A95C-4ECE-820D-EF1877DF7C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77480" cy="3484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859-1844-4006-84F3-B2798F2206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cesos de depositación flu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 la parte baja de un sistema de drenaje el gradiente del canal es muy bajo =&gt; el río es incapaz de transportar su car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na parte importante del sedimento se deposita formando una planicie de inund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BBA-20B5-4AB4-B557-81283CD1A1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61400" cy="501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4ED-A9F5-42EB-A91B-A390106C71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461960"/>
            <a:ext cx="3219480" cy="4633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43400" y="3367080"/>
            <a:ext cx="2951280" cy="268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96520" y="272880"/>
            <a:ext cx="49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uerza erosiva de un rí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C80-F39B-4C61-8604-4A535B680B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59280" y="44280"/>
            <a:ext cx="277020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A20-FE21-486F-B180-21651A535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240" y="0"/>
            <a:ext cx="5751720" cy="6781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33920" y="228600"/>
            <a:ext cx="2057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0760" y="365040"/>
            <a:ext cx="49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AZA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EROSIÓN (Paread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n escalonadas y tienen muy poca acu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43360" y="1197000"/>
            <a:ext cx="528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AZAS DE ACUMULACIÓN (tipo aluvi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Tienen tendencia al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olevantamien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e produc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 zonas de alzamiento tectónic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94040" y="2133720"/>
            <a:ext cx="534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 Tienen tendencia a la subsidencia y al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trampamien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Disminución de la capacidad de evacuación, en zonas relativamente est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42560" y="3048120"/>
            <a:ext cx="42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AZAS DE TRASLA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 sucesión de relleno y corte par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17000" y="373392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RRAZAS NO PARE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7800" y="4495680"/>
            <a:ext cx="310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º) subsi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º) predominio de la dise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80360" y="3645000"/>
            <a:ext cx="934920" cy="57600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3789360"/>
            <a:ext cx="934920" cy="57636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4437000"/>
            <a:ext cx="935280" cy="57636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228-3D2E-434D-AFA6-71DA894BA5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4041720" cy="482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20A-E8BB-47B4-9BFF-C8542F5ADB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3713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33040" y="65088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RDENES EN LAS REDES FLUV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Fig. 9.34. Métodos para determinar las jerarquías en una red de drenaje: (a) Horton (1945); (b) Strahler (1952); (c) Shreve (1967); (d) Scheidegger (1970); (e) Leopold et al. (1964), el punteado (A) representa un área drenada por el canal de 3er orden y que no contribuye ni a los canales de primer o segundo ord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A6C-180E-4413-82AF-6B8C10ECB9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15:03:27Z</dcterms:created>
  <dc:creator>Carlos Palacios M.</dc:creator>
  <dc:description/>
  <dc:language>en-US</dc:language>
  <cp:lastModifiedBy>usr45pr06</cp:lastModifiedBy>
  <dcterms:modified xsi:type="dcterms:W3CDTF">2006-10-17T22:17:11Z</dcterms:modified>
  <cp:revision>170</cp:revision>
  <dc:subject/>
  <dc:title>Aguas superficiales y subterráneas</dc:title>
</cp:coreProperties>
</file>