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8996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6AC7-A643-4298-9EA7-86FC9C14E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4D60-0AC6-49B6-A98E-B504567C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53F7-095F-4F9D-9A34-6C5B602FA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E3A1-B51D-4C76-9AC2-95B89D3D3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E51A-C507-40CA-8402-350052DE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676A-B65B-49F4-8BB6-41C86CE3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F027-D1E4-49BF-BFD4-05CBBEA3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B2ED-C781-4938-992E-B3F0113E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EF59-5A07-474C-85D8-CA4CC29C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3A6C-CC84-468D-A44C-3E871367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ECCD-195B-4EAF-810F-75E8424B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9E2E-B7D9-462B-BA8C-A38C57AB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CC6B-A43C-435F-8753-8514B2984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3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0b3"/>
                </a:solidFill>
                <a:latin typeface="Times New Roman"/>
              </a:rPr>
              <a:t>Alteración Hidroterma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VI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0b3"/>
                </a:solidFill>
                <a:uFillTx/>
                <a:latin typeface="Times New Roman"/>
              </a:rPr>
              <a:t>Clasificación de Alteración Hidrotermal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(Meyer y Hemley, 1967)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Propilítica: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Presencia de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epidota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y/o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clorita,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comúnmente se presentan también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albita, calcita y pirit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a. Bajo grado de hidrólisis de los minerales de las rocas </a:t>
            </a:r>
            <a:r>
              <a:rPr b="0" lang="es-ES_tradnl" sz="20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posición margi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Argílica Intermedia: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Importantes cantidades de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caolinita, montmorillonita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,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smectita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o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arcillas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amorfas reemplazando a plagioclasas. Puede haber sericita acompañando a las arcillas; el feldespato potásico fresco argilizado. Grado más alto de hidrólisis relativo a la alteración propilí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Sericítica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o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cuarzo-sericític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: Ambos feldespatos (plagioclasas y feldespato potásico) transformados principalmente a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sericita y cuarz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o, con cantidades menores de caolinita. Minerales máficos también están completamente destruidos en este tipo de alte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IX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0b3"/>
                </a:solidFill>
                <a:uFillTx/>
                <a:latin typeface="Times New Roman"/>
              </a:rPr>
              <a:t>Clasificación de Alteración Hidrotermal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 (Meyer y Hemley, 1967)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Argílica avanzada: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Minerales transformados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a dickita, caolinita, pirofilita, diásporo, alunita y cuarzo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. Ataque hidrolítico extremo de las rocas en que incluso se rompen los fuertes enlaces del aluminio en los silicatos originando sulfato de Al (alunita) y óxidos de Al (diásporo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Potásica: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Alteración de plagioclasas y minerales máficos a feldespato potásico y/o biotita. Intercambio catiónico (cambio de base) con la adición de K: No implica hidrólisis </a:t>
            </a:r>
            <a:r>
              <a:rPr b="0" lang="es-ES_tradnl" sz="20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ocurre en condiciones de pH neutro o alcalino a altas temperaturas: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Alteración Tardimagmática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y se presenta en la porción central o núcleo de zonas alteradas ligadas al emplazamiento de plutones intrus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Alteración Sódico-Cálcica Carten (1986):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asociación de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actinolita, albita-oligoclasa- andesina, epidota, magnetita, clorita, cuarzo, escapolita.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ocurre en la porción profunda de pórfidos cupríferos y se desarrolla en forma simultánea con la alteración potásica a niveles más al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X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3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0b3"/>
                </a:solidFill>
                <a:uFillTx/>
                <a:latin typeface="Times New Roman"/>
              </a:rPr>
              <a:t>Clasificación de Alteración Hidrote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Alteración tipo skarn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:  transformación de rocas carbonatadas (calizas, dolomitas) a minerales </a:t>
            </a: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calcosilicatados 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en zonas adyacentes a intrusivos. Presencia de </a:t>
            </a: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granates (andradita y grosularita), wollastonita, epidota, diópsido, idocrasa, clorita, actinolita.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Carbonatos Magnésicos (dolomitas): incluye:</a:t>
            </a: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 forsterita, serpentina, talco,tremolita, clorit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a. Uso generalizado para depósitos minerales relacionados a fenómenos de metamorfismo de contacto y metasomatismo ligados a intrusiones que cortan secuencias de rocas carbonatadas. litología original es determinante en la asociación mineral resul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¿Pregunta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743200" y="1066680"/>
          <a:ext cx="3584520" cy="510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1066680"/>
                    <a:ext cx="3584520" cy="51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0b3"/>
                </a:solidFill>
                <a:latin typeface="Times New Roman"/>
              </a:rPr>
              <a:t>Término general</a:t>
            </a:r>
            <a:r>
              <a:rPr b="0" lang="en-US" sz="36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 respuesta mineral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textural y quí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0b3"/>
                </a:solidFill>
                <a:latin typeface="Times New Roman"/>
              </a:rPr>
              <a:t>Cambio ambiental</a:t>
            </a:r>
            <a:r>
              <a:rPr b="0" lang="en-US" sz="36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térmicos químicos y ter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presencia de agua caliente, vapor o gas</a:t>
            </a:r>
            <a:r>
              <a:rPr b="0" lang="en-US" sz="1600" spc="-1" strike="noStrike">
                <a:solidFill>
                  <a:srgbClr val="fff0b3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0b3"/>
                </a:solidFill>
                <a:latin typeface="Times New Roman"/>
              </a:rPr>
              <a:t>Ocurre a través de</a:t>
            </a:r>
            <a:r>
              <a:rPr b="0" lang="en-US" sz="3600" spc="-1" strike="noStrike">
                <a:solidFill>
                  <a:srgbClr val="fff0b3"/>
                </a:solidFill>
                <a:latin typeface="Times New Roman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transformación de fases minerales</a:t>
            </a: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crecimiento de nuevos minerales, disolución de minerales y/o precipitación</a:t>
            </a: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-reacciones de intercambio iónico entre los minerales constituyentes de una roca y el fluido caliente que circuló por la misma</a:t>
            </a: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Composición litológica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influencia en la mineralogía hidrotermal: efecto menor que permeabilidad, temperatura y composición del flui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Tº y pH del fluido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factores más relevantes en la asociación mineralógica resultante de los procesos de alteración hidrote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Orden relativo de susceptibilidad a alteración de los minerales: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Olivino &gt; magnetita &gt; hiperstena &gt; hornblenda &gt; biotita = plagiocl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Cuarzo no se altera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Recristalización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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300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Característica AH: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conversión de un conjunto mineral inicial en una nueva asociación de minerales estable bajo condiciones hidrotermales de temperatura, presión y composición de flu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I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Involucra circulación de volúmenes relativamente grandes de fluidos calientes atravesando las rocas permeables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presencia de fisuras o poros interconect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fluido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considerablemente fuera de equilibrio termodinámico con las rocas adyacentes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modificaciones en la composición mineralógica original de las ro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Facto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TEMPERATURA: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más caliente &gt; efecto sobre la mineralogía origi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COMPOSICIÓN DEL FLUIDO (pH):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menor pH, mayor ef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PERMEABILIDAD: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fluidos </a:t>
            </a:r>
            <a:r>
              <a:rPr b="1" lang="es-ES_tradnl" sz="20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 fracturamiento hidráulico de las rocas o disolución de minerales </a:t>
            </a:r>
            <a:r>
              <a:rPr b="1" lang="es-ES_tradnl" sz="20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 PERMEABILIDAD SECUND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DURACIÓN Y VARIACIONES INTERACCIÓN AGUA/ROCA: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mayor volumen circulación aguas calientes y mayor tiempo </a:t>
            </a:r>
            <a:r>
              <a:rPr b="1" lang="es-ES_tradnl" sz="20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 modificaciones mineralógicas más comple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Facto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0b3"/>
                </a:solidFill>
                <a:latin typeface="Times New Roman"/>
              </a:rPr>
              <a:t>-COMPOSICIÓN DE LA ROCA: distintos minerales tienen susceptibilidad </a:t>
            </a:r>
            <a:r>
              <a:rPr b="1" lang="en-US" sz="2400" spc="-1" strike="noStrike">
                <a:solidFill>
                  <a:srgbClr val="fff0b3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fff0b3"/>
                </a:solidFill>
                <a:latin typeface="Times New Roman"/>
              </a:rPr>
              <a:t> a ser alterados. Alteraciones intensas </a:t>
            </a:r>
            <a:r>
              <a:rPr b="1" lang="en-US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0b3"/>
                </a:solidFill>
                <a:latin typeface="Times New Roman"/>
              </a:rPr>
              <a:t> mineralogía resultante esencialmente independiente del tipo de roca original</a:t>
            </a:r>
            <a:r>
              <a:rPr b="1" lang="en-US" sz="2000" spc="-1" strike="noStrike">
                <a:solidFill>
                  <a:srgbClr val="fff0b3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0b3"/>
                </a:solidFill>
                <a:latin typeface="Times New Roman"/>
              </a:rPr>
              <a:t>PRESIÓN: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0b3"/>
                </a:solidFill>
                <a:latin typeface="Times New Roman"/>
              </a:rPr>
              <a:t>efecto indirecto </a:t>
            </a:r>
            <a:r>
              <a:rPr b="1" lang="en-US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0b3"/>
                </a:solidFill>
                <a:latin typeface="Times New Roman"/>
              </a:rPr>
              <a:t> procesos secundarios: profundidad de ebullición de fluidos, fracturamiento hidráulico (generación de brechas hidrotermales) y erupción o explosiones hidroterm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0b3"/>
                </a:solidFill>
                <a:latin typeface="Symbol"/>
                <a:ea typeface="Symbol"/>
              </a:rPr>
              <a:t></a:t>
            </a:r>
            <a:r>
              <a:rPr b="0" lang="en-US" sz="32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0b3"/>
                </a:solidFill>
                <a:latin typeface="Times New Roman"/>
              </a:rPr>
              <a:t>T y composición del fluido hidrotermal: más import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b3"/>
                </a:solidFill>
                <a:latin typeface="Times New Roman"/>
              </a:rPr>
              <a:t>Alteración Pervasiva </a:t>
            </a: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se refiere a aquella en que una roca está completamente alterada en todo su vo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0b3"/>
                </a:solidFill>
                <a:latin typeface="Times New Roman"/>
              </a:rPr>
              <a:t>Alteración Hidrotermal (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0b3"/>
                </a:solidFill>
                <a:latin typeface="Times New Roman"/>
              </a:rPr>
              <a:t>Procesos debidos a la alteración hidrote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-Depositación directa: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minerales se depositan directamente a partir de soluciones hidrotermales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fluido pueda moverse dentro de ro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Ej: diaclasas, fallas, fracturas hidráulicas, discordancias, zonas brechosas, huecos, poros y fisu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-Reemplazo:</a:t>
            </a:r>
            <a:r>
              <a:rPr b="0" lang="es-ES_tradnl" sz="36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Minerales de las rocas inestables a ambiente hidrotermal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reemplazo por nuevos minerales estables en nuevas cond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Lixiviación: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Componentes químicos de las rocas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extraídos por fluidos hidrotermales al atravesarlas (cationes metálicos)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roca deprimida en dichos componentes o lixivi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Ej: Textura cuarzo Oquerosa (Vuggy Silica): condensación vapor acidificado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por oxidación de H2S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H2SO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0b3"/>
                </a:solidFill>
                <a:latin typeface="Times New Roman"/>
              </a:rPr>
              <a:t>Clasificación de Alteración Hidrote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0b3"/>
                </a:solidFill>
                <a:latin typeface="Times New Roman"/>
              </a:rPr>
              <a:t>Método más simple </a:t>
            </a:r>
            <a:r>
              <a:rPr b="0" lang="es-ES_tradnl" sz="32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fff0b3"/>
                </a:solidFill>
                <a:latin typeface="Times New Roman"/>
              </a:rPr>
              <a:t> utilización del mineral más abundante y más obvio en roca alterada. </a:t>
            </a:r>
            <a:r>
              <a:rPr b="0" lang="es-ES_tradnl" sz="2800" spc="-1" strike="noStrike" u="sng">
                <a:solidFill>
                  <a:srgbClr val="fff0b3"/>
                </a:solidFill>
                <a:uFillTx/>
                <a:latin typeface="Times New Roman"/>
              </a:rPr>
              <a:t>Denominación  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                 </a:t>
            </a:r>
            <a:r>
              <a:rPr b="0" lang="es-ES_tradnl" sz="2800" spc="-1" strike="noStrike" u="sng">
                <a:solidFill>
                  <a:srgbClr val="fff0b3"/>
                </a:solidFill>
                <a:uFillTx/>
                <a:latin typeface="Times New Roman"/>
              </a:rPr>
              <a:t>Presencia dominante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Silicificación                           sílice o cuar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Sericitización                          seric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Argilización                            minerales de arci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Cloritización                           clor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Epidotización                          epido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Actinolitización                      actinol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0b3"/>
                </a:solidFill>
                <a:latin typeface="Times New Roman"/>
              </a:rPr>
              <a:t>Alteración Hidrotermal (V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0b3"/>
                </a:solidFill>
                <a:latin typeface="Times New Roman"/>
              </a:rPr>
              <a:t>Reacciones de Hidróli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Estabilidad de feldespatos, micas y arcillas en procesos de alteración hidrotermal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comúnmente controlada por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hidrólisis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Minerales a solucion: K + , Na + , Ca 2+ , y otros cationes 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H +: fases sólidas rema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La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hidrólisis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es una reacción de descomposición que involucra la participación de ag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En geología: reacción entre minerales silicatados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agua pura o solución acuosa, iones H + y OH -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consumidos select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H + + OH - = H2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Importantes en procesos de alteración hidrotermal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y algunos tipos de alteraciones son el resultado de distinto grado de hidrólisis de los minerales constituyentes de las ro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V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0b3"/>
                </a:solidFill>
                <a:latin typeface="Times New Roman"/>
              </a:rPr>
              <a:t>Reacciones de Hidróli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Andesina 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                       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seric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0.75 Na2CaAl4Si8O24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2H +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+ K + = KAl3Si3O10(OH)2 +1.5 Na+ + 0.75 Ca 2+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3Si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Sericita (mica potásica)                               caolin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KAl3Si3O10(OH)2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H +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+ 1.5 H2O = 1.5 Al2Si2O5(OH)4 + K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Andesina                                           caolinita               cuar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Na2CaAl4Si8O24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4H +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+ 2H2O = 2 Al2Si2O5(OH)4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4SiO2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+ 2Na + + Ca 2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Sericita                                                 alunita               cuar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KAl3Si3O10(OH)2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4H +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+ 2SO 2- = KAl3(SO4)2(OH)6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3Si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                            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ácido sulfú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4:31:41Z</dcterms:created>
  <dc:creator>Natalia Astudillo</dc:creator>
  <dc:description/>
  <dc:language>en-US</dc:language>
  <cp:lastModifiedBy>Valeria</cp:lastModifiedBy>
  <cp:lastPrinted>2003-08-10T22:33:46Z</cp:lastPrinted>
  <dcterms:modified xsi:type="dcterms:W3CDTF">2006-08-15T22:57:11Z</dcterms:modified>
  <cp:revision>6</cp:revision>
  <dc:subject/>
  <dc:title>Alteración Hidrotermal</dc:title>
</cp:coreProperties>
</file>