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89963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339E-2C4C-43CC-BA62-6892A93BE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9CD4-E777-4953-8719-CF115CC6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D048-F8DA-4D14-8A20-5B03F7B8D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77CF-F7B1-4EE0-824D-9923C99A3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EEDC-E175-4F6F-B2DF-86137C7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721E-93CC-4E23-B736-BA7D08DC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6152-6941-4511-AD22-51265801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95D1-DE00-4D52-804F-2E86B78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03F-889E-4334-A63E-9D5454350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9FE-1D32-4AF3-BE9A-33E051EC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E48D-78E7-4213-8EB5-93FB050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EF5-6289-4B31-A4F2-0919C2B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E1BC0-7A17-41B1-AC3B-133C84715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0b3"/>
                </a:solidFill>
                <a:latin typeface="Times New Roman"/>
              </a:rPr>
              <a:t>Alteración Hidroterma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ropilítica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Presencia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epido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y/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lorita,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comúnmente se presentan también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bita, calcita y pirit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. Bajo grado de hidrólisis de los minerales de las roca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posición mar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Intermedi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Importantes cantidades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caolinita, montmorillonit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mectita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rcillas 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amorfas reemplazando a plagioclasas. Puede haber sericita acompañando a las arcillas; el feldespato potásico fresco argilizado. Grado más alto de hidrólisis relativo a la alteración propi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ítica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uarzo-sericític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: Ambos feldespatos (plagioclasas y feldespato potásico) transformados principalmente a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sericita y cuarz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o, con cantidades menores de caolinita. Minerales máficos también están completamente destruidos en este tipo de alt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(Meyer y Hemley, 1967)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rgílica avanzad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Minerales transformados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 dickita, caolinita, pirofilita, diásporo, alunita y cuarzo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. Ataque hidrolítico extremo de las rocas en que incluso se rompen los fuertes enlaces del aluminio en los silicatos originando sulfato de Al (alunita) y óxidos de Al (diáspo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tásica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lteración de plagioclasas y minerales máficos a feldespato potásico y/o biotita. Intercambio catiónico (cambio de base) con la adición de K: No implica hidrólisis </a:t>
            </a:r>
            <a:r>
              <a:rPr b="0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condiciones de pH neutro o alcalino a altas temperaturas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lteración Tardimagmática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y se presenta en la porción central o núcleo de zonas alteradas ligadas al emplazamiento de plutones intrus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lteración Sódico-Cálcica Carten (1986):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asociación de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actinolita, albita-oligoclasa- andesina, epidota, magnetita, clorita, cuarzo, escapolita.</a:t>
            </a: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ocurre en la porción profunda de pórfidos cupríferos y se desarrolla en forma simultánea con la alteración potásica a niveles más al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X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Clasificación de Alteración Hidrote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Alteración tipo skarn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:  transformación de rocas carbonatadas (calizas, dolomitas) a minerales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lcosilicatados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n zonas adyacentes a intrusivos. Presencia de 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granates (andradita y grosularita), wollastonita, epidota, diópsido, idocrasa, clorita, actinolita.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Carbonatos Magnésicos (dolomitas): incluye: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 forsterita, serpentina, talco,tremolita, clorit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. Uso generalizado para depósitos minerales relacionados a fenómenos de metamorfismo de contacto y metasomatismo ligados a intrusiones que cortan secuencias de rocas carbonatadas. litología original es determinante en la asociación mineral resul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¿Pre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743200" y="1066680"/>
          <a:ext cx="3584520" cy="5102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066680"/>
                    <a:ext cx="3584520" cy="51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érmino gener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respuesta mineralóg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extural y quím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Cambio ambiental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érmicos químicos y term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presencia de agua caliente, vapor o gas</a:t>
            </a:r>
            <a:r>
              <a:rPr b="0" lang="en-US" sz="16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Ocurre a través de</a:t>
            </a:r>
            <a:r>
              <a:rPr b="0" lang="en-US" sz="3600" spc="-1" strike="noStrike">
                <a:solidFill>
                  <a:srgbClr val="fff0b3"/>
                </a:solidFill>
                <a:latin typeface="Times New Roman"/>
              </a:rPr>
              <a:t>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 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transformación de fases minerales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crecimiento de nuevos minerales, disolución de minerales y/o precipitación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-reacciones de intercambio iónico entre los minerales constituyentes de una roca y el fluido caliente que circuló por la misma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omposición litológic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influencia en la mineralogía hidrotermal: efecto menor que permeabilidad, temperatura y composición del fluid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Tº y pH del fluido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actores más relevantes en la asociación mineralógica resultante de los procesos de alteración hidrote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Orden relativo de susceptibilidad a alteración de los minerales: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Olivino &gt; magnetita &gt; hiperstena &gt; hornblenda &gt; biotita = plagiocl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uarzo no se altera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cristalización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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300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Característica AH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nversión de un conjunto mineral inicial en una nueva asociación de minerales estable bajo condiciones hidrotermales de temperatura, presión y composición de flu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nvolucra circulación de volúmenes relativamente grandes de fluidos calientes atravesando las rocas permeab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presencia de fisuras o poros interconec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fluido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considerablemente fuera de equilibrio termodinámico con las rocas adyacent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modificaciones en la composición mineralógica original de las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TEMPERATUR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ás caliente &gt; efecto sobre la mineralogía origin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SICIÓN DEL FLUIDO (pH)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enor pH, mayor ef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ERMEABILIDAD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fluido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fracturamiento hidráulico de las rocas o disolución de minerales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PERMEABILIDAD SECUND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DURACIÓN Y VARIACIONES INTERACCIÓN AGUA/ROCA: 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ayor volumen circulación aguas calientes y mayor tiempo </a:t>
            </a:r>
            <a:r>
              <a:rPr b="1" lang="es-ES_tradnl" sz="20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 modificaciones mineralógicas más compl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I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Fac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-COMPOSICIÓN DE LA ROCA: distintos minerales tienen susceptibilidad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a ser alterados. Alteraciones intensas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mineralogía resultante esencialmente independiente del tipo de roca original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PRESIÓN:</a:t>
            </a:r>
            <a:r>
              <a:rPr b="0" lang="en-US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efecto indirecto </a:t>
            </a:r>
            <a:r>
              <a:rPr b="1" lang="en-US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 procesos secundarios: profundidad de ebullición de fluidos, fracturamiento hidráulico (generación de brechas hidrotermales) y erupción o explosiones hidroter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0b3"/>
                </a:solidFill>
                <a:latin typeface="Symbol"/>
                <a:ea typeface="Symbol"/>
              </a:rPr>
              <a:t>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0b3"/>
                </a:solidFill>
                <a:latin typeface="Times New Roman"/>
              </a:rPr>
              <a:t>T y composición del fluido hidrotermal: más importa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0b3"/>
                </a:solidFill>
                <a:latin typeface="Times New Roman"/>
              </a:rPr>
              <a:t>Alteración Pervasiva </a:t>
            </a:r>
            <a:r>
              <a:rPr b="0" lang="en-US" sz="2800" spc="-1" strike="noStrike">
                <a:solidFill>
                  <a:srgbClr val="fff0b3"/>
                </a:solidFill>
                <a:latin typeface="Times New Roman"/>
              </a:rPr>
              <a:t>se refiere a aquella en que una roca está completamente alterada en todo su volu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171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Procesos debidos a la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Depositación directa: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se depositan directamente a partir de soluciones hidrotermale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fluido pueda moverse dentro de ro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diaclasas, fallas, fracturas hidráulicas, discordancias, zonas brechosas, huecos, poros y fis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-Reemplazo:</a:t>
            </a:r>
            <a:r>
              <a:rPr b="0" lang="es-ES_tradnl" sz="36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Minerales de las rocas inestables a ambiente hidrotermal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eemplazo por nuevos minerales estables en nuev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-</a:t>
            </a:r>
            <a:r>
              <a:rPr b="1" lang="es-ES_tradnl" sz="2800" spc="-1" strike="noStrike">
                <a:solidFill>
                  <a:srgbClr val="fff0b3"/>
                </a:solidFill>
                <a:latin typeface="Times New Roman"/>
              </a:rPr>
              <a:t>Lixiviación: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Componentes químicos de las roca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extraídos por fluidos hidrotermales al atravesarlas (cationes metálicos)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roca deprimida en dichos componentes o lixiv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Ej: Textura cuarzo Oquerosa (Vuggy Silica): condensación vapor acidificado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por oxidación de H2S </a:t>
            </a:r>
            <a:r>
              <a:rPr b="1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 H2SO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Clasificación de Alteración Hidrote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Método más simple </a:t>
            </a:r>
            <a:r>
              <a:rPr b="0" lang="es-ES_tradnl" sz="32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3200" spc="-1" strike="noStrike">
                <a:solidFill>
                  <a:srgbClr val="fff0b3"/>
                </a:solidFill>
                <a:latin typeface="Times New Roman"/>
              </a:rPr>
              <a:t> utilización del mineral más abundante y más obvio en roca alterada.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Denominación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                </a:t>
            </a:r>
            <a:r>
              <a:rPr b="0" lang="es-ES_tradnl" sz="2800" spc="-1" strike="noStrike" u="sng">
                <a:solidFill>
                  <a:srgbClr val="fff0b3"/>
                </a:solidFill>
                <a:uFillTx/>
                <a:latin typeface="Times New Roman"/>
              </a:rPr>
              <a:t>Presencia dominante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ilicificación                           sílice o cuarz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Sericitización                          seric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rgilización                            minerales de arci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Cloritización                           clo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Epidotización                          epido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  </a:t>
            </a:r>
            <a:r>
              <a:rPr b="0" lang="es-ES_tradnl" sz="2800" spc="-1" strike="noStrike">
                <a:solidFill>
                  <a:srgbClr val="fff0b3"/>
                </a:solidFill>
                <a:latin typeface="Times New Roman"/>
              </a:rPr>
              <a:t>Actinolitización                      actinol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tabilidad de feldespatos, micas y arcilla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múnmente controlada por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Minerales a solucion: K + , Na + , Ca 2+ , y otros cationes 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000" spc="-1" strike="noStrike">
                <a:solidFill>
                  <a:srgbClr val="fff0b3"/>
                </a:solidFill>
                <a:latin typeface="Times New Roman"/>
              </a:rPr>
              <a:t>H +: fases sólidas remane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La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idrólisis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s una reacción de descomposición que involucra la participación de agu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En geología: reacción entre minerales silicatados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agua pura o solución acuosa, iones H + y OH - </a:t>
            </a:r>
            <a:r>
              <a:rPr b="0" lang="es-ES_tradnl" sz="2400" spc="-1" strike="noStrike">
                <a:solidFill>
                  <a:srgbClr val="fff0b3"/>
                </a:solidFill>
                <a:latin typeface="Symbol"/>
                <a:ea typeface="Symbol"/>
              </a:rPr>
              <a:t>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consumidos selectiva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+ OH - = H2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Importantes en procesos de alteración hidrotermal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y algunos tipos de alteraciones son el resultado de distinto grado de hidrólisis de los minerales constituyentes de las ro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0b3"/>
                </a:solidFill>
                <a:latin typeface="Times New Roman"/>
              </a:rPr>
              <a:t>Alteración Hidrotermal (V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0b3"/>
                </a:solidFill>
                <a:latin typeface="Times New Roman"/>
              </a:rPr>
              <a:t>Reacciones de Hidróli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0.75 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2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K + = KAl3Si3O10(OH)2 +1.5 Na+ + 0.75 Ca 2+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(mica potásica)                               caol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1.5 H2O = 1.5 Al2Si2O5(OH)4 + K 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Andesina                                           caoli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Na2CaAl4Si8O2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H2O = 2 Al2Si2O5(OH)4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SiO2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Na + + Ca 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Sericita                                                 alunita               cuar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f0b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KAl3Si3O10(OH)2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4H + </a:t>
            </a: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+ 2SO 2- = KAl3(SO4)2(OH)6 +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3Si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0b3"/>
                </a:solidFill>
                <a:latin typeface="Times New Roman"/>
              </a:rPr>
              <a:t>                                                </a:t>
            </a:r>
            <a:r>
              <a:rPr b="1" lang="es-ES_tradnl" sz="2400" spc="-1" strike="noStrike">
                <a:solidFill>
                  <a:srgbClr val="fff0b3"/>
                </a:solidFill>
                <a:latin typeface="Times New Roman"/>
              </a:rPr>
              <a:t>ácido sulfú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31:41Z</dcterms:created>
  <dc:creator>Natalia Astudillo</dc:creator>
  <dc:description/>
  <dc:language>en-US</dc:language>
  <cp:lastModifiedBy>Valeria</cp:lastModifiedBy>
  <cp:lastPrinted>2003-08-10T22:33:46Z</cp:lastPrinted>
  <dcterms:modified xsi:type="dcterms:W3CDTF">2006-08-15T22:57:11Z</dcterms:modified>
  <cp:revision>6</cp:revision>
  <dc:subject/>
  <dc:title>Alteración Hidrotermal</dc:title>
</cp:coreProperties>
</file>