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666-EE23-4766-8BBA-889B9F7E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6B3-A997-4646-A0AE-44C8DD7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43B-2298-4A03-B814-37B9F59D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F16-0CB5-42E2-9CE6-5679B3E8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A8E0-52D5-4716-955C-2743059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69F-6021-4EA5-98C1-3C15E73F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636-B41E-45F9-988F-D6527B6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DDC-5B9B-48BC-8AEE-80228C6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9BE-5078-4247-94E5-FC7DA19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931-266D-492D-A907-B42E410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4F4-AE63-44CB-A5E4-B29C09E7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EDE-B460-4D1A-856E-39FE8C2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E3E-9E33-4AFB-B182-6A3510DB8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¿Pre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43200" y="1066680"/>
          <a:ext cx="3584520" cy="51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066680"/>
                    <a:ext cx="35845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érmino gener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respuesta miner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extural y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Cambio ambient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érmicos químicos y te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presencia de agua caliente, vapor o gas</a:t>
            </a:r>
            <a:r>
              <a:rPr b="0" lang="en-US" sz="16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Ocurre a través de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-reacciones de intercambio iónico entre los minerales constituyentes de una roca y el fluido caliente que circuló por la misma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TEMPERATUR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SICIÓN DEL FLUIDO (pH)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ERMEABILIDAD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fluido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fracturamiento hidráulico de las rocas o disolución de minerale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PERMEABILIDAD 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DURACIÓN Y VARIACIONES INTERACCIÓN AGUA/ROC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PRESIÓN: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efecto indirecto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b3"/>
                </a:solidFill>
                <a:latin typeface="Times New Roman"/>
              </a:rPr>
              <a:t>Alteración Pervasiva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Procesos debidos a la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nentes químicos de las roca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cp:lastPrinted>2003-08-10T22:33:46Z</cp:lastPrinted>
  <dcterms:modified xsi:type="dcterms:W3CDTF">2006-08-15T22:57:11Z</dcterms:modified>
  <cp:revision>6</cp:revision>
  <dc:subject/>
  <dc:title>Alteración Hidrotermal</dc:title>
</cp:coreProperties>
</file>