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7A8A-D263-4EB3-9AC2-35A2FF02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838040"/>
            <a:ext cx="822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F25-9EBB-4997-8726-81D30B82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83804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83804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9F1F-F2FA-4E5B-AE16-EF729572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264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429000"/>
            <a:ext cx="264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429000"/>
            <a:ext cx="264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838040"/>
            <a:ext cx="264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838040"/>
            <a:ext cx="264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838040"/>
            <a:ext cx="264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569A-69AE-4000-AFB6-76733D78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F0C5-5858-4DBD-B193-682D2A8E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600-C127-4478-B3D2-EB38D717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C503-F7F4-40BD-8661-10F28D09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0A46-C724-47E1-8368-44FACEA6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F8D-0155-4B48-A043-F86DB737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83804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7136-A435-4099-97B0-3B0E0DF9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83804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BF6F-EEE2-404F-AADE-FAE38DD3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838040"/>
            <a:ext cx="822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8C9-303F-45FA-A076-059D9EF2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6469-DBD5-4814-8B73-3EC1024CD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smenet.org/opaque-ore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conocimiento de minerales en corte puli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logé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mavera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87280" y="2781360"/>
            <a:ext cx="172728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rseno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604360" y="333360"/>
            <a:ext cx="7128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065240"/>
            <a:ext cx="9144000" cy="5792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124000" y="6237360"/>
            <a:ext cx="7923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843280" y="5445000"/>
            <a:ext cx="1224000" cy="936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2421000"/>
            <a:ext cx="15127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o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64000" y="2421000"/>
            <a:ext cx="10796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l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o entre cristales de Pirita y Galena, obsérvese el pulimiento en triángulos de la ga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0920" y="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velina (azul índig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0920" y="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velina (colores de Interferenc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0920" y="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velina (azul índigo) reemplazando enargita (gris ros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velina  reemplazando enargita (colores de interferenc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Especular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912000" y="1126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at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24360" y="33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libden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lcopirita entrecrecida con bornita y molibdenita. Ambos sulfuros de cu están alterados a calcosina (azul claro iz. y de. abajo) que a su vez tiene un aro de covelina (azul oscur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1197000"/>
            <a:ext cx="9144000" cy="6111720"/>
            <a:chOff x="0" y="1197000"/>
            <a:chExt cx="9144000" cy="6111720"/>
          </a:xfrm>
        </p:grpSpPr>
        <p:pic>
          <p:nvPicPr>
            <p:cNvPr id="45" name="" descr=""/>
            <p:cNvPicPr/>
            <p:nvPr/>
          </p:nvPicPr>
          <p:blipFill>
            <a:blip r:embed="rId1"/>
            <a:srcRect l="0" t="0" r="0" b="4091"/>
            <a:stretch/>
          </p:blipFill>
          <p:spPr>
            <a:xfrm>
              <a:off x="0" y="1197000"/>
              <a:ext cx="9144000" cy="611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" name=""/>
            <p:cNvGrpSpPr/>
            <p:nvPr/>
          </p:nvGrpSpPr>
          <p:grpSpPr>
            <a:xfrm>
              <a:off x="971280" y="1628640"/>
              <a:ext cx="7272720" cy="4616640"/>
              <a:chOff x="971280" y="1628640"/>
              <a:chExt cx="7272720" cy="4616640"/>
            </a:xfrm>
          </p:grpSpPr>
          <p:sp>
            <p:nvSpPr>
              <p:cNvPr id="47" name=""/>
              <p:cNvSpPr/>
              <p:nvPr/>
            </p:nvSpPr>
            <p:spPr>
              <a:xfrm flipH="1">
                <a:off x="1907640" y="4654440"/>
                <a:ext cx="2521080" cy="142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427640" y="4437000"/>
                <a:ext cx="136836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lcopiri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V="1">
                <a:off x="5653080" y="3499920"/>
                <a:ext cx="2590920" cy="938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1187280" y="3645000"/>
                <a:ext cx="2592720" cy="360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932360" y="2924280"/>
                <a:ext cx="1871640" cy="730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flipV="1">
                <a:off x="971280" y="5373720"/>
                <a:ext cx="2160360" cy="719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059280" y="5877000"/>
                <a:ext cx="131580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lcos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708360" y="3500280"/>
                <a:ext cx="100800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Borni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51280" y="2781360"/>
                <a:ext cx="115092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ovel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1402920" y="2924280"/>
                <a:ext cx="2521080" cy="144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58560" y="1916280"/>
                <a:ext cx="2376360" cy="720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492360" y="1628640"/>
                <a:ext cx="151308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Molibdeni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32360" cy="3438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11640" y="3448080"/>
            <a:ext cx="4932360" cy="3436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422100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nabrio con colores de inter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1197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nab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89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abrio, reflejos inte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alena, ojo!!!! Que la imagen esta en blanco y negro solo para destacar mejor los triangulos que se producen según sus clivajes durante el pul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7848720" cy="2552040"/>
          </a:xfrm>
          <a:prstGeom prst="rect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 quieren ver mas imágenes este es el mejor lin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menet.org/opaque-or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63640" y="4292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lenda/esfaler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ita (café rojizo centro) con mucha calcopirita (amarillo) como agujas y a la derecha y como inclusiones (de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410920" y="3284640"/>
            <a:ext cx="1800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826560" y="3284640"/>
            <a:ext cx="1800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0" b="6351"/>
          <a:stretch/>
        </p:blipFill>
        <p:spPr>
          <a:xfrm>
            <a:off x="0" y="890640"/>
            <a:ext cx="9144000" cy="5967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H="1">
            <a:off x="6012000" y="2421000"/>
            <a:ext cx="1512720" cy="115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24720" y="2133720"/>
            <a:ext cx="13683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opi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643280" y="2276640"/>
            <a:ext cx="2881440" cy="504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780000" y="1700280"/>
            <a:ext cx="1728720" cy="1368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587640" y="6165360"/>
            <a:ext cx="79236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51280" y="3860640"/>
            <a:ext cx="505080" cy="936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3500280"/>
            <a:ext cx="12952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laqu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08720" y="6237360"/>
            <a:ext cx="10083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ar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1484280"/>
            <a:ext cx="1008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r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341360"/>
            <a:ext cx="502920" cy="4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052640"/>
            <a:ext cx="1008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ar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340000" y="1557360"/>
            <a:ext cx="28728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1197000"/>
            <a:ext cx="12956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6000" y="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ristal de Pirita con inclusiones, magnetita euhedral, pirrotina (café, centro y centro iz.), calcopirita (amarill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55640" y="3284280"/>
            <a:ext cx="1584360" cy="865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596360" y="1413000"/>
            <a:ext cx="504720" cy="1008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7235640" y="3429000"/>
            <a:ext cx="649080" cy="266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835280" y="3500280"/>
            <a:ext cx="3241440" cy="216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149720"/>
            <a:ext cx="9349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5516640"/>
            <a:ext cx="129528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rro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36000" y="6093000"/>
            <a:ext cx="136836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gnet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6000" y="1052640"/>
            <a:ext cx="15127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o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567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rsenopirita fracturada y estas rellena de esfalerita, oro (amarillo claro) y calcopirita. Calcopirita también envuelve la arsenopir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851280" y="189000"/>
            <a:ext cx="3457440" cy="1368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36000" y="0"/>
            <a:ext cx="17269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rseno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5796000" y="2421000"/>
            <a:ext cx="2016000" cy="22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941720"/>
            <a:ext cx="7207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635280" y="2565000"/>
            <a:ext cx="4175280" cy="2158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5640" y="4581360"/>
            <a:ext cx="13683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fale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989000"/>
            <a:ext cx="142920" cy="935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628640"/>
            <a:ext cx="15843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o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50920" y="836640"/>
            <a:ext cx="28872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844640"/>
            <a:ext cx="2016000" cy="107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476360" y="1052280"/>
            <a:ext cx="158292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72360" y="333360"/>
            <a:ext cx="1224000" cy="1366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971640" y="3357720"/>
            <a:ext cx="2232000" cy="1582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96360" y="3860640"/>
            <a:ext cx="13683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mat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724360" y="4076640"/>
            <a:ext cx="187200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08720" y="1484280"/>
            <a:ext cx="12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rn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732360" y="1773360"/>
            <a:ext cx="647640" cy="158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260280"/>
            <a:ext cx="129708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ve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1332000" y="188640"/>
            <a:ext cx="4032000" cy="215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1197000"/>
            <a:ext cx="1225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gen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347640" y="1484280"/>
            <a:ext cx="208764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476280"/>
            <a:ext cx="7207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24720" y="6308640"/>
            <a:ext cx="129708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rro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8100720" y="4723920"/>
            <a:ext cx="431640" cy="158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6019920"/>
            <a:ext cx="15843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o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003640" y="3789360"/>
            <a:ext cx="865440" cy="2301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549360"/>
            <a:ext cx="266400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620640"/>
            <a:ext cx="2160720" cy="180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4360" y="333360"/>
            <a:ext cx="12236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ler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4365720"/>
            <a:ext cx="1440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gnet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4653000"/>
            <a:ext cx="719280" cy="936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557360"/>
            <a:ext cx="158436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rnita y calc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1989000"/>
            <a:ext cx="7164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476280"/>
            <a:ext cx="6337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626920" y="1844640"/>
            <a:ext cx="3024360" cy="1297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10920" y="692280"/>
            <a:ext cx="360360" cy="3528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56000" y="5013360"/>
            <a:ext cx="12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ler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440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gnet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289080"/>
            <a:ext cx="71280" cy="547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51640" y="3500280"/>
            <a:ext cx="11527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rn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3429000"/>
            <a:ext cx="64764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708360" y="476280"/>
            <a:ext cx="4392720" cy="28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596000" y="3860640"/>
            <a:ext cx="360360" cy="4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348000" y="4508640"/>
            <a:ext cx="503280" cy="504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068640"/>
            <a:ext cx="15843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o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635280" y="4797000"/>
            <a:ext cx="187344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5:04:37Z</dcterms:created>
  <dc:creator>Valeria</dc:creator>
  <dc:description/>
  <dc:language>en-US</dc:language>
  <cp:lastModifiedBy>Valeria</cp:lastModifiedBy>
  <dcterms:modified xsi:type="dcterms:W3CDTF">2006-09-28T01:59:38Z</dcterms:modified>
  <cp:revision>5</cp:revision>
  <dc:subject/>
  <dc:title>Reconocimiento de minerales en corte pulido</dc:title>
</cp:coreProperties>
</file>