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1AC-EF31-4E1F-A48F-FA47188C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838040"/>
            <a:ext cx="822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30D-2189-404D-A5A3-A366EF29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74B-6D5B-4366-AE28-F50B0A97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42900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42900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83804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83804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83804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44A-48B5-4771-A1F7-1830EC7C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533-0369-4970-824F-49EC2F2B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DC8-28EE-4FD8-8EA6-9C58CBC7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B31-92A2-44AB-8788-E4DFED14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686-3DFC-4550-AA3C-751BE73A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FA9-9EE3-477C-9C3E-977EFBD8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E4F-0A8A-4CAF-AFD4-84BC4FE2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B1E-002B-4FDD-89B0-57891E0C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838040"/>
            <a:ext cx="822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A53-906B-482D-9DD1-8D912C40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9821-5362-4D4A-9CF5-BF9DB81B1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smenet.org/opaque-ore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onocimiento de minerales en corte puli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l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mavera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2781360"/>
            <a:ext cx="1727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sen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04360" y="333360"/>
            <a:ext cx="7128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065240"/>
            <a:ext cx="9144000" cy="5792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24000" y="6237360"/>
            <a:ext cx="792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843280" y="5445000"/>
            <a:ext cx="122400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421000"/>
            <a:ext cx="1512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2421000"/>
            <a:ext cx="1079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o entre cristales de Pirita y Galena, obsérvese el pulimiento en triángulos de la ga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velina (azul índi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velina (colores de Interfere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velina (azul índigo) reemplazando enargita (gris ros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velina  reemplazando enargita (colores de interfere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specula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912000" y="1126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a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24360" y="33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libden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opirita entrecrecida con bornita y molibdenita. Ambos sulfuros de cu están alterados a calcosina (azul claro iz. y de. abajo) que a su vez tiene un aro de covelina (azul oscu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1197000"/>
            <a:ext cx="9144000" cy="6111720"/>
            <a:chOff x="0" y="1197000"/>
            <a:chExt cx="9144000" cy="61117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0" t="0" r="0" b="4091"/>
            <a:stretch/>
          </p:blipFill>
          <p:spPr>
            <a:xfrm>
              <a:off x="0" y="1197000"/>
              <a:ext cx="9144000" cy="611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"/>
            <p:cNvGrpSpPr/>
            <p:nvPr/>
          </p:nvGrpSpPr>
          <p:grpSpPr>
            <a:xfrm>
              <a:off x="971280" y="1628640"/>
              <a:ext cx="7272720" cy="4616640"/>
              <a:chOff x="971280" y="1628640"/>
              <a:chExt cx="7272720" cy="4616640"/>
            </a:xfrm>
          </p:grpSpPr>
          <p:sp>
            <p:nvSpPr>
              <p:cNvPr id="47" name=""/>
              <p:cNvSpPr/>
              <p:nvPr/>
            </p:nvSpPr>
            <p:spPr>
              <a:xfrm flipH="1">
                <a:off x="1907640" y="4654440"/>
                <a:ext cx="2521080" cy="142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27640" y="4437000"/>
                <a:ext cx="136836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lcopiri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5653080" y="3499920"/>
                <a:ext cx="2590920" cy="938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1187280" y="3645000"/>
                <a:ext cx="2592720" cy="360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32360" y="2924280"/>
                <a:ext cx="1871640" cy="73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971280" y="5373720"/>
                <a:ext cx="2160360" cy="71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59280" y="5877000"/>
                <a:ext cx="131580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lcos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08360" y="3500280"/>
                <a:ext cx="100800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orni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51280" y="2781360"/>
                <a:ext cx="1150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vel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402920" y="2924280"/>
                <a:ext cx="2521080" cy="144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58560" y="1916280"/>
                <a:ext cx="2376360" cy="72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92360" y="1628640"/>
                <a:ext cx="151308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olibdeni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3438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11640" y="3448080"/>
            <a:ext cx="4932360" cy="3436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422100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abrio con colores de inter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1197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na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89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abrio, reflejos in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lena, ojo!!!! Que la imagen esta en blanco y negro solo para destacar mejor los triangulos que se producen según sus clivajes durante el pul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848720" cy="255204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 quieren ver mas imágenes este es el mejor li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menet.org/opaque-or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4292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lenda/esfale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ita (café rojizo centro) con mucha calcopirita (amarillo) como agujas y a la derecha y como inclusiones (de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10920" y="3284640"/>
            <a:ext cx="180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26560" y="3284640"/>
            <a:ext cx="180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6351"/>
          <a:stretch/>
        </p:blipFill>
        <p:spPr>
          <a:xfrm>
            <a:off x="0" y="890640"/>
            <a:ext cx="9144000" cy="596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6012000" y="2421000"/>
            <a:ext cx="1512720" cy="11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2133720"/>
            <a:ext cx="1368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643280" y="2276640"/>
            <a:ext cx="288144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780000" y="1700280"/>
            <a:ext cx="172872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587640" y="6165360"/>
            <a:ext cx="79236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51280" y="3860640"/>
            <a:ext cx="50508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3500280"/>
            <a:ext cx="12952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aqu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6237360"/>
            <a:ext cx="1008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1484280"/>
            <a:ext cx="1008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r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341360"/>
            <a:ext cx="50292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052640"/>
            <a:ext cx="1008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340000" y="1557360"/>
            <a:ext cx="28728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1197000"/>
            <a:ext cx="1295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600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ristal de Pirita con inclusiones, magnetita euhedral, pirrotina (café, centro y centro iz.), calcopirita (amarill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55640" y="3284280"/>
            <a:ext cx="1584360" cy="865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596360" y="1413000"/>
            <a:ext cx="504720" cy="100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235640" y="3429000"/>
            <a:ext cx="649080" cy="266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5280" y="3500280"/>
            <a:ext cx="3241440" cy="216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149720"/>
            <a:ext cx="934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516640"/>
            <a:ext cx="1295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rro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6000" y="6093000"/>
            <a:ext cx="13683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6000" y="1052640"/>
            <a:ext cx="1512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rsenopirita fracturada y estas rellena de esfalerita, oro (amarillo claro) y calcopirita. Calcopirita también envuelve la arsenopi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51280" y="189000"/>
            <a:ext cx="345744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0"/>
            <a:ext cx="1726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sen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796000" y="2421000"/>
            <a:ext cx="201600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941720"/>
            <a:ext cx="720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635280" y="2565000"/>
            <a:ext cx="4175280" cy="21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5640" y="4581360"/>
            <a:ext cx="1368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fale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989000"/>
            <a:ext cx="142920" cy="93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628640"/>
            <a:ext cx="1584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50920" y="836640"/>
            <a:ext cx="28872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844640"/>
            <a:ext cx="201600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476360" y="1052280"/>
            <a:ext cx="158292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72360" y="333360"/>
            <a:ext cx="1224000" cy="1366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971640" y="3357720"/>
            <a:ext cx="2232000" cy="1582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96360" y="3860640"/>
            <a:ext cx="1368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ma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24360" y="4076640"/>
            <a:ext cx="187200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1484280"/>
            <a:ext cx="12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n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732360" y="1773360"/>
            <a:ext cx="647640" cy="158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260280"/>
            <a:ext cx="12970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332000" y="188640"/>
            <a:ext cx="4032000" cy="21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1197000"/>
            <a:ext cx="1225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gen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347640" y="1484280"/>
            <a:ext cx="20876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476280"/>
            <a:ext cx="720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6308640"/>
            <a:ext cx="12970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rro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8100720" y="4723920"/>
            <a:ext cx="431640" cy="158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6019920"/>
            <a:ext cx="1584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003640" y="3789360"/>
            <a:ext cx="865440" cy="2301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549360"/>
            <a:ext cx="26640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620640"/>
            <a:ext cx="2160720" cy="180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333360"/>
            <a:ext cx="1223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er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4365720"/>
            <a:ext cx="1440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653000"/>
            <a:ext cx="71928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57360"/>
            <a:ext cx="15843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nita y calc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1989000"/>
            <a:ext cx="7164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476280"/>
            <a:ext cx="6337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26920" y="1844640"/>
            <a:ext cx="3024360" cy="1297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10920" y="692280"/>
            <a:ext cx="360360" cy="352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56000" y="5013360"/>
            <a:ext cx="12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er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440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289080"/>
            <a:ext cx="71280" cy="547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3500280"/>
            <a:ext cx="1152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n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3429000"/>
            <a:ext cx="64764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08360" y="476280"/>
            <a:ext cx="4392720" cy="28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596000" y="3860640"/>
            <a:ext cx="36036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48000" y="4508640"/>
            <a:ext cx="50328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68640"/>
            <a:ext cx="1584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35280" y="4797000"/>
            <a:ext cx="18734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5:04:37Z</dcterms:created>
  <dc:creator>Valeria</dc:creator>
  <dc:description/>
  <dc:language>en-US</dc:language>
  <cp:lastModifiedBy>Valeria</cp:lastModifiedBy>
  <dcterms:modified xsi:type="dcterms:W3CDTF">2006-09-28T01:59:38Z</dcterms:modified>
  <cp:revision>5</cp:revision>
  <dc:subject/>
  <dc:title>Reconocimiento de minerales en corte pulido</dc:title>
</cp:coreProperties>
</file>