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C48-0461-46E2-A224-877A7025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676-5DB8-4F26-9220-30318A75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710-4FD5-45DA-9515-82C80B70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7D9-13F4-459F-81E9-58C444C5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DC6-3586-4394-B21D-FBFE2B92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E58-D635-4657-BB59-4610F0D4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789-865C-4618-A47B-221D2BE1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42A9-2BDC-4659-B276-54DF1C93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4C8-E86C-4E15-AD18-B598A995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3F7-069A-44DA-97EC-BD3172F6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9FF-32B4-4D98-880E-CD734C74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29A-7753-4F08-B0BD-0AE0CF16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D5F3-8290-43A0-864B-D66D7BACD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08000" y="528120"/>
            <a:ext cx="7524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lteracion en Cortes Transparen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62520" y="3710160"/>
            <a:ext cx="697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Semestre primavera 200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Metalogén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Biot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96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Biot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Epidota               Clori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3360" y="765000"/>
            <a:ext cx="3968640" cy="2932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1280" y="38178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788000" y="7650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88000" y="3860640"/>
            <a:ext cx="396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uar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Supérge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Supérge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88000" y="11556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Cuarz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720" y="19800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lagioclas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4000" y="-36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lagioclas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3411360"/>
            <a:ext cx="52578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3640" y="18900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Calci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Feldespatos (ortoclas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Feldespato (ortoclas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biot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Valeria</cp:lastModifiedBy>
  <dcterms:modified xsi:type="dcterms:W3CDTF">2006-09-03T01:58:06Z</dcterms:modified>
  <cp:revision>10</cp:revision>
  <dc:subject/>
  <dc:title>Alteración Hidrotermal</dc:title>
</cp:coreProperties>
</file>