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F52-3A88-445A-A49D-AAD0EDAD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44A-5601-4EBF-B7EE-6C770DBD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F17-7162-44D8-8DC0-D130DE22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167-0F68-41B6-A3F7-FADF31AB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15B-6964-4359-B1AF-37F7DA0C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875-8C42-4237-B9E0-3FE50CD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EAF-08DD-49FB-9081-C9624664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1D2-CEAF-41EF-A7FC-CFF2482F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89A-6458-4754-9B3E-3B929B9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A6D-FC05-4666-B0D8-D0BAA4F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D1D-70B4-4A2F-B4CD-E7E0148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1EC-2212-436B-95DF-89BB1C7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8A42-EEAD-4A8D-B26D-9E8FC256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46040"/>
            <a:ext cx="799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Alteración Supérgena de Depósitos de Cob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653000"/>
            <a:ext cx="7921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Laboratorio de Metalo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Zonación Supérgena y comportamiento geoquímico de me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erfil Supérg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6327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70920" y="65232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aramond"/>
              </a:rPr>
              <a:t>William X. Chavez, Jr.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inerales en zona de enriquecimiento supérgeno de 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201420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lcosin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9,8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gen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8.10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nil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7.62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jurle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0.34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velina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 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66,4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pr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 nativ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Factores condicionantes para el enriquecimiento supérg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volución geomorfológica (exhum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ineralogía hipógena (mena y ga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posición de la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ivel de aguas subterr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gentes orgánicos: Bact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os factores son inter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981000"/>
            <a:ext cx="83534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Relacionadas a 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260280"/>
            <a:ext cx="8888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Brech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eneración de bre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gregación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sedimentarias, volcá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agregación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brech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Hidrote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Íg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Volcá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ctón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chas Hidroter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brechización hidrotermal se relaciona a un proceso de fracturamiento hidraúlico que ocurre cuando la presión de poro de un fluido hidrotermal supera la presión confinante (presión litostática) y la resistencia tensional de las 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algunos casos puede también estar asociado a colapso gravitacional, producto de alteración de la base de soporte de una columna de 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25240"/>
            <a:ext cx="83628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escripción de brechas debe inclu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841040"/>
            <a:ext cx="87854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, tamaño y forma de fragmentos (mono o polimíct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azones de fragmentos/matriz (soporte por fragmentos o matri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osición de matriz y cemento y si deriva de la molienda de roca, minerales hidrotermales introducidos o mag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lación con la roca de caja (abrupta, trans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racterísticas físic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pos Brechas Hidroter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00764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Magmático-hidro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Chimeneas de brecha (brechas con matriz de turmal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Cuerpos de brecha asociados a pórf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Hidromag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Freatomagmáticas: Asociadas a pórfidos y a yacimientos epi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Freáticas: Depósitos epi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pórf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Kur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Magmáticas </a:t>
            </a:r>
            <a:r>
              <a:rPr b="1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Diatremas volcá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ipo pórfido y otros de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Intrusivas </a:t>
            </a:r>
            <a:r>
              <a:rPr b="1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Matriz ígnea intru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Tectónicas </a:t>
            </a:r>
            <a:r>
              <a:rPr b="1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Fracturamiento frágil en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120" y="0"/>
            <a:ext cx="878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Clasificación de brec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agmático hidrotermales: Profundas de tipo      pórfido y chime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reatomagmáticas: Diatremas (nivel al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reáticas: Superf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latacionales: Estructuras tensionales, espacios abiertos, relleno hidrote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agmático hidrotermales de inyección:              Fracturamiento hidráu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 colapso hidrotermal: Procesos retrógrados  de pórfidos (argi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olución: disolución de calizas, dolomi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proceso supérgeno comienza cuando un depósito con mineralización hipógena  se expone a condiciones oxi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analizar los factores que determinan el ambiente de meteorización es conveniente definir y caracter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gión o roca f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gión recep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tolit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(asociaciones previas a la meteorización-material no reactiv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lo anterior se debe determinar si estamos frente a una adición de cobre (exótico) o circulación local de flu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Ogilvie"/>
              </a:rPr>
              <a:t>Fin.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s supérgenos y enriquecimiento secund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9647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ros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Exhumac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Meteo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eteorización de depósitos minerales hipóge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ambio minera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strucción/empob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centración/enriquecimiento secu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eración supérg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ceso de reequilibrio de la mineralogía hipógena a las condiciones oxidantes en las cercanías de la superficie (sobre el nivel de aguas subterráneas) por la circulación descendente de soluciones supérg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fecta a los silicatos generando minerales de arcillas (halloysita, esmectita) y a los sulfuros hipógenos que se transforman en minerales oxi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riquecimiento secund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ceso resultante de la meteorización (alteración supergena) de depósitos minerales, en el cual la oxidación produce soluciones ácidas que lixivian metales transportándolos abajo y reprecipitándolos, con el consecuente enriquecimiento de los minerales sulfurados originalmente pres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uy importante en pórfidos cupríf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mportamiento de metales en ambiente supérg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626840"/>
            <a:ext cx="893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e, Al, Ti, Cr, Mn, Ni, Co, Pb forman óxidos estables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Permanecen en la zona de oxidación (sobre el nivel de aguas subterráne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, Mo, Zn, Ag forman sulfatos solubles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Son lixiviados de niveles superficiales y transportados en solución hacia abajo re-precipitando como sulfuros supérgenos debajo del nivel de agua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u no reactivo químicamente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tiene a permanecer en zona de oxidación, aunque puede ser transportado si existe Cl o B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57440" y="1267920"/>
            <a:ext cx="718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xidac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estrucción de sulfuros hip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ixiviac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remoción de metales en solución como sulf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acción con minerales de las rocas o ganga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minerales oxidados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ecipitación de sulfuros supérgenos (bajo el nivel de aguas subterr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844640"/>
            <a:ext cx="0" cy="3095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 requiere que los depósitos sean exhum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ataciones K-Ar de alunita supérgena de pórfidos cupríferos chilenos (Sillitoe y McKee, 1996) mostraron que los procesos supérgenos comenzaron &gt;11 Ma después de la mineralización hipóg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dataciones K-Ar revelan un rango entre 34 y 14 Ma (Oligoceno – Mioceno Medio) para los procesos supergenos de oxidación y enriquecimiento en el norte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497800" cy="543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6840" y="1890720"/>
            <a:ext cx="2260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Limonita FeO*OH*nH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Hematita Fe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3440" y="2781360"/>
            <a:ext cx="405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Malaquita Cu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OH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Atacamita CuCl(OH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zurita Cu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CO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O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) Crisocola Cu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Si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OH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3080" y="3405240"/>
            <a:ext cx="1550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alcosina Cu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ovelina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35920" y="4556160"/>
            <a:ext cx="18525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alcopirita CuFeS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Bornita Cu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FeS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Pirita FeS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4:34:58Z</dcterms:created>
  <dc:creator>Victor Maksaev</dc:creator>
  <dc:description/>
  <dc:language>en-US</dc:language>
  <cp:lastModifiedBy>Valeria</cp:lastModifiedBy>
  <dcterms:modified xsi:type="dcterms:W3CDTF">2006-08-30T01:14:30Z</dcterms:modified>
  <cp:revision>30</cp:revision>
  <dc:subject/>
  <dc:title>Procesos supergenos y enriquecimiento secundario</dc:title>
</cp:coreProperties>
</file>