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F4EF-41CE-4CD6-A9DC-75D375F8F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F794-3D53-42A7-90F0-87698D3A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4291-0EFD-497B-BDFE-0286F4EA1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047D-326D-45EB-AB3A-6B402B0D8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065F-46C6-4E0E-9B15-7B60EB57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5632-BF7A-4844-A64D-ECA6E8B7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A5AF-CBF6-4A45-8A12-35C5B862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A428-9ED7-46F4-B22A-45CA62C4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0788-01F4-40BC-B3F8-321D21BB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BCAE-0195-4C1E-8590-7FF92C82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E423-9912-42B3-977C-0F288F6E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685A-E8B2-4F17-B07F-BF21AF45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8C30-F821-457C-BCB2-EAE1C4BD6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ffff"/>
                </a:solidFill>
                <a:latin typeface="Arial"/>
              </a:rPr>
              <a:t>Pórfidos Cuprífer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5105160"/>
            <a:ext cx="64008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boratorio Metalogén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emestre Primavera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7280" y="-2433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Modelo clásico de Lowell y Gilbert (1970)</a:t>
            </a: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50920" y="981000"/>
            <a:ext cx="8892720" cy="5876640"/>
            <a:chOff x="250920" y="981000"/>
            <a:chExt cx="8892720" cy="5876640"/>
          </a:xfrm>
        </p:grpSpPr>
        <p:grpSp>
          <p:nvGrpSpPr>
            <p:cNvPr id="64" name=""/>
            <p:cNvGrpSpPr/>
            <p:nvPr/>
          </p:nvGrpSpPr>
          <p:grpSpPr>
            <a:xfrm>
              <a:off x="257760" y="986400"/>
              <a:ext cx="8877960" cy="5864760"/>
              <a:chOff x="257760" y="986400"/>
              <a:chExt cx="8877960" cy="586476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257760" y="986400"/>
                <a:ext cx="2102040" cy="831960"/>
                <a:chOff x="257760" y="986400"/>
                <a:chExt cx="2102040" cy="83196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324000" y="986400"/>
                  <a:ext cx="1969200" cy="83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Alter</a:t>
                  </a:r>
                  <a:r>
                    <a:rPr b="1" lang="es-CL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ación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257760" y="986400"/>
                  <a:ext cx="2102040" cy="83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2360160" y="986400"/>
                <a:ext cx="3208680" cy="831960"/>
                <a:chOff x="2360160" y="986400"/>
                <a:chExt cx="3208680" cy="83196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2427120" y="986400"/>
                  <a:ext cx="3074760" cy="83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Asociación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2360160" y="986400"/>
                  <a:ext cx="3208680" cy="83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" name=""/>
              <p:cNvGrpSpPr/>
              <p:nvPr/>
            </p:nvGrpSpPr>
            <p:grpSpPr>
              <a:xfrm>
                <a:off x="5569560" y="986400"/>
                <a:ext cx="3566160" cy="831960"/>
                <a:chOff x="5569560" y="986400"/>
                <a:chExt cx="3566160" cy="83196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5635800" y="986400"/>
                  <a:ext cx="3432600" cy="83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Mineralogía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569560" y="986400"/>
                  <a:ext cx="3566160" cy="83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257760" y="1818720"/>
                <a:ext cx="2102040" cy="1122120"/>
                <a:chOff x="257760" y="1818720"/>
                <a:chExt cx="2102040" cy="112212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324000" y="1818720"/>
                  <a:ext cx="1969200" cy="112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otásica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257760" y="1818720"/>
                  <a:ext cx="2102040" cy="112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2360160" y="1818720"/>
                <a:ext cx="3208680" cy="1122120"/>
                <a:chOff x="2360160" y="1818720"/>
                <a:chExt cx="3208680" cy="112212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2427120" y="1818720"/>
                  <a:ext cx="3074760" cy="112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Feld-K, Biotita (qzo, clo, mt)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360160" y="1818720"/>
                  <a:ext cx="3208680" cy="112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5569560" y="1818720"/>
                <a:ext cx="3566160" cy="1122120"/>
                <a:chOff x="5569560" y="1818720"/>
                <a:chExt cx="3566160" cy="112212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5635800" y="1818720"/>
                  <a:ext cx="3432600" cy="112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Bo, Py, Cpy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5569560" y="1818720"/>
                  <a:ext cx="3566160" cy="112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257760" y="2941200"/>
                <a:ext cx="2102040" cy="831960"/>
                <a:chOff x="257760" y="2941200"/>
                <a:chExt cx="2102040" cy="83196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324000" y="2941200"/>
                  <a:ext cx="1969200" cy="83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CL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ropilítica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57760" y="2941200"/>
                  <a:ext cx="2102040" cy="83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2360160" y="2941200"/>
                <a:ext cx="3208680" cy="831960"/>
                <a:chOff x="2360160" y="2941200"/>
                <a:chExt cx="3208680" cy="83196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427120" y="2941200"/>
                  <a:ext cx="3074760" cy="83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Ep, Clo (Cc, Ab)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360160" y="2941200"/>
                  <a:ext cx="3208680" cy="83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5569560" y="2941200"/>
                <a:ext cx="3566160" cy="831960"/>
                <a:chOff x="5569560" y="2941200"/>
                <a:chExt cx="3566160" cy="83196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5635800" y="2941200"/>
                  <a:ext cx="3432600" cy="83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y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5569560" y="2941200"/>
                  <a:ext cx="3566160" cy="83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257760" y="3773880"/>
                <a:ext cx="2102040" cy="1122480"/>
                <a:chOff x="257760" y="3773880"/>
                <a:chExt cx="2102040" cy="11224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24000" y="3773880"/>
                  <a:ext cx="1969200" cy="112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CL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Cuarzo-Sericita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57760" y="3773880"/>
                  <a:ext cx="2102040" cy="112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360160" y="3773880"/>
                <a:ext cx="3208680" cy="1122480"/>
                <a:chOff x="2360160" y="3773880"/>
                <a:chExt cx="3208680" cy="11224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427120" y="3773880"/>
                  <a:ext cx="3074760" cy="112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Qz, Sc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360160" y="3773880"/>
                  <a:ext cx="3208680" cy="112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5569560" y="3773880"/>
                <a:ext cx="3566160" cy="1122480"/>
                <a:chOff x="5569560" y="3773880"/>
                <a:chExt cx="3566160" cy="112248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5635800" y="3773880"/>
                  <a:ext cx="3432600" cy="112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Cpy, Py, Aspy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569560" y="3773880"/>
                  <a:ext cx="3566160" cy="112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57760" y="4896720"/>
                <a:ext cx="2102040" cy="1122120"/>
                <a:chOff x="257760" y="4896720"/>
                <a:chExt cx="2102040" cy="11221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324000" y="4896720"/>
                  <a:ext cx="1969200" cy="112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CL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Argílica Avanzada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57760" y="4896720"/>
                  <a:ext cx="2102040" cy="112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2360160" y="4896720"/>
                <a:ext cx="3208680" cy="1122120"/>
                <a:chOff x="2360160" y="4896720"/>
                <a:chExt cx="3208680" cy="112212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2427120" y="4896720"/>
                  <a:ext cx="3074760" cy="112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Al, Jarosita, Qz, </a:t>
                  </a:r>
                  <a:r>
                    <a:rPr b="1" lang="es-CL" sz="2200" spc="-1" strike="noStrike">
                      <a:solidFill>
                        <a:srgbClr val="ffffff"/>
                      </a:solidFill>
                      <a:latin typeface="Arial"/>
                    </a:rPr>
                    <a:t>Sc</a:t>
                  </a:r>
                  <a:r>
                    <a:rPr b="0" lang="es-CL" sz="22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oqueroso, Caolín, 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360160" y="4896720"/>
                  <a:ext cx="3208680" cy="112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5569560" y="4896720"/>
                <a:ext cx="3566160" cy="1122120"/>
                <a:chOff x="5569560" y="4896720"/>
                <a:chExt cx="3566160" cy="112212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5635800" y="4896720"/>
                  <a:ext cx="3432600" cy="112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Enargita, </a:t>
                  </a:r>
                  <a:r>
                    <a:rPr b="1" lang="es-CL" sz="2400" spc="-1" strike="noStrike">
                      <a:solidFill>
                        <a:srgbClr val="ffffff"/>
                      </a:solidFill>
                      <a:latin typeface="Arial"/>
                    </a:rPr>
                    <a:t>Py, Au, Ag,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Oropimente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569560" y="4896720"/>
                  <a:ext cx="3566160" cy="112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257760" y="6019200"/>
                <a:ext cx="2102040" cy="831960"/>
                <a:chOff x="257760" y="6019200"/>
                <a:chExt cx="2102040" cy="83196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324000" y="6019200"/>
                  <a:ext cx="1969200" cy="83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CL" sz="3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Argílica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57760" y="6019200"/>
                  <a:ext cx="2102040" cy="83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2360160" y="6019200"/>
                <a:ext cx="3208680" cy="831960"/>
                <a:chOff x="2360160" y="6019200"/>
                <a:chExt cx="3208680" cy="8319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2427120" y="6019200"/>
                  <a:ext cx="3074760" cy="83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Limolita, jarosit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360160" y="6019200"/>
                  <a:ext cx="3208680" cy="83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5569560" y="6019200"/>
                <a:ext cx="3566160" cy="831960"/>
                <a:chOff x="5569560" y="6019200"/>
                <a:chExt cx="3566160" cy="8319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5635800" y="6019200"/>
                  <a:ext cx="3432600" cy="83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Goethita, Hematit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569560" y="6019200"/>
                  <a:ext cx="3566160" cy="83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9" name=""/>
            <p:cNvSpPr/>
            <p:nvPr/>
          </p:nvSpPr>
          <p:spPr>
            <a:xfrm>
              <a:off x="250920" y="981000"/>
              <a:ext cx="8892720" cy="58766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2857680" y="20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7308720" cy="6153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105520" y="3284640"/>
            <a:ext cx="4038480" cy="31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0" y="304920"/>
            <a:ext cx="8964360" cy="6552720"/>
            <a:chOff x="0" y="304920"/>
            <a:chExt cx="8964360" cy="6552720"/>
          </a:xfrm>
        </p:grpSpPr>
        <p:grpSp>
          <p:nvGrpSpPr>
            <p:cNvPr id="124" name=""/>
            <p:cNvGrpSpPr/>
            <p:nvPr/>
          </p:nvGrpSpPr>
          <p:grpSpPr>
            <a:xfrm>
              <a:off x="6840" y="309600"/>
              <a:ext cx="8949240" cy="6542280"/>
              <a:chOff x="6840" y="309600"/>
              <a:chExt cx="8949240" cy="654228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6840" y="309600"/>
                <a:ext cx="1913400" cy="714240"/>
                <a:chOff x="6840" y="309600"/>
                <a:chExt cx="1913400" cy="7142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73080" y="309600"/>
                  <a:ext cx="1780560" cy="71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Zon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6840" y="309600"/>
                  <a:ext cx="1913400" cy="71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1920600" y="309600"/>
                <a:ext cx="2875680" cy="714240"/>
                <a:chOff x="1920600" y="309600"/>
                <a:chExt cx="2875680" cy="71424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1987200" y="309600"/>
                  <a:ext cx="2742480" cy="71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Alteración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920600" y="309600"/>
                  <a:ext cx="2875680" cy="71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4797000" y="309600"/>
                <a:ext cx="4159080" cy="714240"/>
                <a:chOff x="4797000" y="309600"/>
                <a:chExt cx="4159080" cy="7142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863600" y="309600"/>
                  <a:ext cx="4025880" cy="71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Mineralizació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97000" y="309600"/>
                  <a:ext cx="4159080" cy="71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6840" y="1024200"/>
                <a:ext cx="1913400" cy="1152720"/>
                <a:chOff x="6840" y="1024200"/>
                <a:chExt cx="1913400" cy="115272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73080" y="1024200"/>
                  <a:ext cx="1780560" cy="115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Intern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840" y="1024200"/>
                  <a:ext cx="1913400" cy="115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1920600" y="1024200"/>
                <a:ext cx="2875680" cy="1152720"/>
                <a:chOff x="1920600" y="1024200"/>
                <a:chExt cx="2875680" cy="115272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1987200" y="1024200"/>
                  <a:ext cx="2742480" cy="115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otásic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920600" y="1024200"/>
                  <a:ext cx="2875680" cy="115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4797000" y="1024200"/>
                <a:ext cx="4159080" cy="1152720"/>
                <a:chOff x="4797000" y="1024200"/>
                <a:chExt cx="4159080" cy="115272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863600" y="1024200"/>
                  <a:ext cx="4025880" cy="115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800" spc="-1" strike="noStrike">
                      <a:solidFill>
                        <a:srgbClr val="996633"/>
                      </a:solidFill>
                      <a:latin typeface="Times New Roman"/>
                      <a:ea typeface="Times New Roman"/>
                    </a:rPr>
                    <a:t>Py = 2-5% </a:t>
                  </a:r>
                  <a:r>
                    <a:rPr b="1" lang="es-CL" sz="2400" spc="-1" strike="noStrike">
                      <a:solidFill>
                        <a:srgbClr val="996633"/>
                      </a:solidFill>
                      <a:latin typeface="Times New Roman"/>
                      <a:ea typeface="Times New Roman"/>
                    </a:rPr>
                    <a:t>Py/Cpy = 3: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>
                      <a:solidFill>
                        <a:srgbClr val="996633"/>
                      </a:solidFill>
                      <a:latin typeface="Times New Roman"/>
                      <a:ea typeface="Times New Roman"/>
                    </a:rPr>
                    <a:t>Diseminad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797000" y="1024200"/>
                  <a:ext cx="4159080" cy="115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6840" y="2177640"/>
                <a:ext cx="1913400" cy="1395360"/>
                <a:chOff x="6840" y="2177640"/>
                <a:chExt cx="1913400" cy="139536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73080" y="2177640"/>
                  <a:ext cx="1780560" cy="139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De Men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840" y="2177640"/>
                  <a:ext cx="1913400" cy="139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1920600" y="2177640"/>
                <a:ext cx="2875680" cy="1395360"/>
                <a:chOff x="1920600" y="2177640"/>
                <a:chExt cx="2875680" cy="139536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1987200" y="2177640"/>
                  <a:ext cx="2742480" cy="139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Frontera Potásica/Qz-S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920600" y="2177640"/>
                  <a:ext cx="2875680" cy="139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4797000" y="2177640"/>
                <a:ext cx="4159080" cy="1395360"/>
                <a:chOff x="4797000" y="2177640"/>
                <a:chExt cx="4159080" cy="139536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4863600" y="2177640"/>
                  <a:ext cx="4025880" cy="139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996633"/>
                      </a:solidFill>
                      <a:latin typeface="Times New Roman"/>
                      <a:ea typeface="Times New Roman"/>
                    </a:rPr>
                    <a:t>Py = 5-10%  Py/Cpy = 2.5: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996633"/>
                      </a:solidFill>
                      <a:latin typeface="Times New Roman"/>
                      <a:ea typeface="Times New Roman"/>
                    </a:rPr>
                    <a:t>Ppal Cpy, en stockwor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>
                      <a:solidFill>
                        <a:srgbClr val="996633"/>
                      </a:solidFill>
                      <a:latin typeface="Times New Roman"/>
                      <a:ea typeface="Times New Roman"/>
                    </a:rPr>
                    <a:t>+ Bo, Cs y Enargit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797000" y="2177640"/>
                  <a:ext cx="4159080" cy="139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6840" y="3573360"/>
                <a:ext cx="1913400" cy="1167840"/>
                <a:chOff x="6840" y="3573360"/>
                <a:chExt cx="1913400" cy="116784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73080" y="3573360"/>
                  <a:ext cx="1780560" cy="116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De Pirit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6840" y="3573360"/>
                  <a:ext cx="1913400" cy="116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1920600" y="3573360"/>
                <a:ext cx="2875680" cy="1167840"/>
                <a:chOff x="1920600" y="3573360"/>
                <a:chExt cx="2875680" cy="116784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1987200" y="3573360"/>
                  <a:ext cx="2742480" cy="116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Qz Sc y Argílic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920600" y="3573360"/>
                  <a:ext cx="2875680" cy="116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4797000" y="3573360"/>
                <a:ext cx="4159080" cy="1167840"/>
                <a:chOff x="4797000" y="3573360"/>
                <a:chExt cx="4159080" cy="11678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4863600" y="3573360"/>
                  <a:ext cx="4025880" cy="116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y = 10-15%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y/Cpy = 10: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Diseminada y en vetilla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797000" y="3573360"/>
                  <a:ext cx="4159080" cy="1167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6840" y="4741920"/>
                <a:ext cx="1913400" cy="1168200"/>
                <a:chOff x="6840" y="4741920"/>
                <a:chExt cx="1913400" cy="116820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73080" y="4741920"/>
                  <a:ext cx="1780560" cy="116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Extern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840" y="4741920"/>
                  <a:ext cx="1913400" cy="116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1920600" y="4741920"/>
                <a:ext cx="2875680" cy="1168200"/>
                <a:chOff x="1920600" y="4741920"/>
                <a:chExt cx="2875680" cy="116820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1987200" y="4741920"/>
                  <a:ext cx="2742480" cy="116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ropilític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920600" y="4741920"/>
                  <a:ext cx="2875680" cy="116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4797000" y="4741920"/>
                <a:ext cx="4159080" cy="1168200"/>
                <a:chOff x="4797000" y="4741920"/>
                <a:chExt cx="4159080" cy="116820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4863600" y="4741920"/>
                  <a:ext cx="4025880" cy="116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&lt; Py Mxlción de Cu escas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Esfalerita y Galena (muy baja ley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797000" y="4741920"/>
                  <a:ext cx="4159080" cy="1168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6840" y="5910480"/>
                <a:ext cx="1913400" cy="941400"/>
                <a:chOff x="6840" y="5910480"/>
                <a:chExt cx="1913400" cy="94140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73080" y="5910480"/>
                  <a:ext cx="1780560" cy="94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De Brech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6840" y="5910480"/>
                  <a:ext cx="1913400" cy="941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1920600" y="5910480"/>
                <a:ext cx="2875680" cy="941400"/>
                <a:chOff x="1920600" y="5910480"/>
                <a:chExt cx="2875680" cy="94140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1987200" y="5910480"/>
                  <a:ext cx="2742480" cy="94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Brechización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920600" y="5910480"/>
                  <a:ext cx="2875680" cy="941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4797000" y="5910480"/>
                <a:ext cx="4159080" cy="941400"/>
                <a:chOff x="4797000" y="5910480"/>
                <a:chExt cx="4159080" cy="94140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4863600" y="5910480"/>
                  <a:ext cx="4025880" cy="94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Leyes de Cu entre 2 y 5% Ppal fuente de men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797000" y="5910480"/>
                  <a:ext cx="4159080" cy="941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9" name=""/>
            <p:cNvSpPr/>
            <p:nvPr/>
          </p:nvSpPr>
          <p:spPr>
            <a:xfrm>
              <a:off x="0" y="304920"/>
              <a:ext cx="8964360" cy="65527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74320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6983280" cy="58802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rcRect l="17889" t="0" r="12502" b="0"/>
          <a:stretch/>
        </p:blipFill>
        <p:spPr>
          <a:xfrm>
            <a:off x="5105520" y="2205000"/>
            <a:ext cx="403848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Alteración y Mineralización Supérg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2420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4000" y="2637000"/>
            <a:ext cx="8459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ffffff"/>
                </a:solidFill>
                <a:latin typeface="Arial"/>
                <a:ea typeface="Arial"/>
              </a:rPr>
              <a:t>El enriquecimiento secundario se caracteriza por ser una zona de alto interés económico (Chuquicamata), ser producto de alteración supérgena durante la exhumación, meteorización y erosión del sistema y por presentar un perfil </a:t>
            </a:r>
            <a:r>
              <a:rPr b="0" lang="es-MX" sz="3600" spc="-1" strike="noStrike">
                <a:solidFill>
                  <a:srgbClr val="ffffff"/>
                </a:solidFill>
                <a:latin typeface="Arial"/>
                <a:ea typeface="Arial"/>
              </a:rPr>
              <a:t>característic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757840" cy="57578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4392720" y="3068640"/>
            <a:ext cx="471636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36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Gé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996633"/>
                </a:solidFill>
                <a:latin typeface="Arial"/>
              </a:rPr>
              <a:t>Su desarrollo se limita a sectores someros de la corteza (&lt;10km), debido a la disminución de la solubilidad del agua en magmas (&lt; 3K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lacionados a procesos hidrotermales magmáticos y son típicos de margen convergente de subducción (</a:t>
            </a:r>
            <a:r>
              <a:rPr b="0" lang="es-CL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varios % de agua</a:t>
            </a:r>
            <a:r>
              <a:rPr b="0" lang="es-CL" sz="24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)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, asociados a magmas calcoalcalinos, de composición media (andesítico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La mineralización metálica está ligada principalmente a metales de Cu, Mo, Ag, Au, Zn, Pb, asociados a la intrusión de magmas calcoalcalinos o alcalinos y oxidados, dominando los granitoides de Tipo I (</a:t>
            </a:r>
            <a:r>
              <a:rPr b="0" lang="he-IL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Diorita, Granitos y Gabros</a:t>
            </a:r>
            <a:r>
              <a:rPr b="0" lang="es-E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Gé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996633"/>
                </a:solidFill>
                <a:latin typeface="Arial"/>
                <a:ea typeface="Times New Roman"/>
              </a:rPr>
              <a:t>Hidrofracturamiento debido a Segunda Ebullición (Retrógrada) genera stockwork y brechización (</a:t>
            </a:r>
            <a:r>
              <a:rPr b="0" lang="es-MX" sz="3200" spc="-1" strike="noStrike">
                <a:solidFill>
                  <a:srgbClr val="996633"/>
                </a:solidFill>
                <a:latin typeface="Arial"/>
                <a:ea typeface="Times New Roman"/>
              </a:rPr>
              <a:t>p.e.:</a:t>
            </a:r>
            <a:r>
              <a:rPr b="0" lang="he-IL" sz="3200" spc="-1" strike="noStrike">
                <a:solidFill>
                  <a:srgbClr val="996633"/>
                </a:solidFill>
                <a:latin typeface="Arial"/>
                <a:ea typeface="Times New Roman"/>
              </a:rPr>
              <a:t>Agua a 2kb y 500°C </a:t>
            </a:r>
            <a:r>
              <a:rPr b="0" lang="es-MX" sz="3200" spc="-1" strike="noStrike">
                <a:solidFill>
                  <a:srgbClr val="996633"/>
                </a:solidFill>
                <a:latin typeface="Arial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sta ebullición es de carácter endotérmico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lo que lleva a la generación de una textura central de tipo porfírica del cuerpo intrusivo, rodeada de roca granodioritica equigranular afectada por brechización (producto de la compresión).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38098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Segunda Ebullició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343240" y="17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orfido y brechizacion" descr=""/>
          <p:cNvPicPr/>
          <p:nvPr/>
        </p:nvPicPr>
        <p:blipFill>
          <a:blip r:embed="rId2"/>
          <a:srcRect l="0" t="0" r="2752" b="0"/>
          <a:stretch/>
        </p:blipFill>
        <p:spPr>
          <a:xfrm>
            <a:off x="4025880" y="0"/>
            <a:ext cx="469908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763920" y="863640"/>
            <a:ext cx="22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umento de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3640" y="281952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xpansión por Ebull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-3600" y="3213000"/>
            <a:ext cx="353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Hidrofractur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Y textura porfí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23640" y="0"/>
            <a:ext cx="8569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oluciones convectivas magmáticas hidrotermales producen una alteración 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tásica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ntro y adyacente al intrus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irculación de aguas meteóricas convectivas (producto del calor de la intrusión) en la roca huésped generan la alteración 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opilí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n el enfriamiento del intrusivo, el sistema de aguas meteóricas ingresan y dominan las circulaciones en el sistema magmático, desarrollando la 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teración Qz-Se y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rgí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6704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genesis" descr=""/>
          <p:cNvPicPr/>
          <p:nvPr/>
        </p:nvPicPr>
        <p:blipFill>
          <a:blip r:embed="rId2"/>
          <a:stretch/>
        </p:blipFill>
        <p:spPr>
          <a:xfrm>
            <a:off x="2411280" y="765000"/>
            <a:ext cx="441972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0000"/>
                </a:solidFill>
                <a:latin typeface="Arial"/>
              </a:rPr>
              <a:t>Transporte de Meta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8856720" cy="1081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4005360"/>
            <a:ext cx="8893080" cy="969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4000" y="544500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omplejos Clorurados, Complejos Sulfur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263700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Los metales son insolubles como iones simples y consecuentemente son transportados como complej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Miner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 fluidos transportan azufre, cobre, molibdeno y oro (concentrarse en solución) y frente al cambio de condiciones termodinámicas se desestabilizan los complejos iónicos clorurados que transportan metales y permiten precipitar los sulfuros metálicos, concentrando mineraliz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Arial"/>
              </a:rPr>
              <a:t>Marco Tectón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 algn="just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6633"/>
                </a:solidFill>
                <a:latin typeface="TimesNewRomanPSMT"/>
                <a:ea typeface="Times New Roman"/>
              </a:rPr>
              <a:t>Fallas provocadas por alzamiento tectónico durante períodos compresivos, son importantes para la </a:t>
            </a:r>
            <a:r>
              <a:rPr b="0" lang="he-IL" sz="2800" spc="-1" strike="noStrike">
                <a:solidFill>
                  <a:srgbClr val="996633"/>
                </a:solidFill>
                <a:latin typeface="TimesNewRomanPSMT"/>
                <a:ea typeface="Times New Roman"/>
              </a:rPr>
              <a:t>mineralización </a:t>
            </a:r>
            <a:r>
              <a:rPr b="0" lang="es-MX" sz="2800" spc="-1" strike="noStrike">
                <a:solidFill>
                  <a:srgbClr val="996633"/>
                </a:solidFill>
                <a:latin typeface="TimesNewRomanPSMT"/>
                <a:ea typeface="Times New Roman"/>
              </a:rPr>
              <a:t>(ascenso rápido hidrofracturamien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Las franjas más importantes de pórfidos cupríferos chilenos se formaron inmediatamente después de la ocurrencia de las etapas de deformación compresiva Peruana, Incaica y Quechu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Evidencias de régimen extensivo en la zona de subducción durante el Jurásico y Cretácico Inferior (yacimientos de cobre estratoligados y sistemas de vetas cupríferas),cambió a régimen tipo compresivo en Cretácico Superior (dominado por mineralización de tipo pórfido cuprífe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Franja de Pórfidos Chile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1125000"/>
            <a:ext cx="86407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Arial"/>
                <a:ea typeface="Times New Roman"/>
              </a:rPr>
              <a:t>-</a:t>
            </a:r>
            <a:r>
              <a:rPr b="0" i="1" lang="es-ES_tradnl" sz="3200" spc="-1" strike="noStrike">
                <a:solidFill>
                  <a:srgbClr val="996633"/>
                </a:solidFill>
                <a:latin typeface="Arial"/>
                <a:ea typeface="Times New Roman"/>
              </a:rPr>
              <a:t>Cretácico Inferior</a:t>
            </a:r>
            <a:r>
              <a:rPr b="0" lang="es-ES_tradnl" sz="3200" spc="-1" strike="noStrike">
                <a:solidFill>
                  <a:srgbClr val="996633"/>
                </a:solidFill>
                <a:latin typeface="Arial"/>
                <a:ea typeface="Times New Roman"/>
              </a:rPr>
              <a:t>: Andaco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Arial"/>
                <a:ea typeface="Times New Roman"/>
              </a:rPr>
              <a:t>-</a:t>
            </a:r>
            <a:r>
              <a:rPr b="0" i="1" lang="es-ES_tradnl" sz="3200" spc="-1" strike="noStrike">
                <a:solidFill>
                  <a:srgbClr val="996633"/>
                </a:solidFill>
                <a:latin typeface="Arial"/>
                <a:ea typeface="Times New Roman"/>
              </a:rPr>
              <a:t>Paleoceno - Eoceno Inferior</a:t>
            </a:r>
            <a:r>
              <a:rPr b="0" lang="es-ES_tradnl" sz="3200" spc="-1" strike="noStrike">
                <a:solidFill>
                  <a:srgbClr val="996633"/>
                </a:solidFill>
                <a:latin typeface="Arial"/>
                <a:ea typeface="Times New Roman"/>
              </a:rPr>
              <a:t>: Cerro Colorado, Lomas Bayas - Fortuna del Cobre en explotación; Spence en desarro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i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oceno Superior - Oligoceno Inferior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: Quebrada Blanca, Rosario de Collahuasi, Ujina, El Abra, Radomiro Tomic, Chuquicamata, La Escondida, Cerro Zaldivar, El Salvad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i="1" lang="he-I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Mioceno Superior - Plioceno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: Los Pelambres, Río Blanco, Los Bronces, El Teniente.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tivos d</a:t>
            </a:r>
            <a:r>
              <a:rPr b="1" lang="he-IL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e Terreno</a:t>
            </a: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889308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6633"/>
                </a:solidFill>
                <a:latin typeface="Arial"/>
                <a:ea typeface="Times New Roman"/>
              </a:rPr>
              <a:t>Diques y rocas graníticas de texturas porfíd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6633"/>
                </a:solidFill>
                <a:latin typeface="Arial"/>
                <a:ea typeface="Times New Roman"/>
              </a:rPr>
              <a:t>Zonas de Brechas con fragmentos angulares (observando si existen sulfuros entre o en los fragment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lteración Propilítica (Epidota y Clori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lteración de Cuarzo-Seric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lteración Biotí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racturas conformadas de sulfuros o vetillas de cuarzo con sulfuros (para considerarse como posible mena, el espaciamiento debe ser baj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Zonas lixiviadas (arcillas) y “sombrero” de hierro (Goss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0000"/>
                </a:solidFill>
                <a:latin typeface="Arial"/>
              </a:rPr>
              <a:t>Precipita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00000" y="907920"/>
            <a:ext cx="7683480" cy="57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Arial"/>
                <a:ea typeface="Times New Roman"/>
              </a:rPr>
              <a:t>Depósitos de Cu de gran tonelaje y baja 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xisten de dos tipos: Cu-Mo y Cu-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e consideran de este tipo los depósitos mayores a las 20 Mt y leyes de Cu superiores a 0.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La mayoría fluctúa entre 50 a 500 Mt de mineral con ~1% Cu y 0.02% 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996633"/>
                </a:solidFill>
                <a:latin typeface="Arial"/>
              </a:rPr>
              <a:t>Proveen más del 50% del Cu extraido a nivel mundial, con cerca de 100 mi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Los depósitos de mayor tonelaje del mundo corresponden a El Teniente y Chuquicam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En Chile existen 16 yacimientos de este t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2781360"/>
            <a:ext cx="896472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pósitos relacionados a intrusiones grandes, epigenéticas, de bajas leyes y que pueden ser explotados mediante técnicas mineras de gran envergadu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stos depositos son importantes debido a que pueden ser explotados a una gran escala y bajo costo. Los principales yacimientos se encuentran en Chile, Perú, SW de EEUU y Canad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Relaciones Gené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1988640"/>
            <a:ext cx="8589960" cy="37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996633"/>
                </a:solidFill>
                <a:latin typeface="Arial"/>
              </a:rPr>
              <a:t>Asociados a intrusiones epizonales, de carácter porfírico (apófisis) y generalmente félsicas (Tenien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 menudo corresponden a eventos múltiples de intrusión y mineralización (evidenciados por diques y brech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os depósitos pueden ubicarse en el intrusivo mismo, en la roca de caja o ambos, los cuales suelen estar intensamente fractu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Mineralización y Alte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996633"/>
                </a:solidFill>
                <a:latin typeface="Arial"/>
                <a:ea typeface="Times New Roman"/>
              </a:rPr>
              <a:t>La mineralización en estos depósitos se encuentra principalmente en fracturas (vetas) o en zonas de alteración adyacentes a estas</a:t>
            </a:r>
            <a:r>
              <a:rPr b="0" lang="es-ES" sz="28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996633"/>
                </a:solidFill>
                <a:latin typeface="Arial"/>
              </a:rPr>
              <a:t>e intercrecidos con Qz y 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l cuerpo de mena generalmente posee una forma cilíndrica, apareciendo ésta de manera diseminada o en stockwork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,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con leyes típicas entre 0.4 y 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 mineralogía original de sulfuros  de los pórfidos cupríferos corresponde a: Pirita, Calcopirita, Bornita y Molibden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ff"/>
                </a:solidFill>
                <a:latin typeface="Arial"/>
              </a:rPr>
              <a:t>Mineralización y Altera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3640" y="3499920"/>
            <a:ext cx="835164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xiste una zonación de la mineralización hipógena (de centro hacia afuera): Bornita, Cpy y Py. La Mo aparece de manera variable y el Au, de existir, se encuentra en los bordes de los sulfu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2:43:29Z</dcterms:created>
  <dc:creator>sablereau</dc:creator>
  <dc:description/>
  <dc:language>en-US</dc:language>
  <cp:lastModifiedBy>Valeria</cp:lastModifiedBy>
  <dcterms:modified xsi:type="dcterms:W3CDTF">2006-08-23T00:03:50Z</dcterms:modified>
  <cp:revision>12</cp:revision>
  <dc:subject/>
  <dc:title>Pórfidos Cupríferos</dc:title>
</cp:coreProperties>
</file>