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FA6-69A0-4E63-BE49-B98DE311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D3BC-8B83-4122-99E2-C10E7855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C1C-BF7B-42AB-A7BF-00B30A43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8CC-348C-444F-A7CD-D14938F1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8DF-117D-4D06-BF3D-73BAE04B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23B-C98F-4D38-8D16-6A409D4F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486-DA40-415E-BD49-6FCBD3FE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E7B-60DC-48BF-B3C5-EA685792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C57-2385-43BE-B4D5-82BBA792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048-D68D-4440-BC8D-1DF846AA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2210-DB8F-4C49-85C5-BA858630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468-C86B-43E6-BCD8-D285E783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53AF-31B0-4A28-B7EF-141A5D4B5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Arial"/>
              </a:rPr>
              <a:t>Pórfidos Cuprífer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105160"/>
            <a:ext cx="6400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boratorio Metalogé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mestre Primavera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7280" y="-243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odelo clásico de Lowell y Gilbert (1970)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50920" y="981000"/>
            <a:ext cx="8892720" cy="5876640"/>
            <a:chOff x="250920" y="981000"/>
            <a:chExt cx="8892720" cy="5876640"/>
          </a:xfrm>
        </p:grpSpPr>
        <p:grpSp>
          <p:nvGrpSpPr>
            <p:cNvPr id="64" name=""/>
            <p:cNvGrpSpPr/>
            <p:nvPr/>
          </p:nvGrpSpPr>
          <p:grpSpPr>
            <a:xfrm>
              <a:off x="257760" y="986400"/>
              <a:ext cx="8877960" cy="5864760"/>
              <a:chOff x="257760" y="986400"/>
              <a:chExt cx="8877960" cy="586476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57760" y="986400"/>
                <a:ext cx="2102040" cy="831960"/>
                <a:chOff x="257760" y="986400"/>
                <a:chExt cx="2102040" cy="8319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24000" y="986400"/>
                  <a:ext cx="19692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ter</a:t>
                  </a: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ción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57760" y="986400"/>
                  <a:ext cx="210204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2360160" y="986400"/>
                <a:ext cx="3208680" cy="831960"/>
                <a:chOff x="2360160" y="986400"/>
                <a:chExt cx="3208680" cy="8319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2427120" y="986400"/>
                  <a:ext cx="307476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sociación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360160" y="986400"/>
                  <a:ext cx="32086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5569560" y="986400"/>
                <a:ext cx="3566160" cy="831960"/>
                <a:chOff x="5569560" y="986400"/>
                <a:chExt cx="3566160" cy="8319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5635800" y="986400"/>
                  <a:ext cx="34326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ineralogí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569560" y="986400"/>
                  <a:ext cx="356616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257760" y="1818720"/>
                <a:ext cx="2102040" cy="1122120"/>
                <a:chOff x="257760" y="1818720"/>
                <a:chExt cx="2102040" cy="11221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24000" y="1818720"/>
                  <a:ext cx="19692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otás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57760" y="1818720"/>
                  <a:ext cx="210204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360160" y="1818720"/>
                <a:ext cx="3208680" cy="1122120"/>
                <a:chOff x="2360160" y="1818720"/>
                <a:chExt cx="3208680" cy="11221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427120" y="1818720"/>
                  <a:ext cx="307476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eld-K, Biotita (qzo, clo, mt)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360160" y="1818720"/>
                  <a:ext cx="320868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5569560" y="1818720"/>
                <a:ext cx="3566160" cy="1122120"/>
                <a:chOff x="5569560" y="1818720"/>
                <a:chExt cx="3566160" cy="11221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5635800" y="1818720"/>
                  <a:ext cx="34326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o, Py, Cpy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569560" y="1818720"/>
                  <a:ext cx="356616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57760" y="2941200"/>
                <a:ext cx="2102040" cy="831960"/>
                <a:chOff x="257760" y="2941200"/>
                <a:chExt cx="2102040" cy="8319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24000" y="2941200"/>
                  <a:ext cx="19692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pilít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57760" y="2941200"/>
                  <a:ext cx="210204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360160" y="2941200"/>
                <a:ext cx="3208680" cy="831960"/>
                <a:chOff x="2360160" y="2941200"/>
                <a:chExt cx="3208680" cy="8319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427120" y="2941200"/>
                  <a:ext cx="307476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p, Clo (Cc, Ab)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360160" y="2941200"/>
                  <a:ext cx="32086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569560" y="2941200"/>
                <a:ext cx="3566160" cy="831960"/>
                <a:chOff x="5569560" y="2941200"/>
                <a:chExt cx="3566160" cy="8319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635800" y="2941200"/>
                  <a:ext cx="34326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y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569560" y="2941200"/>
                  <a:ext cx="356616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57760" y="3773880"/>
                <a:ext cx="2102040" cy="1122480"/>
                <a:chOff x="257760" y="3773880"/>
                <a:chExt cx="2102040" cy="1122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24000" y="3773880"/>
                  <a:ext cx="1969200" cy="112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uarzo-Sericit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57760" y="3773880"/>
                  <a:ext cx="2102040" cy="112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360160" y="3773880"/>
                <a:ext cx="3208680" cy="1122480"/>
                <a:chOff x="2360160" y="3773880"/>
                <a:chExt cx="3208680" cy="1122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427120" y="3773880"/>
                  <a:ext cx="3074760" cy="112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Qz, Sc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360160" y="3773880"/>
                  <a:ext cx="3208680" cy="112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569560" y="3773880"/>
                <a:ext cx="3566160" cy="1122480"/>
                <a:chOff x="5569560" y="3773880"/>
                <a:chExt cx="3566160" cy="11224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635800" y="3773880"/>
                  <a:ext cx="3432600" cy="112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py, Py, Aspy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569560" y="3773880"/>
                  <a:ext cx="3566160" cy="112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57760" y="4896720"/>
                <a:ext cx="2102040" cy="1122120"/>
                <a:chOff x="257760" y="4896720"/>
                <a:chExt cx="2102040" cy="11221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24000" y="4896720"/>
                  <a:ext cx="19692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gílica Avanzad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57760" y="4896720"/>
                  <a:ext cx="210204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360160" y="4896720"/>
                <a:ext cx="3208680" cy="1122120"/>
                <a:chOff x="2360160" y="4896720"/>
                <a:chExt cx="3208680" cy="11221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427120" y="4896720"/>
                  <a:ext cx="307476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, Jarosita, Qz, </a:t>
                  </a:r>
                  <a:r>
                    <a:rPr b="1" lang="es-CL" sz="2200" spc="-1" strike="noStrike">
                      <a:solidFill>
                        <a:srgbClr val="ffffff"/>
                      </a:solidFill>
                      <a:latin typeface="Arial"/>
                    </a:rPr>
                    <a:t>Sc</a:t>
                  </a:r>
                  <a:r>
                    <a:rPr b="0" lang="es-CL" sz="2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queroso, Caolín,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360160" y="4896720"/>
                  <a:ext cx="320868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569560" y="4896720"/>
                <a:ext cx="3566160" cy="1122120"/>
                <a:chOff x="5569560" y="4896720"/>
                <a:chExt cx="3566160" cy="11221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635800" y="4896720"/>
                  <a:ext cx="34326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nargita, </a:t>
                  </a:r>
                  <a:r>
                    <a:rPr b="1" lang="es-CL" sz="2400" spc="-1" strike="noStrike">
                      <a:solidFill>
                        <a:srgbClr val="ffffff"/>
                      </a:solidFill>
                      <a:latin typeface="Arial"/>
                    </a:rPr>
                    <a:t>Py, Au, Ag,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ropiment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569560" y="4896720"/>
                  <a:ext cx="356616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57760" y="6019200"/>
                <a:ext cx="2102040" cy="831960"/>
                <a:chOff x="257760" y="6019200"/>
                <a:chExt cx="2102040" cy="8319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24000" y="6019200"/>
                  <a:ext cx="19692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gíl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57760" y="6019200"/>
                  <a:ext cx="210204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60160" y="6019200"/>
                <a:ext cx="3208680" cy="831960"/>
                <a:chOff x="2360160" y="6019200"/>
                <a:chExt cx="3208680" cy="8319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427120" y="6019200"/>
                  <a:ext cx="307476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imolita, jarosit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60160" y="6019200"/>
                  <a:ext cx="32086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569560" y="6019200"/>
                <a:ext cx="3566160" cy="831960"/>
                <a:chOff x="5569560" y="6019200"/>
                <a:chExt cx="3566160" cy="8319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635800" y="6019200"/>
                  <a:ext cx="34326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oethita, Hematit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569560" y="6019200"/>
                  <a:ext cx="356616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250920" y="981000"/>
              <a:ext cx="8892720" cy="5876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85768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7308720" cy="615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105520" y="3284640"/>
            <a:ext cx="4038480" cy="31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304920"/>
            <a:ext cx="8964360" cy="6552720"/>
            <a:chOff x="0" y="304920"/>
            <a:chExt cx="8964360" cy="6552720"/>
          </a:xfrm>
        </p:grpSpPr>
        <p:grpSp>
          <p:nvGrpSpPr>
            <p:cNvPr id="124" name=""/>
            <p:cNvGrpSpPr/>
            <p:nvPr/>
          </p:nvGrpSpPr>
          <p:grpSpPr>
            <a:xfrm>
              <a:off x="6840" y="309600"/>
              <a:ext cx="8949240" cy="6542280"/>
              <a:chOff x="6840" y="309600"/>
              <a:chExt cx="8949240" cy="654228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840" y="309600"/>
                <a:ext cx="1913400" cy="714240"/>
                <a:chOff x="6840" y="309600"/>
                <a:chExt cx="1913400" cy="7142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73080" y="309600"/>
                  <a:ext cx="1780560" cy="71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Zo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840" y="309600"/>
                  <a:ext cx="1913400" cy="71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920600" y="309600"/>
                <a:ext cx="2875680" cy="714240"/>
                <a:chOff x="1920600" y="309600"/>
                <a:chExt cx="2875680" cy="7142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987200" y="309600"/>
                  <a:ext cx="2742480" cy="71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teració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920600" y="309600"/>
                  <a:ext cx="2875680" cy="71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797000" y="309600"/>
                <a:ext cx="4159080" cy="714240"/>
                <a:chOff x="4797000" y="309600"/>
                <a:chExt cx="4159080" cy="7142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863600" y="309600"/>
                  <a:ext cx="4025880" cy="71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ineralizac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97000" y="309600"/>
                  <a:ext cx="4159080" cy="71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6840" y="1024200"/>
                <a:ext cx="1913400" cy="1152720"/>
                <a:chOff x="6840" y="1024200"/>
                <a:chExt cx="1913400" cy="1152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73080" y="1024200"/>
                  <a:ext cx="1780560" cy="11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ter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840" y="1024200"/>
                  <a:ext cx="1913400" cy="11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920600" y="1024200"/>
                <a:ext cx="2875680" cy="1152720"/>
                <a:chOff x="1920600" y="1024200"/>
                <a:chExt cx="2875680" cy="1152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987200" y="1024200"/>
                  <a:ext cx="2742480" cy="11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otásic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920600" y="1024200"/>
                  <a:ext cx="2875680" cy="11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797000" y="1024200"/>
                <a:ext cx="4159080" cy="1152720"/>
                <a:chOff x="4797000" y="1024200"/>
                <a:chExt cx="4159080" cy="1152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863600" y="1024200"/>
                  <a:ext cx="4025880" cy="11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8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y = 2-5% </a:t>
                  </a:r>
                  <a:r>
                    <a:rPr b="1" lang="es-CL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y/Cpy = 3: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Diseminad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97000" y="1024200"/>
                  <a:ext cx="4159080" cy="11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840" y="2177640"/>
                <a:ext cx="1913400" cy="1395360"/>
                <a:chOff x="6840" y="2177640"/>
                <a:chExt cx="1913400" cy="13953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3080" y="2177640"/>
                  <a:ext cx="178056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 Me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840" y="2177640"/>
                  <a:ext cx="1913400" cy="139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920600" y="2177640"/>
                <a:ext cx="2875680" cy="1395360"/>
                <a:chOff x="1920600" y="2177640"/>
                <a:chExt cx="2875680" cy="13953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987200" y="2177640"/>
                  <a:ext cx="274248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rontera Potásica/Qz-S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920600" y="2177640"/>
                  <a:ext cx="2875680" cy="139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797000" y="2177640"/>
                <a:ext cx="4159080" cy="1395360"/>
                <a:chOff x="4797000" y="2177640"/>
                <a:chExt cx="4159080" cy="13953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863600" y="2177640"/>
                  <a:ext cx="402588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y = 5-10%  Py/Cpy = 2.5: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pal Cpy, en stockwor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+ Bo, Cs y Enargit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797000" y="2177640"/>
                  <a:ext cx="4159080" cy="139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840" y="3573360"/>
                <a:ext cx="1913400" cy="1167840"/>
                <a:chOff x="6840" y="3573360"/>
                <a:chExt cx="1913400" cy="11678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73080" y="3573360"/>
                  <a:ext cx="1780560" cy="116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 Pirit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840" y="3573360"/>
                  <a:ext cx="1913400" cy="116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920600" y="3573360"/>
                <a:ext cx="2875680" cy="1167840"/>
                <a:chOff x="1920600" y="3573360"/>
                <a:chExt cx="2875680" cy="11678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987200" y="3573360"/>
                  <a:ext cx="2742480" cy="116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Qz Sc y Argílic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920600" y="3573360"/>
                  <a:ext cx="2875680" cy="116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797000" y="3573360"/>
                <a:ext cx="4159080" cy="1167840"/>
                <a:chOff x="4797000" y="3573360"/>
                <a:chExt cx="4159080" cy="11678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863600" y="3573360"/>
                  <a:ext cx="4025880" cy="116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y = 10-15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y/Cpy = 10: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iseminada y en vetilla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797000" y="3573360"/>
                  <a:ext cx="4159080" cy="116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840" y="4741920"/>
                <a:ext cx="1913400" cy="1168200"/>
                <a:chOff x="6840" y="4741920"/>
                <a:chExt cx="1913400" cy="11682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73080" y="4741920"/>
                  <a:ext cx="1780560" cy="116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xter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840" y="4741920"/>
                  <a:ext cx="1913400" cy="116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920600" y="4741920"/>
                <a:ext cx="2875680" cy="1168200"/>
                <a:chOff x="1920600" y="4741920"/>
                <a:chExt cx="2875680" cy="11682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987200" y="4741920"/>
                  <a:ext cx="2742480" cy="116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pilític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920600" y="4741920"/>
                  <a:ext cx="2875680" cy="116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797000" y="4741920"/>
                <a:ext cx="4159080" cy="1168200"/>
                <a:chOff x="4797000" y="4741920"/>
                <a:chExt cx="4159080" cy="11682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863600" y="4741920"/>
                  <a:ext cx="4025880" cy="116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&lt; Py Mxlción de Cu escas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sfalerita y Galena (muy baja ley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97000" y="4741920"/>
                  <a:ext cx="4159080" cy="116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840" y="5910480"/>
                <a:ext cx="1913400" cy="941400"/>
                <a:chOff x="6840" y="5910480"/>
                <a:chExt cx="1913400" cy="941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3080" y="5910480"/>
                  <a:ext cx="1780560" cy="94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 Brech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840" y="5910480"/>
                  <a:ext cx="1913400" cy="94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920600" y="5910480"/>
                <a:ext cx="2875680" cy="941400"/>
                <a:chOff x="1920600" y="5910480"/>
                <a:chExt cx="2875680" cy="9414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987200" y="5910480"/>
                  <a:ext cx="2742480" cy="94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rechizació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920600" y="5910480"/>
                  <a:ext cx="2875680" cy="94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797000" y="5910480"/>
                <a:ext cx="4159080" cy="941400"/>
                <a:chOff x="4797000" y="5910480"/>
                <a:chExt cx="4159080" cy="9414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863600" y="5910480"/>
                  <a:ext cx="4025880" cy="94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eyes de Cu entre 2 y 5% Ppal fuente de men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797000" y="5910480"/>
                  <a:ext cx="4159080" cy="94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9" name=""/>
            <p:cNvSpPr/>
            <p:nvPr/>
          </p:nvSpPr>
          <p:spPr>
            <a:xfrm>
              <a:off x="0" y="304920"/>
              <a:ext cx="8964360" cy="6552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74320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6983280" cy="5880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rcRect l="17889" t="0" r="12502" b="0"/>
          <a:stretch/>
        </p:blipFill>
        <p:spPr>
          <a:xfrm>
            <a:off x="5105520" y="2205000"/>
            <a:ext cx="40384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Alteración y Mineralización Supérg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2420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2637000"/>
            <a:ext cx="84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  <a:ea typeface="Arial"/>
              </a:rPr>
              <a:t>El enriquecimiento secundario se caracteriza por ser una zona de alto interés económico (Chuquicamata), ser producto de alteración supérgena durante la exhumación, meteorización y erosión del sistema y por presentar un perfil 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  <a:ea typeface="Arial"/>
              </a:rPr>
              <a:t>característi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57840" cy="5757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392720" y="3068640"/>
            <a:ext cx="471636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6633"/>
                </a:solidFill>
                <a:latin typeface="Arial"/>
              </a:rPr>
              <a:t>Su desarrollo se limita a sectores someros de la corteza (&lt;10km), debido a la disminución de la solubilidad del agua en magmas (&lt; 3K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lacionados a procesos hidrotermales magmáticos y son típicos de margen convergente de subducción (</a:t>
            </a: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varios % de agua</a:t>
            </a:r>
            <a:r>
              <a:rPr b="0" lang="es-CL" sz="24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)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asociados a magmas calcoalcalinos, de composición media (andesít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La mineralización metálica está ligada principalmente a metales de Cu, Mo, Ag, Au, Zn, Pb, asociados a la intrusión de magmas calcoalcalinos o alcalinos y oxidados, dominando los granitoides de Tipo I (</a:t>
            </a:r>
            <a:r>
              <a:rPr b="0" lang="he-I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Diorita, Granitos y Gabros</a:t>
            </a:r>
            <a:r>
              <a:rPr b="0" lang="es-E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Hidrofracturamiento debido a Segunda Ebullición (Retrógrada) genera stockwork y brechización (</a:t>
            </a:r>
            <a:r>
              <a:rPr b="0" lang="es-MX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p.e.:</a:t>
            </a:r>
            <a:r>
              <a:rPr b="0" lang="he-I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Agua a 2kb y 500°C </a:t>
            </a:r>
            <a:r>
              <a:rPr b="0" lang="es-MX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a ebullición es de carácter endotérmic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o que lleva a la generación de una textura central de tipo porfírica del cuerpo intrusivo, rodeada de roca granodioritica equigranular afectada por brechización (producto de la compresión)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Segunda Ebullició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43240" y="17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orfido y brechizacion" descr=""/>
          <p:cNvPicPr/>
          <p:nvPr/>
        </p:nvPicPr>
        <p:blipFill>
          <a:blip r:embed="rId2"/>
          <a:srcRect l="0" t="0" r="2752" b="0"/>
          <a:stretch/>
        </p:blipFill>
        <p:spPr>
          <a:xfrm>
            <a:off x="4025880" y="0"/>
            <a:ext cx="469908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3920" y="863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umento de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3640" y="281952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pansión por Ebull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3600" y="3213000"/>
            <a:ext cx="353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Hidrofractur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Y textura porfí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3640" y="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luciones convectivas magmáticas hidrotermales producen una alteración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tásic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ntro y adyacente al intru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irculación de aguas meteóricas convectivas (producto del calor de la intrusión) en la roca huésped generan la alteración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pi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 el enfriamiento del intrusivo, el sistema de aguas meteóricas ingresan y dominan las circulaciones en el sistema magmático, desarrollando la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Qz-Se y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gí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704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genesis" descr=""/>
          <p:cNvPicPr/>
          <p:nvPr/>
        </p:nvPicPr>
        <p:blipFill>
          <a:blip r:embed="rId2"/>
          <a:stretch/>
        </p:blipFill>
        <p:spPr>
          <a:xfrm>
            <a:off x="2411280" y="765000"/>
            <a:ext cx="441972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Transporte de Met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8856720" cy="108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8893080" cy="96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5445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mplejos Clorurados, Complejos Sulfu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2637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Los metales son insolubles como iones simples y consecuentemente son transportados como comple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Miner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 fluidos transportan azufre, cobre, molibdeno y oro (concentrarse en solución) y frente al cambio de condiciones termodinámicas se desestabilizan los complejos iónicos clorurados que transportan metales y permiten precipitar los sulfuros metálicos, concentrando mineral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Marco Tectó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imesNewRomanPSMT"/>
                <a:ea typeface="Times New Roman"/>
              </a:rPr>
              <a:t>Fallas provocadas por alzamiento tectónico durante períodos compresivos, son importantes para la </a:t>
            </a:r>
            <a:r>
              <a:rPr b="0" lang="he-IL" sz="2800" spc="-1" strike="noStrike">
                <a:solidFill>
                  <a:srgbClr val="996633"/>
                </a:solidFill>
                <a:latin typeface="TimesNewRomanPSMT"/>
                <a:ea typeface="Times New Roman"/>
              </a:rPr>
              <a:t>mineralización </a:t>
            </a:r>
            <a:r>
              <a:rPr b="0" lang="es-MX" sz="2800" spc="-1" strike="noStrike">
                <a:solidFill>
                  <a:srgbClr val="996633"/>
                </a:solidFill>
                <a:latin typeface="TimesNewRomanPSMT"/>
                <a:ea typeface="Times New Roman"/>
              </a:rPr>
              <a:t>(ascenso rápido hidrofracturami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Las franjas más importantes de pórfidos cupríferos chilenos se formaron inmediatamente después de la ocurrencia de las etapas de deformación compresiva Peruana, Incaica y Quech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Evidencias de régimen extensivo en la zona de subducción durante el Jurásico y Cretácico Inferior (yacimientos de cobre estratoligados y sistemas de vetas cupríferas),cambió a régimen tipo compresivo en Cretácico Superior (dominado por mineralización de tipo pórfido cupríf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Franja de Pórfidos Chil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1125000"/>
            <a:ext cx="8640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-</a:t>
            </a:r>
            <a:r>
              <a:rPr b="0" i="1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Cretácico Inferior</a:t>
            </a: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: Andac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-</a:t>
            </a:r>
            <a:r>
              <a:rPr b="0" i="1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Paleoceno - Eoceno Inferior</a:t>
            </a: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: Cerro Colorado, Lomas Bayas - Fortuna del Cobre en explotación; Spence en desarr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i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oceno Superior - Oligoceno Inferior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Quebrada Blanca, Rosario de Collahuasi, Ujina, El Abra, Radomiro Tomic, Chuquicamata, La Escondida, Cerro Zaldivar, El Salv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i="1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ioceno Superior - Plioceno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Los Pelambres, Río Blanco, Los Bronces, El Teniente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tivos d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e Terreno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89308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Arial"/>
                <a:ea typeface="Times New Roman"/>
              </a:rPr>
              <a:t>Diques y rocas graníticas de texturas porfíd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Arial"/>
                <a:ea typeface="Times New Roman"/>
              </a:rPr>
              <a:t>Zonas de Brechas con fragmentos angulares (observando si existen sulfuros entre o en los frag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Propilítica (Epidota y Clor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de Cuarzo-Seric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Biot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racturas conformadas de sulfuros o vetillas de cuarzo con sulfuros (para considerarse como posible mena, el espaciamiento debe ser baj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onas lixiviadas (arcillas) y “sombrero” de hierro (Goss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Precipit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768348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Depósitos de Cu de gran tonelaje y baja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 de dos tipos: Cu-Mo y Cu-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 consideran de este tipo los depósitos mayores a las 20 Mt y leyes de Cu superiores a 0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a mayoría fluctúa entre 50 a 500 Mt de mineral con ~1% Cu y 0.02% 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6633"/>
                </a:solidFill>
                <a:latin typeface="Arial"/>
              </a:rPr>
              <a:t>Proveen más del 50% del Cu extraido a nivel mundial, con cerca de 100 m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os depósitos de mayor tonelaje del mundo corresponden a El Teniente y Chuquica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n Chile existen 16 yacimientos de este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2781360"/>
            <a:ext cx="896472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pósitos relacionados a intrusiones grandes, epigenéticas, de bajas leyes y que pueden ser explotados mediante técnicas mineras de gran envergad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tos depositos son importantes debido a que pueden ser explotados a una gran escala y bajo costo. Los principales yacimientos se encuentran en Chile, Perú, SW de EEUU y Canad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Relaciones Gené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58996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6633"/>
                </a:solidFill>
                <a:latin typeface="Arial"/>
              </a:rPr>
              <a:t>Asociados a intrusiones epizonales, de carácter porfírico (apófisis) y generalmente félsicas (Teni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 menudo corresponden a eventos múltiples de intrusión y mineralización (evidenciados por diques y brech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os depósitos pueden ubicarse en el intrusivo mismo, en la roca de caja o ambos, los cuales suelen estar intensamente fractu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Mineralización y Alt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996633"/>
                </a:solidFill>
                <a:latin typeface="Arial"/>
                <a:ea typeface="Times New Roman"/>
              </a:rPr>
              <a:t>La mineralización en estos depósitos se encuentra principalmente en fracturas (vetas) o en zonas de alteración adyacentes a estas</a:t>
            </a:r>
            <a:r>
              <a:rPr b="0" lang="es-ES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996633"/>
                </a:solidFill>
                <a:latin typeface="Arial"/>
              </a:rPr>
              <a:t>e intercrecidos con Qz y 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cuerpo de mena generalmente posee una forma cilíndrica, apareciendo ésta de manera diseminada o en stockwork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n leyes típicas entre 0.4 y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mineralogía original de sulfuros  de los pórfidos cupríferos corresponde a: Pirita, Calcopirita, Bornita y Molibden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Mineralización y Alter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3499920"/>
            <a:ext cx="83516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xiste una zonación de la mineralización hipógena (de centro hacia afuera): Bornita, Cpy y Py. La Mo aparece de manera variable y el Au, de existir, se encuentra en los bordes de los sulf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2:43:29Z</dcterms:created>
  <dc:creator>sablereau</dc:creator>
  <dc:description/>
  <dc:language>en-US</dc:language>
  <cp:lastModifiedBy>Valeria</cp:lastModifiedBy>
  <dcterms:modified xsi:type="dcterms:W3CDTF">2006-08-23T00:03:50Z</dcterms:modified>
  <cp:revision>12</cp:revision>
  <dc:subject/>
  <dc:title>Pórfidos Cupríferos</dc:title>
</cp:coreProperties>
</file>