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6F1-AA1A-4BBE-8AD9-73A71C45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F69-E6B0-4228-A0CE-7FC13176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3FF-5D17-495B-9E3F-432B1FB3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AED-0C94-4582-8F98-C5FEEE4A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525-6FB6-4B67-93FB-6DB9D29B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765-3235-4AE9-9BE5-9A93BBC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502-00A1-4301-B889-FFF8C92B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987-3B18-46F4-B3E7-6BD0010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BA6-08A3-45BF-A556-A6A5549D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F9A-C4FF-495B-A0D7-F8E17C8D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37A-1383-4F04-8348-5260FCF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852-E357-44C8-BFE7-9B77F7C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5129-12CD-41BA-A5AA-92A23667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Pórfidos Cupríf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boratorio Metal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7280" y="-243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elo clásico de Lowell y Gilbert (1970)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0920" y="981000"/>
            <a:ext cx="8892720" cy="5876640"/>
            <a:chOff x="250920" y="981000"/>
            <a:chExt cx="8892720" cy="5876640"/>
          </a:xfrm>
        </p:grpSpPr>
        <p:grpSp>
          <p:nvGrpSpPr>
            <p:cNvPr id="64" name=""/>
            <p:cNvGrpSpPr/>
            <p:nvPr/>
          </p:nvGrpSpPr>
          <p:grpSpPr>
            <a:xfrm>
              <a:off x="257760" y="986400"/>
              <a:ext cx="8877960" cy="5864760"/>
              <a:chOff x="257760" y="986400"/>
              <a:chExt cx="8877960" cy="58647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57760" y="986400"/>
                <a:ext cx="2102040" cy="831960"/>
                <a:chOff x="257760" y="986400"/>
                <a:chExt cx="2102040" cy="831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4000" y="9864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</a:t>
                  </a: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7760" y="9864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360160" y="986400"/>
                <a:ext cx="3208680" cy="831960"/>
                <a:chOff x="2360160" y="986400"/>
                <a:chExt cx="3208680" cy="8319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427120" y="9864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soci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360160" y="9864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569560" y="986400"/>
                <a:ext cx="3566160" cy="831960"/>
                <a:chOff x="5569560" y="986400"/>
                <a:chExt cx="3566160" cy="8319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635800" y="9864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ogí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69560" y="9864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57760" y="1818720"/>
                <a:ext cx="2102040" cy="1122120"/>
                <a:chOff x="257760" y="1818720"/>
                <a:chExt cx="2102040" cy="11221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24000" y="1818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57760" y="1818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360160" y="1818720"/>
                <a:ext cx="3208680" cy="1122120"/>
                <a:chOff x="2360160" y="1818720"/>
                <a:chExt cx="3208680" cy="1122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27120" y="1818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eld-K, Biotita (qzo, clo, mt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60160" y="1818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5569560" y="1818720"/>
                <a:ext cx="3566160" cy="1122120"/>
                <a:chOff x="5569560" y="1818720"/>
                <a:chExt cx="3566160" cy="1122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635800" y="1818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o, Py, C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9560" y="1818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7760" y="2941200"/>
                <a:ext cx="2102040" cy="831960"/>
                <a:chOff x="257760" y="2941200"/>
                <a:chExt cx="2102040" cy="831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4000" y="2941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7760" y="2941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0160" y="2941200"/>
                <a:ext cx="3208680" cy="831960"/>
                <a:chOff x="2360160" y="2941200"/>
                <a:chExt cx="3208680" cy="831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27120" y="2941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p, Clo (Cc, Ab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360160" y="2941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569560" y="2941200"/>
                <a:ext cx="3566160" cy="831960"/>
                <a:chOff x="5569560" y="2941200"/>
                <a:chExt cx="3566160" cy="83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635800" y="2941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69560" y="2941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57760" y="3773880"/>
                <a:ext cx="2102040" cy="1122480"/>
                <a:chOff x="257760" y="3773880"/>
                <a:chExt cx="2102040" cy="1122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4000" y="3773880"/>
                  <a:ext cx="19692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uarzo-Serici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7760" y="3773880"/>
                  <a:ext cx="210204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60160" y="3773880"/>
                <a:ext cx="3208680" cy="1122480"/>
                <a:chOff x="2360160" y="3773880"/>
                <a:chExt cx="3208680" cy="11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427120" y="3773880"/>
                  <a:ext cx="307476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, S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360160" y="3773880"/>
                  <a:ext cx="320868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69560" y="3773880"/>
                <a:ext cx="3566160" cy="1122480"/>
                <a:chOff x="5569560" y="3773880"/>
                <a:chExt cx="3566160" cy="112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635800" y="3773880"/>
                  <a:ext cx="34326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py, Py, As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69560" y="3773880"/>
                  <a:ext cx="356616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7760" y="4896720"/>
                <a:ext cx="2102040" cy="1122120"/>
                <a:chOff x="257760" y="4896720"/>
                <a:chExt cx="2102040" cy="1122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24000" y="4896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 Avanzad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7760" y="4896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60160" y="4896720"/>
                <a:ext cx="3208680" cy="1122120"/>
                <a:chOff x="2360160" y="4896720"/>
                <a:chExt cx="3208680" cy="11221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427120" y="4896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, Jarosita, Qz, </a:t>
                  </a:r>
                  <a:r>
                    <a:rPr b="1" lang="es-CL" sz="2200" spc="-1" strike="noStrike">
                      <a:solidFill>
                        <a:srgbClr val="ffffff"/>
                      </a:solidFill>
                      <a:latin typeface="Arial"/>
                    </a:rPr>
                    <a:t>Sc</a:t>
                  </a:r>
                  <a:r>
                    <a:rPr b="0" lang="es-CL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queroso, Caolín,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60160" y="4896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569560" y="4896720"/>
                <a:ext cx="3566160" cy="1122120"/>
                <a:chOff x="5569560" y="4896720"/>
                <a:chExt cx="3566160" cy="1122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5800" y="4896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nargita, </a:t>
                  </a:r>
                  <a:r>
                    <a:rPr b="1" lang="es-CL" sz="2400" spc="-1" strike="noStrike">
                      <a:solidFill>
                        <a:srgbClr val="ffffff"/>
                      </a:solidFill>
                      <a:latin typeface="Arial"/>
                    </a:rPr>
                    <a:t>Py, Au, Ag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ropiment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569560" y="4896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57760" y="6019200"/>
                <a:ext cx="2102040" cy="831960"/>
                <a:chOff x="257760" y="6019200"/>
                <a:chExt cx="2102040" cy="83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4000" y="6019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57760" y="6019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60160" y="6019200"/>
                <a:ext cx="3208680" cy="831960"/>
                <a:chOff x="2360160" y="6019200"/>
                <a:chExt cx="3208680" cy="83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27120" y="6019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molita, jaros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60160" y="6019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569560" y="6019200"/>
                <a:ext cx="3566160" cy="831960"/>
                <a:chOff x="5569560" y="6019200"/>
                <a:chExt cx="3566160" cy="83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35800" y="6019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ethita, Hemat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69560" y="6019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250920" y="981000"/>
              <a:ext cx="8892720" cy="5876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8576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308720" cy="615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3284640"/>
            <a:ext cx="40384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04920"/>
            <a:ext cx="8964360" cy="6552720"/>
            <a:chOff x="0" y="304920"/>
            <a:chExt cx="8964360" cy="6552720"/>
          </a:xfrm>
        </p:grpSpPr>
        <p:grpSp>
          <p:nvGrpSpPr>
            <p:cNvPr id="124" name=""/>
            <p:cNvGrpSpPr/>
            <p:nvPr/>
          </p:nvGrpSpPr>
          <p:grpSpPr>
            <a:xfrm>
              <a:off x="6840" y="309600"/>
              <a:ext cx="8949240" cy="6542280"/>
              <a:chOff x="6840" y="309600"/>
              <a:chExt cx="8949240" cy="65422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840" y="309600"/>
                <a:ext cx="1913400" cy="714240"/>
                <a:chOff x="6840" y="309600"/>
                <a:chExt cx="1913400" cy="714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3080" y="309600"/>
                  <a:ext cx="1780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o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0" y="309600"/>
                  <a:ext cx="191340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20600" y="309600"/>
                <a:ext cx="2875680" cy="714240"/>
                <a:chOff x="1920600" y="309600"/>
                <a:chExt cx="2875680" cy="714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987200" y="309600"/>
                  <a:ext cx="27424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20600" y="309600"/>
                  <a:ext cx="28756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97000" y="309600"/>
                <a:ext cx="4159080" cy="714240"/>
                <a:chOff x="4797000" y="309600"/>
                <a:chExt cx="4159080" cy="714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3600" y="309600"/>
                  <a:ext cx="40258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iz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97000" y="309600"/>
                  <a:ext cx="41590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840" y="1024200"/>
                <a:ext cx="1913400" cy="1152720"/>
                <a:chOff x="6840" y="1024200"/>
                <a:chExt cx="1913400" cy="115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3080" y="1024200"/>
                  <a:ext cx="178056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840" y="1024200"/>
                  <a:ext cx="191340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20600" y="1024200"/>
                <a:ext cx="2875680" cy="1152720"/>
                <a:chOff x="1920600" y="1024200"/>
                <a:chExt cx="2875680" cy="1152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87200" y="1024200"/>
                  <a:ext cx="27424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20600" y="1024200"/>
                  <a:ext cx="28756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97000" y="1024200"/>
                <a:ext cx="4159080" cy="1152720"/>
                <a:chOff x="4797000" y="1024200"/>
                <a:chExt cx="4159080" cy="115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63600" y="1024200"/>
                  <a:ext cx="40258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8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2-5% </a:t>
                  </a: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/Cpy = 3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Disemin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97000" y="1024200"/>
                  <a:ext cx="41590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840" y="2177640"/>
                <a:ext cx="1913400" cy="1395360"/>
                <a:chOff x="6840" y="2177640"/>
                <a:chExt cx="1913400" cy="1395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080" y="2177640"/>
                  <a:ext cx="178056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Me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40" y="2177640"/>
                  <a:ext cx="191340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920600" y="2177640"/>
                <a:ext cx="2875680" cy="1395360"/>
                <a:chOff x="1920600" y="2177640"/>
                <a:chExt cx="2875680" cy="1395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87200" y="2177640"/>
                  <a:ext cx="27424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ontera Potásica/Qz-S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20600" y="2177640"/>
                  <a:ext cx="28756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97000" y="2177640"/>
                <a:ext cx="4159080" cy="1395360"/>
                <a:chOff x="4797000" y="2177640"/>
                <a:chExt cx="4159080" cy="1395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63600" y="2177640"/>
                  <a:ext cx="40258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5-10%  Py/Cpy = 2.5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pal Cpy, en stock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+ Bo, Cs y Enargi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97000" y="2177640"/>
                  <a:ext cx="41590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840" y="3573360"/>
                <a:ext cx="1913400" cy="1167840"/>
                <a:chOff x="6840" y="3573360"/>
                <a:chExt cx="1913400" cy="11678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3080" y="3573360"/>
                  <a:ext cx="178056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Pir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40" y="3573360"/>
                  <a:ext cx="191340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920600" y="3573360"/>
                <a:ext cx="2875680" cy="1167840"/>
                <a:chOff x="1920600" y="3573360"/>
                <a:chExt cx="2875680" cy="11678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87200" y="3573360"/>
                  <a:ext cx="27424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 Sc y Argíl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20600" y="3573360"/>
                  <a:ext cx="28756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7000" y="3573360"/>
                <a:ext cx="4159080" cy="1167840"/>
                <a:chOff x="4797000" y="3573360"/>
                <a:chExt cx="4159080" cy="1167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63600" y="3573360"/>
                  <a:ext cx="40258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 = 10-1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/Cpy = 10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eminada y en vetill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97000" y="3573360"/>
                  <a:ext cx="41590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0" y="4741920"/>
                <a:ext cx="1913400" cy="1168200"/>
                <a:chOff x="6840" y="4741920"/>
                <a:chExt cx="1913400" cy="1168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080" y="4741920"/>
                  <a:ext cx="178056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0" y="4741920"/>
                  <a:ext cx="191340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20600" y="4741920"/>
                <a:ext cx="2875680" cy="1168200"/>
                <a:chOff x="1920600" y="4741920"/>
                <a:chExt cx="2875680" cy="1168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87200" y="4741920"/>
                  <a:ext cx="27424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920600" y="4741920"/>
                  <a:ext cx="28756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797000" y="4741920"/>
                <a:ext cx="4159080" cy="1168200"/>
                <a:chOff x="4797000" y="4741920"/>
                <a:chExt cx="4159080" cy="116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863600" y="4741920"/>
                  <a:ext cx="40258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&lt; Py Mxlción de Cu esc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sfalerita y Galena (muy baja ley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97000" y="4741920"/>
                  <a:ext cx="41590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40" y="5910480"/>
                <a:ext cx="1913400" cy="941400"/>
                <a:chOff x="6840" y="5910480"/>
                <a:chExt cx="1913400" cy="941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080" y="5910480"/>
                  <a:ext cx="178056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Brech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840" y="5910480"/>
                  <a:ext cx="191340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920600" y="5910480"/>
                <a:ext cx="2875680" cy="941400"/>
                <a:chOff x="1920600" y="5910480"/>
                <a:chExt cx="2875680" cy="94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987200" y="5910480"/>
                  <a:ext cx="27424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echiz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20600" y="5910480"/>
                  <a:ext cx="28756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797000" y="5910480"/>
                <a:ext cx="4159080" cy="941400"/>
                <a:chOff x="4797000" y="5910480"/>
                <a:chExt cx="4159080" cy="941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863600" y="5910480"/>
                  <a:ext cx="40258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yes de Cu entre 2 y 5% Ppal fuente de me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97000" y="5910480"/>
                  <a:ext cx="41590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0" y="304920"/>
              <a:ext cx="8964360" cy="655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43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983280" cy="588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7889" t="0" r="12502" b="0"/>
          <a:stretch/>
        </p:blipFill>
        <p:spPr>
          <a:xfrm>
            <a:off x="5105520" y="220500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lteración y Mineralización Supérg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242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637000"/>
            <a:ext cx="84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El enriquecimiento secundario se caracteriza por ser una zona de alto interés económico (Chuquicamata), ser producto de alteración supérgena durante la exhumación, meteorización y erosión del sistema y por presentar un perfil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  <a:ea typeface="Arial"/>
              </a:rPr>
              <a:t>característ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5757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392720" y="3068640"/>
            <a:ext cx="4716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Su desarrollo se limita a sectores someros de la corteza (&lt;10km), debido a la disminución de la solubilidad del agua en magmas (&lt; 3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ados a procesos hidrotermales magmáticos y son típicos de margen convergente de subducción (</a:t>
            </a: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varios % de agua</a:t>
            </a:r>
            <a:r>
              <a:rPr b="0" lang="es-CL" sz="24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sociados a magmas calcoalcalinos, de composición media (andesít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 mineralización metálica está ligada principalmente a metales de Cu, Mo, Ag, Au, Zn, Pb, asociados a la intrusión de magmas calcoalcalinos o alcalinos y oxidados, dominando los granitoides de Tipo I (</a:t>
            </a:r>
            <a:r>
              <a:rPr b="0" lang="he-I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Diorita, Granitos y Gabros</a:t>
            </a:r>
            <a:r>
              <a:rPr b="0" lang="es-E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Hidrofracturamiento debido a Segunda Ebullición (Retrógrada) genera stockwork y brechización (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.e.:</a:t>
            </a: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Agua a 2kb y 500°C 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a ebullición es de carácter endotérmic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 que lleva a la generación de una textura central de tipo porfírica del cuerpo intrusivo, rodeada de roca granodioritica equigranular afectada por brechización (producto de la compresión)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gunda Ebulli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3240" y="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orfido y brechizacion" descr=""/>
          <p:cNvPicPr/>
          <p:nvPr/>
        </p:nvPicPr>
        <p:blipFill>
          <a:blip r:embed="rId2"/>
          <a:srcRect l="0" t="0" r="2752" b="0"/>
          <a:stretch/>
        </p:blipFill>
        <p:spPr>
          <a:xfrm>
            <a:off x="402588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3920" y="863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mento d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3640" y="28195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ansión por Ebull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3600" y="3213000"/>
            <a:ext cx="353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idro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textura porfí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ciones convectivas magmáticas hidrotermales producen un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ásic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ntro y adyacente al intr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rculación de aguas meteóricas convectivas (producto del calor de la intrusión) en la roca huésped generan l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pi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 el enfriamiento del intrusivo, el sistema de aguas meteóricas ingresan y dominan las circulaciones en el sistema magmático, desarrollando la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Qz-Se y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g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70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nesis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419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Transporte de Met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885672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8893080" cy="96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lejos Clorurados, Complejos Sulfu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37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os metales son insolubles como iones simples y consecuentemente son transportados como comple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fluidos transportan azufre, cobre, molibdeno y oro (concentrarse en solución) y frente al cambio de condiciones termodinámicas se desestabilizan los complejos iónicos clorurados que transportan metales y permiten precipitar los sulfuros metálicos, concentrando miner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arco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Fallas provocadas por alzamiento tectónico durante períodos compresivos, son importantes para la </a:t>
            </a:r>
            <a:r>
              <a:rPr b="0" lang="he-I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mineralización </a:t>
            </a:r>
            <a:r>
              <a:rPr b="0" lang="es-MX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(ascenso rápido hidrofractur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Evidencias de régimen extensivo en la zona de subducción durante el Jurásico y Cretácico Inferior (yacimientos de cobre estratoligados y sistemas de vetas cupríferas),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Franja de Pórfid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12500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retácic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Andac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aleoceno - Eocen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Cerro Colorado, Lomas Bayas - Fortuna del Cobre en explotación; Spence en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oceno Superior - Oligoceno Inferio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Quebrada Blanca, Rosario de Collahuasi, Ujina, El Abra, Radomiro Tomic, Chuquicamata, La Escondida, Cerro Zaldivar, El Salv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ioceno Superior - Plioceno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Los Pelambres, Río Blanco, Los Bronces, El Tenient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os d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e Terreno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Diques y rocas graníticas de texturas porf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Zonas de Brechas con fragmentos angulares (observando si existen sulfuros entre o en los frag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Propilítica (Epidota y Clor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de Cuarzo-Ser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Biot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acturas conformadas de sulfuros o vetillas de cuarzo con sulfuros (para considerarse como posible mena, el espaciamiento debe ser ba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onas lixiviadas (arcillas) y “sombrero” de hierro (Goss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683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Depósitos de Cu de gran tonelaje y baj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 de dos tipos: Cu-Mo y Cu-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consideran de este tipo los depósitos mayores a las 20 Mt y leyes de Cu superiores a 0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ayoría fluctúa entre 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6633"/>
                </a:solidFill>
                <a:latin typeface="Arial"/>
              </a:rPr>
              <a:t>Proveen más del 50% del Cu extraido a nivel mundial, con cerca de 100 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os depósitos de mayor tonelaje del mundo corresponden a El Teniente y Chuquic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Chile existen 16 yacimientos de est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s relacionados a intrusiones grandes, epigenéticas, de bajas leyes y que pueden ser explotados mediante técnicas mineras de gran enverg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os depositos son importantes debido a que pueden ser explotados a una gran escala y bajo costo. Los principales yacimientos se encuentran en Chile, Perú, SW de EEUU y Canad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laciones Gen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8996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Asociados a intrusiones epizonales, de carácter porfírico (apófisis) y generalmente félsicas (Ten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enudo corresponden a eventos múltiples de intrusión y mineralización (evidenciados por diques y brech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epósitos pueden ubicarse en el intrusivo mismo, en la roca de caja o ambos, los cuales suelen estar intensamente frac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La mineralización en estos depósitos se encuentra principalmente en fracturas (vetas) o en zonas de alteración adyacentes a estas</a:t>
            </a:r>
            <a:r>
              <a:rPr b="0" lang="es-E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e intercrecidos con Qz y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cuerpo de mena generalmente posee una forma cilíndrica, apareciendo ésta de manera diseminada o en stockwork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 leyes típicas entre 0.4 y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mineralogía original de sulfuros  de los pórfidos cupríferos corresponde a: Pirita, Calcopirita, Bornita y Molibd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83516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iste una zonación de la mineralización hipógena (de centro hacia afuera): Bornita, Cpy y Py. La Mo aparece de manera variable y el Au, de existir, se encuentra en los bordes de los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2:43:29Z</dcterms:created>
  <dc:creator>sablereau</dc:creator>
  <dc:description/>
  <dc:language>en-US</dc:language>
  <cp:lastModifiedBy>Valeria</cp:lastModifiedBy>
  <dcterms:modified xsi:type="dcterms:W3CDTF">2006-08-23T00:03:50Z</dcterms:modified>
  <cp:revision>12</cp:revision>
  <dc:subject/>
  <dc:title>Pórfidos Cupríferos</dc:title>
</cp:coreProperties>
</file>