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E9C6-E1B7-4250-A123-79EA0EC6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460-C2BA-44D3-B414-1205E829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F09-179C-456D-8129-4C2F48C9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5F6-927A-4678-9B1A-FA77754D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BDE3-797D-4AC7-85B4-CFD73AF7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AE8-158D-4496-887F-01DEFAF1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87F5-B1CA-42DA-9AC3-A5EEC588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5AFB-090D-44B5-821F-B55161D8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3F8-6641-434C-AAB0-06C71E1B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EF6D-DF0F-4014-B40A-ADC43A5A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419-F1E1-4308-BC4A-EAA891BD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5DF-923E-489E-B303-D39CEAE2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8207-0A0C-49E3-9534-A393E3C43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0b3"/>
                </a:solidFill>
                <a:latin typeface="Times New Roman"/>
              </a:rPr>
              <a:t>Alteración Hidroterm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(Meyer y Hemley, 1967)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ropilítica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Presencia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epidota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y/o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clorita,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comúnmente se presentan también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lbita, calcita y pirit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a. Bajo grado de hidrólisis de los minerales de las rocas </a:t>
            </a:r>
            <a:r>
              <a:rPr b="0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posición mar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rgílica Intermedi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Importantes cantidades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caolinita, montmorillonit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smectita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o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rcillas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amorfas reemplazando a plagioclasas. Puede haber sericita acompañando a las arcillas; el feldespato potásico fresco argilizado. Grado más alto de hidrólisis relativo a la alteración propilí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ítica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o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uarzo-sericític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: Ambos feldespatos (plagioclasas y feldespato potásico) transformados principalmente a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sericita y cuarz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o, con cantidades menores de caolinita. Minerales máficos también están completamente destruidos en este tipo de alt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(Meyer y Hemley, 1967)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rgílica avanzad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Minerales transformados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 dickita, caolinita, pirofilita, diásporo, alunita y cuarzo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. Ataque hidrolítico extremo de las rocas en que incluso se rompen los fuertes enlaces del aluminio en los silicatos originando sulfato de Al (alunita) y óxidos de Al (diáspor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otásic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Alteración de plagioclasas y minerales máficos a feldespato potásico y/o biotita. Intercambio catiónico (cambio de base) con la adición de K: No implica hidrólisis </a:t>
            </a:r>
            <a:r>
              <a:rPr b="0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ocurre en condiciones de pH neutro o alcalino a altas temperaturas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lteración Tardimagmática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y se presenta en la porción central o núcleo de zonas alteradas ligadas al emplazamiento de plutones intrus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lteración Sódico-Cálcica Carten (1986)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asociación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ctinolita, albita-oligoclasa- andesina, epidota, magnetita, clorita, cuarzo, escapolita.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ocurre en la porción profunda de pórfidos cupríferos y se desarrolla en forma simultánea con la alteración potásica a niveles más al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Alteración tipo skarn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:  transformación de rocas carbonatadas (calizas, dolomitas) a minerales 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alcosilicatados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en zonas adyacentes a intrusivos. Presencia de 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granates (andradita y grosularita), wollastonita, epidota, diópsido, idocrasa, clorita, actinolita.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Carbonatos Magnésicos (dolomitas): incluye: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 forsterita, serpentina, talco,tremolita, clorit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a. Uso generalizado para depósitos minerales relacionados a fenómenos de metamorfismo de contacto y metasomatismo ligados a intrusiones que cortan secuencias de rocas carbonatadas. litología original es determinante en la asociación mineral resul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¿Pregunt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743200" y="1066680"/>
          <a:ext cx="3584520" cy="510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066680"/>
                    <a:ext cx="358452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Término general</a:t>
            </a:r>
            <a:r>
              <a:rPr b="0" lang="en-US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 respuesta minera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textural y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Cambio ambiental</a:t>
            </a:r>
            <a:r>
              <a:rPr b="0" lang="en-US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térmicos químicos y te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presencia de agua caliente, vapor o gas</a:t>
            </a:r>
            <a:r>
              <a:rPr b="0" lang="en-US" sz="1600" spc="-1" strike="noStrike">
                <a:solidFill>
                  <a:srgbClr val="fff0b3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Ocurre a través de</a:t>
            </a:r>
            <a:r>
              <a:rPr b="0" lang="en-US" sz="3600" spc="-1" strike="noStrike">
                <a:solidFill>
                  <a:srgbClr val="fff0b3"/>
                </a:solidFill>
                <a:latin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transformación de fases minerales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crecimiento de nuevos minerales, disolución de minerales y/o precipitación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-reacciones de intercambio iónico entre los minerales constituyentes de una roca y el fluido caliente que circuló por la misma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omposición litológic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influencia en la mineralogía hidrotermal: efecto menor que permeabilidad, temperatura y composición del flui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Tº y pH del fluido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factores más relevantes en la asociación mineralógica resultante de los procesos de alteración hidrote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Orden relativo de susceptibilidad a alteración de los minerales: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Olivino &gt; magnetita &gt; hiperstena &gt; hornblenda &gt; biotita = plagioc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uarzo no se alter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Recristalización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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300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aracterística AH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onversión de un conjunto mineral inicial en una nueva asociación de minerales estable bajo condiciones hidrotermales de temperatura, presión y composición de f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Involucra circulación de volúmenes relativamente grandes de fluidos calientes atravesando las rocas permeable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presencia de fisuras o poros interconec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fluido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considerablemente fuera de equilibrio termodinámico con las rocas adyacente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modificaciones en la composición mineralógica original de las ro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Fac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TEMPERATURA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ás caliente &gt; efecto sobre la mineralogía ori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OMPOSICIÓN DEL FLUIDO (pH)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enor pH, mayor ef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ERMEABILIDAD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fluidos </a:t>
            </a:r>
            <a:r>
              <a:rPr b="1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fracturamiento hidráulico de las rocas o disolución de minerales </a:t>
            </a:r>
            <a:r>
              <a:rPr b="1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PERMEABILIDAD SECUND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DURACIÓN Y VARIACIONES INTERACCIÓN AGUA/ROCA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ayor volumen circulación aguas calientes y mayor tiempo </a:t>
            </a:r>
            <a:r>
              <a:rPr b="1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modificaciones mineralógicas más compl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Fac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-COMPOSICIÓN DE LA ROCA: distintos minerales tienen susceptibilidad </a:t>
            </a:r>
            <a:r>
              <a:rPr b="1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 a ser alterados. Alteraciones intensas </a:t>
            </a:r>
            <a:r>
              <a:rPr b="1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 mineralogía resultante esencialmente independiente del tipo de roca original</a:t>
            </a:r>
            <a:r>
              <a:rPr b="1" lang="en-US" sz="2000" spc="-1" strike="noStrike">
                <a:solidFill>
                  <a:srgbClr val="fff0b3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PRESIÓN: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efecto indirecto </a:t>
            </a:r>
            <a:r>
              <a:rPr b="1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 procesos secundarios: profundidad de ebullición de fluidos, fracturamiento hidráulico (generación de brechas hidrotermales) y erupción o explosiones hidroter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0b3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T y composición del fluido hidrotermal: más import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b3"/>
                </a:solidFill>
                <a:latin typeface="Times New Roman"/>
              </a:rPr>
              <a:t>Alteración Pervasiva 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se refiere a aquella en que una roca está completamente alterada en todo su 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Procesos debidos a la alteración hidrot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-Depositación directa: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minerales se depositan directamente a partir de soluciones hidrotermale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fluido pueda moverse dentro de ro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Ej: diaclasas, fallas, fracturas hidráulicas, discordancias, zonas brechosas, huecos, poros y fis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-Reemplazo:</a:t>
            </a:r>
            <a:r>
              <a:rPr b="0" lang="es-ES_tradnl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Minerales de las rocas inestables a ambiente hidrotermal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reemplazo por nuevos minerales estables en nuevas con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Lixiviación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omponentes químicos de las roca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extraídos por fluidos hidrotermales al atravesarlas (cationes metálicos)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roca deprimida en dichos componentes o lixivi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Ej: Textura cuarzo Oquerosa (Vuggy Silica): condensación vapor acidificado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or oxidación de H2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H2SO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Clasificación de Alteración Hidrot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0b3"/>
                </a:solidFill>
                <a:latin typeface="Times New Roman"/>
              </a:rPr>
              <a:t>Método más simple </a:t>
            </a:r>
            <a:r>
              <a:rPr b="0" lang="es-ES_tradnl" sz="32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fff0b3"/>
                </a:solidFill>
                <a:latin typeface="Times New Roman"/>
              </a:rPr>
              <a:t> utilización del mineral más abundante y más obvio en roca alterada. </a:t>
            </a:r>
            <a:r>
              <a:rPr b="0" lang="es-ES_tradnl" sz="2800" spc="-1" strike="noStrike" u="sng">
                <a:solidFill>
                  <a:srgbClr val="fff0b3"/>
                </a:solidFill>
                <a:uFillTx/>
                <a:latin typeface="Times New Roman"/>
              </a:rPr>
              <a:t>Denominación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                </a:t>
            </a:r>
            <a:r>
              <a:rPr b="0" lang="es-ES_tradnl" sz="2800" spc="-1" strike="noStrike" u="sng">
                <a:solidFill>
                  <a:srgbClr val="fff0b3"/>
                </a:solidFill>
                <a:uFillTx/>
                <a:latin typeface="Times New Roman"/>
              </a:rPr>
              <a:t>Presencia dominante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Silicificación                           sílice o cuar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Sericitización                          seric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Argilización                            minerales de arci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Cloritización                           clo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Epidotización                          epid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Actinolitización                      actino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Reacciones de Hidró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stabilidad de feldespatos, micas y arcillas en procesos de alteración hidrotermal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múnmente controlada por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idrólisis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inerales a solucion: K + , Na + , Ca 2+ , y otros cationes 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H +: fases sólidas rema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La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idrólisis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s una reacción de descomposición que involucra la participación de 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n geología: reacción entre minerales silicatado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agua pura o solución acuosa, iones H + y OH -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nsumidos sel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 + + OH - = H2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Importantes en procesos de alteración hidrotermal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y algunos tipos de alteraciones son el resultado de distinto grado de hidrólisis de los minerales constituyentes de las ro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Reacciones de Hidró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ndesina 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               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0.75 Na2CaAl4Si8O2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2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K + = KAl3Si3O10(OH)2 +1.5 Na+ + 0.75 Ca 2+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3Si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 (mica potásica)                               caoli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KAl3Si3O10(OH)2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1.5 H2O = 1.5 Al2Si2O5(OH)4 + K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ndesina                                           caolinita               cuar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Na2CaAl4Si8O2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H2O = 2 Al2Si2O5(OH)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SiO2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Na + + Ca 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                                                 alunita               cuar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KAl3Si3O10(OH)2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SO 2- = KAl3(SO4)2(OH)6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3Si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                    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ácido sulfú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Valeria</cp:lastModifiedBy>
  <cp:lastPrinted>2003-08-10T22:33:46Z</cp:lastPrinted>
  <dcterms:modified xsi:type="dcterms:W3CDTF">2006-08-15T22:57:11Z</dcterms:modified>
  <cp:revision>6</cp:revision>
  <dc:subject/>
  <dc:title>Alteración Hidrotermal</dc:title>
</cp:coreProperties>
</file>