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A9C-B049-4855-A481-2CADB1BD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37B-F9B5-484B-AFE4-3B945AB3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E31-52F5-4C0D-B089-ACE7B914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3F2-9E51-4EF5-9B67-2974E92C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9405D-DC35-441D-BF38-901DBEE8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776F6-B387-472B-90E9-DF933993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06A89-6581-4042-A500-798343FA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9E185-79AD-4762-9374-80DC8AC2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60F78-01C2-4595-9D64-4FB9C1A7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D7742-809B-4A70-AC92-086A420F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CFDD1-0214-4350-990E-BC362E11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15A-AE95-486E-886A-CCC518BF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CBCCE-B87D-4BE7-BE24-E2B50E6B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46A60-77F5-4F23-BE7D-347A8367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3AC45-EE43-4297-A63F-7BE62265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FA435-64B8-4C14-9D9B-25517A1F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F4B3A-6771-45B3-AD40-C7E390A1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474-DB62-4E47-89AC-8843B750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B01-04F1-46C5-B530-3373654F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D083-A926-4712-A8EF-1CE26BA4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6F7-B6B4-487D-9DA8-D69828B0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A98-632C-4C4D-97D3-345B3AB4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DB4-57A3-4674-A5AC-1AEA1ABE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4E9-6AA4-4BA7-A686-4BFCC8C1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57C3-2C59-46F4-BC14-C7E8EC65A9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BC0B-A2BE-4FE2-A368-DF41C7CF23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METALOGENE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788000" y="3933720"/>
            <a:ext cx="40320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aleria Oso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Katherine T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ristóbal G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ª carolina  Soto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6880" y="1989000"/>
            <a:ext cx="14241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54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6516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Clasificación y resumen de procesos mineralizador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os endógen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ristalización magmática, segregación magmática, hidrotermales y metamórf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istalización magmátic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pitación de minerales de mena como constituyentes mayores y menores de rocas ígneas en forma de granos diseminados o segreg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: Diamantes, pegmatitas, rocas ígneas ornamen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egregación magmát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recipit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cipitación de minerales de mena por cristalización fraccionada producto a cristalización fraccion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Inmisibilidad de líqui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cipitación de sulfuros en magmas, fundidos de sulfuros-óxidos u óxidos acumulados bajo cuerpos silicatados inyectados en la roca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Hidroterm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pósito desde soluciones acuosas cal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Pórfidos cupríferos, vetas auríferas, stockworks de 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etamórf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Metamorfismo regional y de cont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Depósitos de andalucita y de gra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irometasomat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emplazo de la roca de caja adyacente a una intru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Skarn de Cu, depósito de Tal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os exógen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xhalativos superficiales, volcanogén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halación de soluciones hidrotermales en la superficie. Generalmente ocurre en condiciones submarinas, originándose cuerpos estratiformes de sulfuros metál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: Depósitos de metales base, Dep. tipo Kuroko, Dep. fuente ter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22888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edimenta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lóctonos: transportados al ambiente que los conti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Placeres de A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utóctonos: se forman dentro del ambiente que los conti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BIF, depósitos de fosfa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teoriz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Residu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Bauxitas, Later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Supérg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ixiviación y oxidación de elementos valiosos desde la parte superior de depósitos minerales con precipitación en profund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xó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ixiviación de elementos metálicos de depósitos primarios y transporte en solución en napas de aguas subterráneas y re-depositación dentro de gravas y rocas a cierta distancia del depósito mad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497844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ipos de fluidos hidroterma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8000" y="3068640"/>
            <a:ext cx="3995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Aguas Meteór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uas Mari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uas Conna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uas Metamórf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uas Magmá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2276640"/>
            <a:ext cx="47530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yacimientos de origen hidrotermal son los más abundantes en Chile. Los elementos se transportan por medio de soluciones hidrotermales y bajo ciertas condiciones son depositados formando minerales de mena. Hay 5 tipos de aguas hidroterm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8920" y="836280"/>
            <a:ext cx="8675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erencias ent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amorfism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mineralógico, químico y estructural de rocas sólidas sometidas a condiciones físicas y químicas a profundidad, debajo de la zona de meteorización y cementación que difieren de las condiciones a la cual se origina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asomatism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o de solución capilar y depositación prácticamente simultanea (=metamorfismo aloquímico), por el cuál un nuevo mineral puede crecer en el cuerpo de un mineral preexistente. Es esencial la presencia de líquidos químicos activos o gases introducidos desde una fuente ex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378000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ipos de yacimient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2781360"/>
            <a:ext cx="86756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órfidos Cupríferos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huquicamata, El Tenient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tratoligado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ntos Blancos, El soldado, Cerro Neg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pitermale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indio, La Coipa, Pascua-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kar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an Antonio, Cabildo, La camp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edimen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Volcano-Exhalativ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Kurok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etamórf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3e3ff"/>
                </a:solidFill>
                <a:latin typeface="Arial"/>
              </a:rPr>
              <a:t>Modelo de alteración y mineralización de Lowell y Guilbert, 1970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0800" y="1600200"/>
            <a:ext cx="3845160" cy="4495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746600" y="1600200"/>
            <a:ext cx="384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ejerc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T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controles; 1º pórfidos y minerales, 2º otros yac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r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Procesos Supérgen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1274760"/>
            <a:ext cx="772452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ntlerit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torrómbico 2/m2/m2/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rde esmeralda, verde negrusc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rde pálid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Habit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gregados paralelos, reniforme, maciz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,5 - 4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ítr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istales tabulares o prismáticos delgados, estriados verticalment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ecta {010} }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,9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or verde y clivaje. Se disuelve en HCl sin efervecer. Asociada a Atacamita y Brocantit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36720" y="1600200"/>
            <a:ext cx="3079800" cy="2171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tacamit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l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145120" y="1600200"/>
            <a:ext cx="3044880" cy="2171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3924360"/>
            <a:ext cx="85075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rtorrómbico 2/m2/m2/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gregados Cristalinos, fibroso, granular, ra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 – 3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amantino, vítr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istales  prismáticos delgados con estriaciones vertic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fecta {001} {010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,75 – 3,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lor verde, habito granular. No eferve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rocantit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torrómbico 2/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de, verde esmeralda, neg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rde páli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icular, prismático, drus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,5 - 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ítreo, perloso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tales acicular, prismátic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ecta {010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9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risocol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i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6868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tiene, amorf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de, Verde a azul verdoso. Pardo a negro (impur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lanca a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rde páli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iva, compacta, terros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- 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ítreo,  terro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rfa o parcialmente cristali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0 – 2,4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lor, fractura concoidea, se pega en la lengu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862600" y="1600200"/>
            <a:ext cx="16099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alcantita CuS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- 5H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O 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clíni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de, Azul claro a oscu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zul claro a incolo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smáticos, tabulares, agreg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ítr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2 – 2,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lor, habito, gusto, soluble en ag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alaquit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C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)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línico; 2/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de claro a oscu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z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das irregulares, radiales, botroidales, nodulares y masiv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 -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tr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uena, en una dirección y mala en la o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,7 o má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lor, habito y aso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354640" y="1600200"/>
            <a:ext cx="262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zurit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C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linico; 2/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ul profundo a páli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r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roidal, estalactítico, globular. Cristales aciculares a fibros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 -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d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uena, en una dir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,9 o má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ervece en ácido, asociada a azurita,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Turqueza CuAl</a:t>
            </a:r>
            <a:r>
              <a:rPr b="0" lang="en-US" sz="3200" spc="-1" strike="noStrike" baseline="-25000">
                <a:solidFill>
                  <a:srgbClr val="e3e3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OH)</a:t>
            </a:r>
            <a:r>
              <a:rPr b="0" lang="en-US" sz="3200" spc="-1" strike="noStrike" baseline="-25000">
                <a:solidFill>
                  <a:srgbClr val="e3e3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*5(H2O)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3924360"/>
            <a:ext cx="91440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clínico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rqueza con tonalidades de azu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lanca con tintes ver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iva, criptocristalina, nodul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-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erfecta en dos direcciones pero casi no se 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6 o má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bito, brillo, color y asociación (pirita, arcillas, lim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000"/>
            </a:b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alcopirita</a:t>
            </a:r>
            <a:r>
              <a:rPr b="0" lang="es-E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Times New Roman"/>
              </a:rPr>
              <a:t>CuFeS</a:t>
            </a:r>
            <a:r>
              <a:rPr b="0" lang="es-ES" sz="4000" spc="-1" strike="noStrike" baseline="-30000">
                <a:solidFill>
                  <a:srgbClr val="e3e3ff"/>
                </a:solidFill>
                <a:latin typeface="Arial"/>
                <a:ea typeface="Times New Roman"/>
              </a:rPr>
              <a:t>2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tragonal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marillo Latón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egra verdosa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ristales tetrahedricos ,agregados granulares, masivo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3.5-4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tá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a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5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olor, forma, más blanda que la pir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3197160" cy="2171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219640" y="141300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372960"/>
            <a:ext cx="50515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Definiciones y conceptos básico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ología Económic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da relación con el estudio de los depósitos minerales, los cuales son de importancia económica para la humanidad. Analiza materiales y cuerpos geológicos que puedan ser utilizados de forma rentable. Incluyen depósitos metálicos, no metálicos, combustibles, agua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400"/>
            </a:b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ornita</a:t>
            </a:r>
            <a:r>
              <a:rPr b="0" lang="es-ES" sz="36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Cu</a:t>
            </a:r>
            <a:r>
              <a:rPr b="0" lang="es-ES" sz="4000" spc="-1" strike="noStrike" baseline="-30000">
                <a:solidFill>
                  <a:srgbClr val="e3e3ff"/>
                </a:solidFill>
                <a:latin typeface="Arial"/>
                <a:ea typeface="Arial"/>
              </a:rPr>
              <a:t>5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FeS</a:t>
            </a:r>
            <a:r>
              <a:rPr b="0" lang="es-ES" sz="4000" spc="-1" strike="noStrike" baseline="-30000">
                <a:solidFill>
                  <a:srgbClr val="e3e3ff"/>
                </a:solidFill>
                <a:latin typeface="Arial"/>
                <a:ea typeface="Arial"/>
              </a:rPr>
              <a:t>4</a:t>
            </a:r>
            <a:r>
              <a:rPr b="0" lang="es-ES" sz="44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3924360"/>
            <a:ext cx="91440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tragonal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ronce pardo cubierta por patinas púrpuras. Negro terroso. Púrpura (pecho de paloma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egro Grisáce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ristales tetragonal y masivos, cristales pseudocúbico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tá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raramente observad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079640" y="1600200"/>
            <a:ext cx="2793960" cy="2171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000"/>
            </a:b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alcosina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Cu</a:t>
            </a:r>
            <a:r>
              <a:rPr b="0" lang="es-ES" sz="4000" spc="-1" strike="noStrike" baseline="-30000">
                <a:solidFill>
                  <a:srgbClr val="e3e3ff"/>
                </a:solidFill>
                <a:latin typeface="Arial"/>
                <a:ea typeface="Arial"/>
              </a:rPr>
              <a:t>2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S</a:t>
            </a:r>
            <a:r>
              <a:rPr b="0" lang="es-ES" sz="48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rtorrómbico 2/m2/m2/m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Gris plomo brillante a negro m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egra grisáce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asas granulares y en forma masi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2.5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tálico mat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éctil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5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Sectil, color, bri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249200" y="1600200"/>
            <a:ext cx="2454480" cy="2171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000"/>
            </a:b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velina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CuS</a:t>
            </a:r>
            <a:r>
              <a:rPr b="0" lang="es-ES" sz="54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xagonal 6/m2/m2/m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zul índi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gris ploma-negr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xs hexagonales tabulares. Masiva como revesti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1.5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resinoso a terroso- metáli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fra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erf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6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Séctil, color, bri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889280" y="1600200"/>
            <a:ext cx="1174680" cy="2171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000"/>
            </a:b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irita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Century Gothic"/>
              </a:rPr>
              <a:t>FeS</a:t>
            </a:r>
            <a:r>
              <a:rPr b="0" lang="es-ES" sz="4000" spc="-1" strike="noStrike" baseline="-25000">
                <a:solidFill>
                  <a:srgbClr val="e3e3ff"/>
                </a:solidFill>
                <a:latin typeface="Century Gothic"/>
              </a:rPr>
              <a:t>2</a:t>
            </a:r>
            <a:r>
              <a:rPr b="0" lang="es-ES" sz="60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úbico 4m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marillo Latón pálido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pardo negra a verdosa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ristalina en cubos con estrías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6-6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tá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iritohed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erf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0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Hábito, tenacidad, frágil,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03320" y="1600200"/>
            <a:ext cx="2944800" cy="2171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000"/>
            </a:b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Arsenopirita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Century Gothic"/>
              </a:rPr>
              <a:t>FeAsS</a:t>
            </a:r>
            <a:r>
              <a:rPr b="0" lang="es-ES" sz="66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noclínico 2/m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lanco de plata Grisáceo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eg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x prismáticos o en agregados columnares y masas granulares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5.5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tá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iritohed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éb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0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Hábito, frágil,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838080" y="1600200"/>
            <a:ext cx="3275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748720" cy="587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erencias ent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urrencia minera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ción anómala de mineral considerado valiosa o de interés científico o técn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ósito minera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ción anómala de mineral con un volumen y ley suficientes para que en condiciones favorables pueda ser considerado potencialmente económ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acimiento minera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mineral estudiado y al que se le ha probado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44360" y="43920"/>
            <a:ext cx="896472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de me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es que pueden ser extraídos de una roca con beneficio económico. Este puede ser un agregado mineral sólido, natural, utilizable, ya sea tal como se extrae o del cual uno más componentes se pueden recuperar económica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de altera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que se produce debido a cambios ambientales, químicos y de temperatura, en la presencia de agua caliente, vapor o gas. Estos minerales se forman a través de la transformación de fases minerales, crecimiento de nuevos minerales, disolución de minerales y/o precipitación, y reacciones de intercambio iónico entre los minerales constituyentes de una roca y el fluido caliente que circuló por la misma. Para ello debe existir una combinación de factores como la Tº, composición del fluido, permeabilidad, t de interacción agua/roca, composición de la roca caja y pre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g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que acompaña al mineral de mena y que no posee valor económ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9000"/>
            <a:ext cx="9144000" cy="73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luido Hidrotermal: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luidos calientes, generalmente dominados por agua, a veces ácidos, los cuales pueden transportar metales y otros compuestos en solución al lugar de  depositación o producir alteración de la roca de caj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hidroterma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n cambio de la mineralogía de la roca huésped como una reacción química con soluciones hidrotermales. Por Ej., minerales máficos como hornblenda o biotita pueden alterarse a clorita y los feldespatos alterarse a arcilla por efecto de la circulación de fluidos calientes por las fracturas de las roc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ona de alteración hidroterma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na zona con rocas que han sido alteradas a un grupo específico de minerales secundarios o de alteración, por efecto de la circulación de fluidos calientes, usualmente alrededor del perímetro de un depósito miner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t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pósito tabular generalmente formado por depositación de minerales mena y ganga en espacios abiertos en una falla o fractura, o también por reemplazo. Corresponde a una mineralización controlada estructural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e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concentración de cada metal de mena en una muestra de roca, usualmente expresado en porcentaje en peso (Ej. 1,2% Cu). Si las concentraciones son muy bajas, como las de Au, Ag, Pt y otros, la concentración puede expresarse como gramos por tonelada (g/t)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ey de cort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cut-off grade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ley más baja, definida arbitrariamente (en términos económicos), con la cual puede explotarse un yacimiento mineral y generalmente define el límite del mis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éri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érmino minero utilizado para referirse a la roca que no constituye mena explotable, en oposición a rocas mineralizad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os de mineraliz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eralización hipógen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produce por procesos internos de la Tier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eralización exógen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produce por procesos exógenos sobre cuerpos mineralizados, como la meteorización, oxidació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eralización epigenétic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ralización introducida con posterioridad a la formación de la roca de caja o hués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eralización singenétic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ralización se forma en conjunto a la formación de la roca de ca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6:20:58Z</dcterms:created>
  <dc:creator>Germán</dc:creator>
  <dc:description/>
  <dc:language>en-US</dc:language>
  <cp:lastModifiedBy>Valeria</cp:lastModifiedBy>
  <dcterms:modified xsi:type="dcterms:W3CDTF">2006-08-02T00:53:54Z</dcterms:modified>
  <cp:revision>28</cp:revision>
  <dc:subject/>
  <dc:title>METALOGENESIS</dc:title>
</cp:coreProperties>
</file>