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684-135C-4EDC-A740-51E2C0A0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544-2242-4169-BB77-E8F517A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34D-8F36-4BE6-AB9A-D332462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5B3-C31D-4ACA-A841-ED5C73EE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6FD92-DC7C-4A9D-843D-8DA455CB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D54A8-A214-46A8-BD4E-1111383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BAD6D-E41D-4C46-8355-161C971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91263-1075-4D52-ADC7-F9EA565F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5F003-D2FC-4216-83E5-7EB31DD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086E-4AEA-4BFD-980F-38F33BE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83D3B-F57B-4E2B-BDBC-09FB727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1BC-37B2-45B5-833C-EA0A2F2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5954B-A0E8-49E2-81BD-B30EC07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9170-5D69-4E38-81CA-9DB28E5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766B2-2858-4903-97AF-B4B544A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A9E0-1C89-471C-8820-A233689F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B124B-0002-4583-9A0D-A558B85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377-D7BF-4083-B7AE-1215DC4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6A8-6421-4EC5-BCEE-7ED56905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714-F5C3-4025-9D7D-B0166F60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77E-1E1F-4CEA-BAC8-DC2ADF0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A28-24B7-476F-9254-D745F61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8CC-43AB-4624-A23F-3D1639D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E39-E648-4C8F-BD01-46BBC7D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899-7D39-4303-BEAD-7D7C80A13A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2A9-FB1C-4C52-93DB-5520B765D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METALOGENE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788000" y="3933720"/>
            <a:ext cx="4032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eria Os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Katherine T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istóbal G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ª carolina  Soto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6880" y="1989000"/>
            <a:ext cx="1424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54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651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lasificación y resumen de procesos mineralizador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nd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ristalización magmática, segregación magmática, hidrotermales y metamórf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stalización magmát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ación de minerales de mena como constituyentes mayores y menores de rocas ígneas en forma de granos diseminados o segreg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iamantes, pegmatitas, rocas ígneas ornamen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egregación mag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ecipit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minerales de mena por cristalización fraccionada producto a cristalización fraccio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nmisibilidad de líqu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cipitación de sulfuros en magmas, fundidos de sulfuros-óxidos u óxidos acumulados bajo cuerpos silicatados inyectados en la roca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Hidroterm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ósito desde soluciones acuosas ca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órfidos cupríferos, vetas auríferas, stockworks de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Metamórf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Metamorfismo regional y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Depósitos de andalucita y de gra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irometasomat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emplazo de la roca de caja adyacente a una intru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Skarn de Cu, depósito de Tal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os exóge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xhalativos superficiales, volcanogén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alación de soluciones hidrotermales en la superficie. Generalmente ocurre en condiciones submarinas, originándose cuerpos estratiformes de sulfuros metál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: Depósitos de metales base, Dep. tipo Kuroko, Dep. fuente ter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2888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edimenta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lóctonos: transportados a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Placeres de A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utóctonos: se forman dentro del ambiente que los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IF, depósitos de fosf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teoriz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esid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j: Bauxitas, Late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Supér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y oxidación de elementos valiosos desde la parte superior de depósitos minerales con precipitación en profund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x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xiviación de elementos metálicos de depósitos primarios y transporte en solución en napas de aguas subterráneas y re-depositación dentro de gravas y rocas a cierta distancia del depósito mad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97844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fluidos hidroterma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3068640"/>
            <a:ext cx="3995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Aguas Meteó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Conna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etamór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as Magmá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76640"/>
            <a:ext cx="4753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yacimientos de origen hidrotermal son los más abundantes en Chile. Los elementos se transportan por medio de soluciones hidrotermales y bajo ciertas condiciones son depositados formando minerales de mena. Hay 5 tipos de aguas hidroterm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morf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mineralógico, químico y estructural de rocas sólidas sometidas a condiciones físicas y químicas a profundidad, debajo de la zona de meteorización y cementación que difieren de las condiciones a la cual se origina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somatism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o de solución capilar y depositación prácticamente simultanea (=metamorfismo aloquímico), por el cuál un nuevo mineral puede crecer en el cuerpo de un mineral preexistente. Es esencial la presencia de líquidos químicos activos o gases introducidos desde una fuente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3780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ipos de yacimien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8675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órfidos Cupríferos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uquicamata, El Tenien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ratoligad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ntos Blancos, El soldado, Cerro Neg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pitermale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indio, La Coipa, Pascua-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kar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 Antonio, Cabildo, La camp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di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Volcano-Exhalativ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Kurok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etamórf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3e3ff"/>
                </a:solidFill>
                <a:latin typeface="Arial"/>
              </a:rPr>
              <a:t>Modelo de alteración y mineralización de Lowell y Guilbert, 1970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00" y="1600200"/>
            <a:ext cx="384516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46600" y="1600200"/>
            <a:ext cx="384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ejerc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T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ontroles; 1º pórfidos y minerales, 2º otros yac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r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1274760"/>
            <a:ext cx="77245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le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esmeralda, verde negrus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de páli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Habit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gregados paralelos, reniforme, maciz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stales tabulares o prismáticos delgados, estriados verticalmen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a {010} }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,9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or verde y clivaje. Se disuelve en HCl sin efervecer. Asociada a Atacamita y Brocanti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36720" y="1600200"/>
            <a:ext cx="3079800" cy="2171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tacam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145120" y="1600200"/>
            <a:ext cx="3044880" cy="217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3924360"/>
            <a:ext cx="85075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regados Cristalinos, fibroso, granular,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 – 3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amantino, 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istales  prismáticos delgados con estriaciones vert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fecta {001}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,75 – 3,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lor verde, habito granular. No eferv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rocant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orrómbico 2/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esmeralda, neg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cular, prismático, dru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5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perlos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ales acicular, prismátic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a {01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9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risocol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i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6868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iene, amorf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Verde a azul verdoso. Pardo a negro (impur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a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 pál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ompacta, terro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-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,  terro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rfa o parcialmente cristal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0 – 2,4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fractura concoidea, se pega en la len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862600" y="1600200"/>
            <a:ext cx="1609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alcantita CuS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- 5H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  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, Azul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 claro a incolo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smáticos, tabulares, agreg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í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2 – 2,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, gusto, soluble en 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laqu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í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de claro a osc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z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das irregulares, radiales, botroidales, nodulares y masiv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t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 y mala en la o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7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lor, habito y as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54640" y="1600200"/>
            <a:ext cx="262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zurita Cu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CO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4000" spc="-1" strike="noStrike" baseline="-25000">
                <a:solidFill>
                  <a:srgbClr val="e3e3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linico; 2/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ul profundo a páli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roidal, estalactítico, globular. Cristales aciculares a fibro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-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d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ena, en un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,9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ervece en ácido, asociada a azurita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Minerales oxidados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Turqueza CuAl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e3e3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*5(H2O)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línico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rqueza con tonalidades de az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anca con tintes ver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iva, criptocristalina, nodu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-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rfecta en dos direcciones pero casi no se 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6 o má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bito, brillo, color y asociación (pirita, arcillas, li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pirita</a:t>
            </a: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Times New Roman"/>
              </a:rPr>
              <a:t>Cu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Times New Roman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hedricos ,agregados granulares, masiv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.5-4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a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, forma, más blanda que la pi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197160" cy="2171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72960"/>
            <a:ext cx="50515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Definiciones y conceptos bás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logía Económic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a relación con el estudio de los depósitos minerales, los cuales son de importancia económica para la humanidad. Analiza materiales y cuerpos geológicos que puedan ser utilizados de forma rentable. Incluyen depósitos metálicos, no metálicos, combustibles, agu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400"/>
            </a:b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ornita</a:t>
            </a:r>
            <a:r>
              <a:rPr b="0" lang="es-ES" sz="3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5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FeS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4</a:t>
            </a:r>
            <a:r>
              <a:rPr b="0" lang="es-ES" sz="4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92436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tragona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ronce pardo cubierta por patinas púrpuras. Negro terroso. Púrpura (pecho de paloma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o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es tetragonal y masivos, cristales pseudocúbic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aramente observa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79640" y="1600200"/>
            <a:ext cx="2793960" cy="217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cos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</a:t>
            </a:r>
            <a:r>
              <a:rPr b="0" lang="es-ES" sz="4000" spc="-1" strike="noStrike" baseline="-30000">
                <a:solidFill>
                  <a:srgbClr val="e3e3ff"/>
                </a:solidFill>
                <a:latin typeface="Arial"/>
                <a:ea typeface="Arial"/>
              </a:rPr>
              <a:t>2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S</a:t>
            </a:r>
            <a:r>
              <a:rPr b="0" lang="es-ES" sz="48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torrómbico 2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o brillante a negro 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 grisáce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sas granulares y en forma masi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.5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álico ma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éctil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e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49200" y="1600200"/>
            <a:ext cx="2454480" cy="2171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velin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  <a:ea typeface="Arial"/>
              </a:rPr>
              <a:t>CuS</a:t>
            </a:r>
            <a:r>
              <a:rPr b="0" lang="es-ES" sz="54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xagonal 6/m2/m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zul índi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ris ploma-negr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s hexagonales tabulares. Masiva como revesti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1.5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sinoso a terroso- metáli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a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Séctil, color, b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89280" y="1600200"/>
            <a:ext cx="1174680" cy="2171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S</a:t>
            </a:r>
            <a:r>
              <a:rPr b="0" lang="es-ES" sz="4000" spc="-1" strike="noStrike" baseline="-25000">
                <a:solidFill>
                  <a:srgbClr val="e3e3ff"/>
                </a:solidFill>
                <a:latin typeface="Century Gothic"/>
              </a:rPr>
              <a:t>2</a:t>
            </a:r>
            <a:r>
              <a:rPr b="0" lang="es-ES" sz="60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úbico 4m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marillo Latón pálid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ardo negra a verdosa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ristalina en cubos con estría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6-6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erf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tenacidad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03320" y="1600200"/>
            <a:ext cx="2944800" cy="2171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Arial"/>
              </a:rPr>
              <a:t>Minerales Sulfurado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rsenopirit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Century Gothic"/>
              </a:rPr>
              <a:t>FeAsS</a:t>
            </a:r>
            <a:r>
              <a:rPr b="0" lang="es-ES" sz="6600" spc="-1" strike="noStrike">
                <a:solidFill>
                  <a:srgbClr val="e3e3ff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Sistema Cristalográ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noclínico 2/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ol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lanco de plata Grisáceo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y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e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abit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x prismáticos o en agregados columnares y masas granulares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rez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5.5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Br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tá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enacidad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frág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orm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iritohe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liv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é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eso especific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0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aracterísticas diagnosticas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ábito, frágil,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3275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4872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s ent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rrencia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siderado valiosa o de interés científico o téc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ósi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ción anómala de mineral con un volumen y ley suficientes para que en condiciones favorables pueda ser considerado potencialmente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cimiento minera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mineral estudiado y al que se le ha probado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360" y="43920"/>
            <a:ext cx="89647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me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es que pueden ser extraídos de una roca con beneficio económico. Este puede ser un agregado mineral sólido, natural, utilizable, ya sea tal como se extrae o del cual uno más componentes se pueden recuperar económic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de altera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se produce debido a cambios ambientales, químicos y de temperatura, en la presencia de agua caliente, vapor o gas. Estos minerales se forman a través de la transformación de fases minerales, crecimiento de nuevos minerales, disolución de minerales y/o precipitación, y reacciones de intercambio iónico entre los minerales constituyentes de una roca y el fluido caliente que circuló por la misma. Para ello debe existir una combinación de factores como la Tº, composición del fluido, permeabilidad, t de interacción agua/roca, composición de la roca caja y p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g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que acompaña al mineral de mena y que no posee valor 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9000"/>
            <a:ext cx="9144000" cy="73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 Hidrotermal: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luidos calientes, generalmente dominados por agua, a veces ácidos, los cuales pueden transportar metales y otros compuestos en solución al lugar de  depositación o producir alteración de la roca de caj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 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ona de alteración hidroterma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a zona con rocas que han sido alteradas a un grupo específico de minerales secundarios o de alteración, por efecto de la circulación de fluidos calientes, usualmente alrededor del perímetro de un depósito miner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t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 tabular generalmente formado por depositación de minerales mena y ganga en espacios abiertos en una falla o fractura, o también por reemplazo. Corresponde a una mineralización controlada estructur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concentración de cada metal de mena en una muestra de roca, usualmente expresado en porcentaje en peso (Ej. 1,2% Cu). Si las concentraciones son muy bajas, como las de Au, Ag, Pt y otros, la concentración puede expresarse como gramos por tonelada (g/t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y de cor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cut-off grade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ley más baja, definida arbitrariamente (en términos económicos), con la cual puede explotarse un yacimiento mineral y generalmente define el límite del m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ér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érmino minero utilizado para referirse a la roca que no constituye mena explotable, en oposición a rocas mineralizad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mineral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hip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internos de la Tie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xóge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por procesos exógenos sobre cuerpos mineralizados, como la meteorización, oxidació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epi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introducida con posterioridad a la formación de la roca de caja o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ización singenétic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ización se forma en conjunto a la formación de la roca de c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6:20:58Z</dcterms:created>
  <dc:creator>Germán</dc:creator>
  <dc:description/>
  <dc:language>en-US</dc:language>
  <cp:lastModifiedBy>Valeria</cp:lastModifiedBy>
  <dcterms:modified xsi:type="dcterms:W3CDTF">2006-08-02T00:53:54Z</dcterms:modified>
  <cp:revision>28</cp:revision>
  <dc:subject/>
  <dc:title>METALOGENESIS</dc:title>
</cp:coreProperties>
</file>