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A9D-FF2F-4346-B31C-28395D0A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CD0-59B3-4854-89C0-FA9ABB5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12B-7DD8-400A-8CB9-74F87421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62-CC7A-41A8-9164-12C3B648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E60C-E5F1-44C4-AE8A-98D4C190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E105-1430-4453-A37C-AD64C82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9065-498E-4B0B-830B-5F2CCC7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0C3-854E-4F4D-8AE3-48D5DDCE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F5D7-9CBA-4007-B006-D5B31F7F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BECC-6D24-42FB-9FF4-20D16EA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DF22-E122-467E-93D4-D98E2CC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D91-56BE-43FA-85D0-CF553DA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0E4-126B-41F9-9690-190D6F2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958-B45A-4C15-912F-B251251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BB83-F552-46F3-9921-96623F4A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BB9E-B3BC-4A24-AF85-8D2EDD39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E853-289A-4D09-BBB8-8D2A7B84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4AB-94C8-44B3-B54A-7D38B94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9D6-AD3C-44E0-A965-79BE75DA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0D9-0475-4EB2-BC49-141FCDA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0D2-D71D-4D8F-8830-B96A6E57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A9B-861E-4BBC-8362-0E9C548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8B2-54E1-4450-82AD-80AF0B9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FB4-BB7B-492E-A8F0-B925F66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C2F-3CD6-452E-80C1-6FB1C4EE881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485-BF10-4636-A9D4-D3457EB5DC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El sistema de Falla de Atacama (SFA)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66960" y="4551480"/>
            <a:ext cx="337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bastián Núñe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ésar Monteneg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Interpretaciones geotectónicas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8360" cy="290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86584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5423040" cy="292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19280" y="1557360"/>
            <a:ext cx="576108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47640" y="1628640"/>
            <a:ext cx="5766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n el Cretácico Inferior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75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39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SFA durante el Neógeno 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C en zona de estudi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60 km. De ancho, altura media 1100 ms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ominada por AF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16000" y="3157560"/>
            <a:ext cx="8023680" cy="3701880"/>
            <a:chOff x="1116000" y="3157560"/>
            <a:chExt cx="8023680" cy="37018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116000" y="3157560"/>
              <a:ext cx="62596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Topográfico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32000" y="981000"/>
            <a:ext cx="7807680" cy="6321600"/>
            <a:chOff x="1332000" y="981000"/>
            <a:chExt cx="7807680" cy="63216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091200" cy="63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ad79c"/>
                </a:solidFill>
                <a:latin typeface="Arial"/>
              </a:rPr>
              <a:t>Análisis de río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822240"/>
            <a:ext cx="9139680" cy="6037200"/>
            <a:chOff x="0" y="822240"/>
            <a:chExt cx="9139680" cy="6037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822240"/>
              <a:ext cx="7201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de Cuencas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981000"/>
            <a:ext cx="8023680" cy="6235920"/>
            <a:chOff x="1116000" y="981000"/>
            <a:chExt cx="8023680" cy="623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116000" y="981000"/>
              <a:ext cx="62118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907920"/>
            <a:ext cx="8744400" cy="6112080"/>
            <a:chOff x="395280" y="907920"/>
            <a:chExt cx="8744400" cy="6112080"/>
          </a:xfrm>
        </p:grpSpPr>
        <p:sp>
          <p:nvSpPr>
            <p:cNvPr id="162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6913440" cy="611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86064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5640" y="981000"/>
            <a:ext cx="8384040" cy="3176640"/>
            <a:chOff x="755640" y="981000"/>
            <a:chExt cx="8384040" cy="31766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55640" y="981000"/>
              <a:ext cx="73533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63440" y="37893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9640" y="4365720"/>
            <a:ext cx="61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icaciones (Riquelme,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umento del nivel d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bsidencia tectón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ridificac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pósitos tipo “Playa”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SF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558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595008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64000" y="277920"/>
            <a:ext cx="5122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5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5128200" cy="6859440"/>
            <a:chOff x="0" y="0"/>
            <a:chExt cx="5128200" cy="685944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1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35196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64000" y="126828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lzamiento anterior a Mioceno Medio, probablemente Eoceno justifica incisión prev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Levantamiento de CC acomodado por SFA: cambios topográficos y en red de drenaje al oeste de S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sde el Mioceno Superior alzamiento dominado por levantamiento de Altiplano y P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d79c"/>
                </a:solidFill>
                <a:latin typeface="Arial"/>
              </a:rPr>
              <a:t>La zona de estudi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4640" y="0"/>
            <a:ext cx="2889360" cy="835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814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ción del ar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Jurásico- Cretácico In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Med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Sup. – Paleógen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igoceno Sup. – Holoce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ología y paleogeograf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vas basálticas andesíticas y tob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ositación en cuenca subside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ografía ba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rior Plutonis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57200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227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ontinuación del rift de Thet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ormación del Complejo Bolf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nas de cizalle de alto 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ieg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ructuras no metamórf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s estructu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tones más some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bio en el tipo de fal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cadores cinemáticos de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encia de dos orientaciones en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ciones de cor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onitas deformad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33:23Z</dcterms:created>
  <dc:creator>Maria Paz</dc:creator>
  <dc:description/>
  <dc:language>en-US</dc:language>
  <cp:lastModifiedBy>Sebastian Nuñez</cp:lastModifiedBy>
  <dcterms:modified xsi:type="dcterms:W3CDTF">2006-12-04T16:22:30Z</dcterms:modified>
  <cp:revision>12</cp:revision>
  <dc:subject/>
  <dc:title>El sistema de Falla de Atacama (AFS)</dc:title>
</cp:coreProperties>
</file>