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3879-BC37-4984-B1F6-4B8E4B700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CED0-9503-4DFC-9A89-A2BC1916A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6C29-C284-4C15-97FE-C607503F4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C2D6-8175-4CD0-B0CA-030DF8CCB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F4781-4D23-41B3-BE5C-3813C4196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ACDC2-3D89-4953-B483-FB3CA0411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E36F2-116A-4EF8-9A63-C073B333E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367C7-30E9-4346-893D-5F4E73BC5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28A9A-FD6D-4CE1-A82D-AEBF276D6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55D71-3046-431F-888B-43823EA20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E4DCB-A23D-4F09-A9B2-73905C4F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2CB0-B412-44B8-8D8C-B9558049A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1E83E-A0D2-4F66-AB69-035CCDF2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D34A8-1427-49F0-970D-DD11CE07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22B46-06B6-49E6-877D-575262E6E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E8FFA-4E0B-465E-BA01-2842E968F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D28CB-ECBB-48C8-8F6D-AC275E99B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58B0-2EF2-400A-B2F5-7A1102FF2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DABE-3BF8-4DC1-BAF8-FBB8EA796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0AB4-B11E-4431-9A28-2213C5A62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1EC9-DE15-463A-AC98-9EB62A65B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D862-F102-4971-AF39-1367C073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7755-E250-4A5A-8931-DE02C208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21D6-0A37-4713-AAC3-182619A3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8a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d79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32D31-3C48-4B5B-A32E-BB7CC87B637E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ad79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8a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b8a47c"/>
                </a:gs>
                <a:gs pos="100000">
                  <a:srgbClr val="a694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dad79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2C7DE-2B44-44CA-AD49-4BBA89CA85B5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dad79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9900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dad79c"/>
                </a:solidFill>
                <a:latin typeface="Arial"/>
              </a:rPr>
              <a:t>El sistema de Falla de Atacama (SFA)</a:t>
            </a:r>
            <a:endParaRPr b="0" lang="en-US" sz="57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766960" y="4551480"/>
            <a:ext cx="3370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bastián Núñez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ésar Montenegr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d79c"/>
                </a:solidFill>
                <a:latin typeface="Arial"/>
              </a:rPr>
              <a:t>Interpretaciones geotectónicas</a:t>
            </a: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5688360" cy="2907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547640" y="1628640"/>
            <a:ext cx="5865840" cy="27608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547640" y="1628640"/>
            <a:ext cx="5423040" cy="29228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1619280" y="1557360"/>
            <a:ext cx="5761080" cy="3048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1547640" y="1628640"/>
            <a:ext cx="5766120" cy="27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9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1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7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d79c"/>
                </a:solidFill>
                <a:latin typeface="Arial"/>
              </a:rPr>
              <a:t>En el Cretácico Inferior</a:t>
            </a: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547640" y="1557360"/>
            <a:ext cx="617544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374920" y="0"/>
            <a:ext cx="3979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8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dad79c"/>
                </a:solidFill>
                <a:latin typeface="Arial"/>
              </a:rPr>
              <a:t>SFA durante el Neógeno </a:t>
            </a: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CC en zona de estudio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60 km. De ancho, altura media 1100 msn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Dominada por AFZ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116000" y="3157560"/>
            <a:ext cx="8023680" cy="3701880"/>
            <a:chOff x="1116000" y="3157560"/>
            <a:chExt cx="8023680" cy="3701880"/>
          </a:xfrm>
        </p:grpSpPr>
        <p:pic>
          <p:nvPicPr>
            <p:cNvPr id="146" name="" descr=""/>
            <p:cNvPicPr/>
            <p:nvPr/>
          </p:nvPicPr>
          <p:blipFill>
            <a:blip r:embed="rId1"/>
            <a:stretch/>
          </p:blipFill>
          <p:spPr>
            <a:xfrm>
              <a:off x="1116000" y="3157560"/>
              <a:ext cx="6259680" cy="37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7363440" y="6491160"/>
              <a:ext cx="177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Arial"/>
                </a:rPr>
                <a:t>Riquelme, 200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dad79c"/>
                </a:solidFill>
                <a:latin typeface="Arial"/>
              </a:rPr>
              <a:t>Análisis Topográfico</a:t>
            </a:r>
            <a:endParaRPr b="0" lang="en-US" sz="3600" spc="-1" strike="noStrike">
              <a:solidFill>
                <a:srgbClr val="dad79c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332000" y="981000"/>
            <a:ext cx="7807680" cy="6321600"/>
            <a:chOff x="1332000" y="981000"/>
            <a:chExt cx="7807680" cy="6321600"/>
          </a:xfrm>
        </p:grpSpPr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1332000" y="981000"/>
              <a:ext cx="6091200" cy="632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7363440" y="6491160"/>
              <a:ext cx="177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Arial"/>
                </a:rPr>
                <a:t>Riquelme, 200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dad79c"/>
                </a:solidFill>
                <a:latin typeface="Arial"/>
              </a:rPr>
              <a:t>Análisis de ríos</a:t>
            </a:r>
            <a:endParaRPr b="0" lang="en-US" sz="3200" spc="-1" strike="noStrike">
              <a:solidFill>
                <a:srgbClr val="dad79c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0" y="822240"/>
            <a:ext cx="9139680" cy="6037200"/>
            <a:chOff x="0" y="822240"/>
            <a:chExt cx="9139680" cy="6037200"/>
          </a:xfrm>
        </p:grpSpPr>
        <p:pic>
          <p:nvPicPr>
            <p:cNvPr id="154" name="" descr=""/>
            <p:cNvPicPr/>
            <p:nvPr/>
          </p:nvPicPr>
          <p:blipFill>
            <a:blip r:embed="rId1"/>
            <a:stretch/>
          </p:blipFill>
          <p:spPr>
            <a:xfrm>
              <a:off x="0" y="822240"/>
              <a:ext cx="7201080" cy="603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7363440" y="6491160"/>
              <a:ext cx="177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Arial"/>
                </a:rPr>
                <a:t>Riquelme, 200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dad79c"/>
                </a:solidFill>
                <a:latin typeface="Arial"/>
              </a:rPr>
              <a:t>Análisis de Cuencas</a:t>
            </a:r>
            <a:endParaRPr b="0" lang="en-US" sz="3600" spc="-1" strike="noStrike">
              <a:solidFill>
                <a:srgbClr val="dad79c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116000" y="981000"/>
            <a:ext cx="8023680" cy="6235920"/>
            <a:chOff x="1116000" y="981000"/>
            <a:chExt cx="8023680" cy="6235920"/>
          </a:xfrm>
        </p:grpSpPr>
        <p:pic>
          <p:nvPicPr>
            <p:cNvPr id="158" name="" descr=""/>
            <p:cNvPicPr/>
            <p:nvPr/>
          </p:nvPicPr>
          <p:blipFill>
            <a:blip r:embed="rId1"/>
            <a:stretch/>
          </p:blipFill>
          <p:spPr>
            <a:xfrm>
              <a:off x="1116000" y="981000"/>
              <a:ext cx="6211800" cy="623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7363440" y="6491160"/>
              <a:ext cx="177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Arial"/>
                </a:rPr>
                <a:t>Riquelme, 200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dad79c"/>
                </a:solidFill>
                <a:latin typeface="Arial"/>
              </a:rPr>
              <a:t>Evidencias de Terreno</a:t>
            </a:r>
            <a:endParaRPr b="0" lang="en-US" sz="4000" spc="-1" strike="noStrike">
              <a:solidFill>
                <a:srgbClr val="dad79c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95280" y="907920"/>
            <a:ext cx="8744400" cy="6112080"/>
            <a:chOff x="395280" y="907920"/>
            <a:chExt cx="8744400" cy="6112080"/>
          </a:xfrm>
        </p:grpSpPr>
        <p:sp>
          <p:nvSpPr>
            <p:cNvPr id="162" name=""/>
            <p:cNvSpPr/>
            <p:nvPr/>
          </p:nvSpPr>
          <p:spPr>
            <a:xfrm>
              <a:off x="7363440" y="6491160"/>
              <a:ext cx="177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Arial"/>
                </a:rPr>
                <a:t>Riquelme, 200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3" name="" descr=""/>
            <p:cNvPicPr/>
            <p:nvPr/>
          </p:nvPicPr>
          <p:blipFill>
            <a:blip r:embed="rId1"/>
            <a:stretch/>
          </p:blipFill>
          <p:spPr>
            <a:xfrm>
              <a:off x="395280" y="907920"/>
              <a:ext cx="6913440" cy="6112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dad79c"/>
                </a:solidFill>
                <a:latin typeface="Arial"/>
              </a:rPr>
              <a:t>Evidencias de Terreno</a:t>
            </a:r>
            <a:endParaRPr b="0" lang="en-US" sz="40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00000" y="3860640"/>
            <a:ext cx="700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755640" y="981000"/>
            <a:ext cx="8384040" cy="3176640"/>
            <a:chOff x="755640" y="981000"/>
            <a:chExt cx="8384040" cy="3176640"/>
          </a:xfrm>
        </p:grpSpPr>
        <p:pic>
          <p:nvPicPr>
            <p:cNvPr id="167" name="" descr=""/>
            <p:cNvPicPr/>
            <p:nvPr/>
          </p:nvPicPr>
          <p:blipFill>
            <a:blip r:embed="rId1"/>
            <a:stretch/>
          </p:blipFill>
          <p:spPr>
            <a:xfrm>
              <a:off x="755640" y="981000"/>
              <a:ext cx="7353360" cy="26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7363440" y="3789360"/>
              <a:ext cx="177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Arial"/>
                </a:rPr>
                <a:t>Riquelme, 200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539640" y="4365720"/>
            <a:ext cx="61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Explicaciones (Riquelme, 200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Aumento del nivel de bas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Subsidencia tectónic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Aridificaci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Depósitos tipo “Playa” </a:t>
            </a:r>
            <a:r>
              <a:rPr b="0" lang="es-C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 SF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16360" y="5589720"/>
            <a:ext cx="360360" cy="2872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51640" y="5950080"/>
            <a:ext cx="360360" cy="2872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564000" y="277920"/>
            <a:ext cx="51228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dad79c"/>
                </a:solidFill>
                <a:latin typeface="Arial"/>
              </a:rPr>
              <a:t>Evolución</a:t>
            </a:r>
            <a:endParaRPr b="0" lang="en-US" sz="40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59120" y="1716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0" y="0"/>
            <a:ext cx="5128200" cy="6859440"/>
            <a:chOff x="0" y="0"/>
            <a:chExt cx="5128200" cy="6859440"/>
          </a:xfrm>
        </p:grpSpPr>
        <p:pic>
          <p:nvPicPr>
            <p:cNvPr id="17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3415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3351960" y="6491160"/>
              <a:ext cx="177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Arial"/>
                </a:rPr>
                <a:t>Riquelme, 200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3564000" y="1268280"/>
            <a:ext cx="518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Verdana"/>
              </a:rPr>
              <a:t>Alzamiento anterior a Mioceno Medio, probablemente Eoceno justifica incisión previ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Verdana"/>
              </a:rPr>
              <a:t>Levantamiento de CC acomodado por SFA: cambios topográficos y en red de drenaje al oeste de SF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Verdana"/>
              </a:rPr>
              <a:t>Desde el Mioceno Superior alzamiento dominado por levantamiento de Altiplano y Pu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92360" y="18864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ad79c"/>
                </a:solidFill>
                <a:latin typeface="Arial"/>
              </a:rPr>
              <a:t>La zona de estudio</a:t>
            </a:r>
            <a:endParaRPr b="0" lang="en-US" sz="4000" spc="-1" strike="noStrike">
              <a:solidFill>
                <a:srgbClr val="dad79c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254640" y="0"/>
            <a:ext cx="2889360" cy="83534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98144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dad79c"/>
                </a:solidFill>
                <a:latin typeface="Arial"/>
              </a:rPr>
              <a:t>Fin</a:t>
            </a: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d79c"/>
                </a:solidFill>
                <a:latin typeface="Arial"/>
              </a:rPr>
              <a:t>Contexto geológico</a:t>
            </a: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gración del arc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rco Jurásico- Cretácico Inf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rco Cretácico Medi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rco Cretácico Sup. – Paleógeno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ligoceno Sup. – Holocen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d79c"/>
                </a:solidFill>
                <a:latin typeface="Arial"/>
              </a:rPr>
              <a:t>Contexto geológico</a:t>
            </a: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itología y paleogeografí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avas basálticas andesíticas y tob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positación en cuenca subsiden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pografía baj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osterior Plutonism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d79c"/>
                </a:solidFill>
                <a:latin typeface="Arial"/>
              </a:rPr>
              <a:t>Contexto geológico</a:t>
            </a: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4572000" cy="51818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651640" y="227664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Continuación del rift de Theti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d79c"/>
                </a:solidFill>
                <a:latin typeface="Arial"/>
              </a:rPr>
              <a:t>Evolución del arco magmático</a:t>
            </a: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tapa 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formación del Complejo Bolfi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Zonas de cizalle de alto grad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liegue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structuras no metamórfica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dad de las estructura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d79c"/>
                </a:solidFill>
                <a:latin typeface="Arial"/>
              </a:rPr>
              <a:t>Evolución del arco magmático</a:t>
            </a: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tapa I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lutones más somero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mbio en el tipo de fallamient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dicadores cinemáticos de extensió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dad de la extensió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d79c"/>
                </a:solidFill>
                <a:latin typeface="Arial"/>
              </a:rPr>
              <a:t>Evolución del arco magmático</a:t>
            </a: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tapa II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xistencia de dos orientaciones en los dik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laciones de cort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dad de los dik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8a58"/>
            </a:gs>
            <a:gs pos="100000">
              <a:srgbClr val="c5b3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d79c"/>
                </a:solidFill>
                <a:latin typeface="Arial"/>
              </a:rPr>
              <a:t>Evolución del arco magmático</a:t>
            </a:r>
            <a:endParaRPr b="0" lang="en-US" sz="4400" spc="-1" strike="noStrike">
              <a:solidFill>
                <a:srgbClr val="dad79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tapa IV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ilonitas deformada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3T19:33:23Z</dcterms:created>
  <dc:creator>Maria Paz</dc:creator>
  <dc:description/>
  <dc:language>en-US</dc:language>
  <cp:lastModifiedBy>Sebastian Nuñez</cp:lastModifiedBy>
  <dcterms:modified xsi:type="dcterms:W3CDTF">2006-12-04T16:22:30Z</dcterms:modified>
  <cp:revision>12</cp:revision>
  <dc:subject/>
  <dc:title>El sistema de Falla de Atacama (AFS)</dc:title>
</cp:coreProperties>
</file>