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496-AE68-4AE8-A393-2BC4D4F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4CB-1490-4E6C-90CD-EB86B267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AE5-6183-4696-A1B5-C8540985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5A1-EB2C-4007-818D-02D8C3CC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560A-2A9A-46F3-8EB0-059C268A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3EB-F5D8-4399-AB8E-37FEA53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0A52-6A1D-4DC2-BB79-14AD239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4164-7904-4010-BFF9-F7E7032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A1D-7E50-4E02-85CF-2919E30E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2A74-1077-4042-8CA9-FBD6400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948F-3C86-4AD4-82FA-8AF4EEA7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0EE-BA42-4C50-A96A-7D73DF4A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D9AE-2DCB-4543-B555-5AB117B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82D-682C-4D25-8456-572E16E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38D5-3DCB-4B3C-BF54-997EEE9A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1962-0923-4AAF-977A-BFA64CBC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327-0DAC-4F8F-AD9B-09CE680F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57C-A8B8-461B-B684-F92AAB7D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569-DA5E-486E-82AF-3D43A5E1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0F1-75A3-4D8C-965B-AC4C60E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ABD-18F1-46D7-90A5-707195D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322-E202-4C15-A63D-275DB27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9AE-9A5F-4BF0-85A2-9338572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32A-DF93-4EBC-BE94-3CE09DCA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EE6-AA91-4FF0-BAF6-511C3D80EDE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621D-A7B2-476B-B883-5AE868D06E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El sistema de Falla de Atacama (SFA)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66960" y="4551480"/>
            <a:ext cx="3370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bastián Núñe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ésar Monteneg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Interpretaciones geotectónicas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688360" cy="290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86584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5423040" cy="2922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19280" y="1557360"/>
            <a:ext cx="576108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47640" y="1628640"/>
            <a:ext cx="57661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n el Cretácico Inferior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75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39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SFA durante el Neógeno 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C en zona de estudi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60 km. De ancho, altura media 1100 ms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ominada por AF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16000" y="3157560"/>
            <a:ext cx="8023680" cy="3701880"/>
            <a:chOff x="1116000" y="3157560"/>
            <a:chExt cx="8023680" cy="37018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116000" y="3157560"/>
              <a:ext cx="625968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Topográfico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32000" y="981000"/>
            <a:ext cx="7807680" cy="6321600"/>
            <a:chOff x="1332000" y="981000"/>
            <a:chExt cx="7807680" cy="63216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332000" y="981000"/>
              <a:ext cx="6091200" cy="63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ad79c"/>
                </a:solidFill>
                <a:latin typeface="Arial"/>
              </a:rPr>
              <a:t>Análisis de río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822240"/>
            <a:ext cx="9139680" cy="6037200"/>
            <a:chOff x="0" y="822240"/>
            <a:chExt cx="9139680" cy="6037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822240"/>
              <a:ext cx="7201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de Cuencas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16000" y="981000"/>
            <a:ext cx="8023680" cy="6235920"/>
            <a:chOff x="1116000" y="981000"/>
            <a:chExt cx="8023680" cy="6235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116000" y="981000"/>
              <a:ext cx="62118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907920"/>
            <a:ext cx="8744400" cy="6112080"/>
            <a:chOff x="395280" y="907920"/>
            <a:chExt cx="8744400" cy="6112080"/>
          </a:xfrm>
        </p:grpSpPr>
        <p:sp>
          <p:nvSpPr>
            <p:cNvPr id="162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6913440" cy="611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86064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55640" y="981000"/>
            <a:ext cx="8384040" cy="3176640"/>
            <a:chOff x="755640" y="981000"/>
            <a:chExt cx="8384040" cy="31766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55640" y="981000"/>
              <a:ext cx="73533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63440" y="37893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9640" y="4365720"/>
            <a:ext cx="61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icaciones (Riquelme,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umento del nivel de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bsidencia tectón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ridificac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pósitos tipo “Playa”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SF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55897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595008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64000" y="277920"/>
            <a:ext cx="5122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olución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5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5128200" cy="6859440"/>
            <a:chOff x="0" y="0"/>
            <a:chExt cx="5128200" cy="685944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41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35196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64000" y="126828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Alzamiento anterior a Mioceno Medio, probablemente Eoceno justifica incisión prev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Levantamiento de CC acomodado por SFA: cambios topográficos y en red de drenaje al oeste de S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esde el Mioceno Superior alzamiento dominado por levantamiento de Altiplano y P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d79c"/>
                </a:solidFill>
                <a:latin typeface="Arial"/>
              </a:rPr>
              <a:t>La zona de estudi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54640" y="0"/>
            <a:ext cx="2889360" cy="835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814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ración del ar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Jurásico- Cretácico In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Med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Sup. – Paleógen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igoceno Sup. – Holoce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ología y paleogeograf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vas basálticas andesíticas y tob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ositación en cuenca subside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ografía ba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rior Plutonis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572000" cy="518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227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ontinuación del rift de Thet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ormación del Complejo Bolf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nas de cizalle de alto gr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ieg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ructuras no metamórf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s estructu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tones más somer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bio en el tipo de fal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cadores cinemáticos de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encia de dos orientaciones en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ciones de cor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onitas deformad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33:23Z</dcterms:created>
  <dc:creator>Maria Paz</dc:creator>
  <dc:description/>
  <dc:language>en-US</dc:language>
  <cp:lastModifiedBy>Sebastian Nuñez</cp:lastModifiedBy>
  <dcterms:modified xsi:type="dcterms:W3CDTF">2006-12-04T16:22:30Z</dcterms:modified>
  <cp:revision>12</cp:revision>
  <dc:subject/>
  <dc:title>El sistema de Falla de Atacama (AFS)</dc:title>
</cp:coreProperties>
</file>