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A2E-E609-4BF9-AF39-C85468D8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D9B-6A89-43E1-8094-3E37278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796-719D-42A7-83FE-6B8E727A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91D-7559-4F69-872E-1D5E5F6C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BB2-78B0-4717-9BDE-1EB8A422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6440-E3AD-49FC-B6A5-7D5ECAB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E6D8-1CB5-413A-A53C-278F365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F3A-8CE1-4B5B-BE1A-31ED0A6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2B78-DCFE-4322-9A07-CE5D878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6E9C-F8CA-4A24-B231-7C4A1B33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18D9-9415-4D4B-A044-C4B24DA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DBC-6879-4BAA-860A-9EE1B77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582-C95D-409A-8341-DBADA55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57EF-C5D9-4C47-9672-2402CC63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420D-5BD2-4E01-AF74-34F10694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16A7-F91E-4171-879C-2746FCFB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392-7F74-4248-B77F-A6B71B3F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193-67CE-4358-8E5D-4FF7F75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C7D-8946-40C7-8856-97013E9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EA6-3E3F-4254-A284-4330366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344-158F-4EAD-96F4-9D212A25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DE5-40A7-439C-9957-1C979ED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28B-ADC2-4F65-ACAE-5822216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FB2-D132-451A-ADD3-39B0B2B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6796-5593-4C75-AF67-13BF425586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F81-D13E-4C0E-9814-407F69321E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El sistema de Falla de Atacama (SFA)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66960" y="4551480"/>
            <a:ext cx="337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bastián Núñe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ésar Monteneg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Interpretaciones geotectónicas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8360" cy="290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86584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5423040" cy="292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19280" y="1557360"/>
            <a:ext cx="576108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47640" y="1628640"/>
            <a:ext cx="5766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n el Cretácico Inferior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75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39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SFA durante el Neógeno 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C en zona de estudi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60 km. De ancho, altura media 1100 ms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ominada por AF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16000" y="3157560"/>
            <a:ext cx="8023680" cy="3701880"/>
            <a:chOff x="1116000" y="3157560"/>
            <a:chExt cx="8023680" cy="37018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116000" y="3157560"/>
              <a:ext cx="62596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Topográfico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32000" y="981000"/>
            <a:ext cx="7807680" cy="6321600"/>
            <a:chOff x="1332000" y="981000"/>
            <a:chExt cx="7807680" cy="63216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091200" cy="63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ad79c"/>
                </a:solidFill>
                <a:latin typeface="Arial"/>
              </a:rPr>
              <a:t>Análisis de río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822240"/>
            <a:ext cx="9139680" cy="6037200"/>
            <a:chOff x="0" y="822240"/>
            <a:chExt cx="9139680" cy="6037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822240"/>
              <a:ext cx="7201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de Cuencas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981000"/>
            <a:ext cx="8023680" cy="6235920"/>
            <a:chOff x="1116000" y="981000"/>
            <a:chExt cx="8023680" cy="623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116000" y="981000"/>
              <a:ext cx="62118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907920"/>
            <a:ext cx="8744400" cy="6112080"/>
            <a:chOff x="395280" y="907920"/>
            <a:chExt cx="8744400" cy="6112080"/>
          </a:xfrm>
        </p:grpSpPr>
        <p:sp>
          <p:nvSpPr>
            <p:cNvPr id="162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6913440" cy="611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86064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5640" y="981000"/>
            <a:ext cx="8384040" cy="3176640"/>
            <a:chOff x="755640" y="981000"/>
            <a:chExt cx="8384040" cy="31766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55640" y="981000"/>
              <a:ext cx="73533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63440" y="37893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9640" y="4365720"/>
            <a:ext cx="61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icaciones (Riquelme,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umento del nivel d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bsidencia tectón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ridificac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pósitos tipo “Playa”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SF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558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595008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64000" y="277920"/>
            <a:ext cx="5122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5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5128200" cy="6859440"/>
            <a:chOff x="0" y="0"/>
            <a:chExt cx="5128200" cy="685944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1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35196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64000" y="126828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lzamiento anterior a Mioceno Medio, probablemente Eoceno justifica incisión prev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Levantamiento de CC acomodado por SFA: cambios topográficos y en red de drenaje al oeste de S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sde el Mioceno Superior alzamiento dominado por levantamiento de Altiplano y P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d79c"/>
                </a:solidFill>
                <a:latin typeface="Arial"/>
              </a:rPr>
              <a:t>La zona de estudi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4640" y="0"/>
            <a:ext cx="2889360" cy="835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814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ción del ar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Jurásico- Cretácico In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Med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Sup. – Paleógen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igoceno Sup. – Holoce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ología y paleogeograf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vas basálticas andesíticas y tob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ositación en cuenca subside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ografía ba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rior Plutonis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57200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227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ontinuación del rift de Thet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ormación del Complejo Bolf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nas de cizalle de alto 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ieg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ructuras no metamórf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s estructu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tones más some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bio en el tipo de fal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cadores cinemáticos de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encia de dos orientaciones en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ciones de cor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onitas deformad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33:23Z</dcterms:created>
  <dc:creator>Maria Paz</dc:creator>
  <dc:description/>
  <dc:language>en-US</dc:language>
  <cp:lastModifiedBy>Sebastian Nuñez</cp:lastModifiedBy>
  <dcterms:modified xsi:type="dcterms:W3CDTF">2006-12-04T16:22:30Z</dcterms:modified>
  <cp:revision>12</cp:revision>
  <dc:subject/>
  <dc:title>El sistema de Falla de Atacama (AFS)</dc:title>
</cp:coreProperties>
</file>