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8B8-0995-4181-B5CB-DC01220A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B7C-39C4-4124-8871-FAD7F36D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12F-3B98-41F4-88C1-FA29DCE9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5D1-CDEA-41E3-9310-8C1AA268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346-13EC-48AE-A24A-F67A64DA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86C-77A4-4973-9268-909C61F0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97F-C814-4FD2-88B5-5BBE2586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4D2-AC79-4F98-A0D7-C147C3F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710-EA51-4F28-9FCB-970C91BE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6A6-2C6C-4760-B1B8-18760E95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051-B46C-40F0-B14F-81AE1953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411-433E-4E11-8889-428F54BC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3722-EE97-4BB2-85A2-F16B6FD5E5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22440"/>
            <a:ext cx="806436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60440" y="0"/>
            <a:ext cx="544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2749" b="2321"/>
          <a:stretch/>
        </p:blipFill>
        <p:spPr>
          <a:xfrm>
            <a:off x="611280" y="243000"/>
            <a:ext cx="784836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Norte Ch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m.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Grupo Pastos Blancos (Gr. Choiyoi)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Thiele, 1965; Martin et al.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m. Lautaro (Jurás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Unidad Los Tilos </a:t>
            </a: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(Tr Sup.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5 Ma (K-Ar)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25 Ma  y 210 Ma (U-Pb, circ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Unidad Guanaco Sonso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Pérmic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18±6 Ma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60±6 Ma (K-Ar) y 265,8±5,6 Ma (U-Pb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rc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uí están representados los dos pulsos de extensión del Ciclo Pre-And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Quereo -  Los Mo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2586" r="2744" b="9155"/>
          <a:stretch/>
        </p:blipFill>
        <p:spPr>
          <a:xfrm>
            <a:off x="0" y="7452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870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32000" y="141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RICÓ, Hualañ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739" t="0" r="0" b="-325"/>
          <a:stretch/>
        </p:blipFill>
        <p:spPr>
          <a:xfrm>
            <a:off x="0" y="160200"/>
            <a:ext cx="88930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4:11:17Z</dcterms:created>
  <dc:creator>U. de Chile</dc:creator>
  <dc:description/>
  <dc:language>en-US</dc:language>
  <cp:lastModifiedBy>U. de Chile</cp:lastModifiedBy>
  <dcterms:modified xsi:type="dcterms:W3CDTF">2006-11-03T19:01:26Z</dcterms:modified>
  <cp:revision>10</cp:revision>
  <dc:subject/>
  <dc:title>Diapositiva 1</dc:title>
</cp:coreProperties>
</file>