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F5C-33F1-4977-B532-ADE27508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2F1-C1F0-4554-818B-4C7E8088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AAB-5534-4E45-886C-3C296D09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A23-4331-4CC4-858F-DA271670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CB3-37C8-427C-87BA-9C31140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CF9-71F7-4A3D-A0C6-3FC95A7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55B-EB15-4185-B051-B50D6BC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0BB-BE5A-4998-BE69-0E78DA0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04F-35F0-48E1-918C-15EF466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B5E-2BAD-4CA8-BC54-FB40C14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8A8-45FF-4F27-960F-E998660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4A0-52D2-47A5-8020-667923D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408-831A-4993-B9CB-3D32039409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806436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044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2749" b="2321"/>
          <a:stretch/>
        </p:blipFill>
        <p:spPr>
          <a:xfrm>
            <a:off x="611280" y="243000"/>
            <a:ext cx="78483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Norte Ch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m.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Grupo Pastos Blancos (Gr. Choiyoi)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Thiele, 1965; Martin et al.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m. Lautaro (Jurás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Unidad Los Tilos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(Tr Sup.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5 Ma (K-Ar)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5 Ma  y 210 Ma (U-Pb, 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Unidad Guanaco Sons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Pérmic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8±6 Ma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0±6 Ma (K-Ar) y 265,8±5,6 Ma (U-Pb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í están representados los dos pulsos de extensión del Ciclo Pre-And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Quereo -  Los Mo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586" r="2744" b="9155"/>
          <a:stretch/>
        </p:blipFill>
        <p:spPr>
          <a:xfrm>
            <a:off x="0" y="7452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870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141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RICÓ, Hualañ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739" t="0" r="0" b="-325"/>
          <a:stretch/>
        </p:blipFill>
        <p:spPr>
          <a:xfrm>
            <a:off x="0" y="160200"/>
            <a:ext cx="8893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11:17Z</dcterms:created>
  <dc:creator>U. de Chile</dc:creator>
  <dc:description/>
  <dc:language>en-US</dc:language>
  <cp:lastModifiedBy>U. de Chile</cp:lastModifiedBy>
  <dcterms:modified xsi:type="dcterms:W3CDTF">2006-11-03T19:01:26Z</dcterms:modified>
  <cp:revision>10</cp:revision>
  <dc:subject/>
  <dc:title>Diapositiva 1</dc:title>
</cp:coreProperties>
</file>