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B0B-0E66-4C45-8E4C-0DA8E029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676-9714-404D-9E1C-87BD6D5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0E7-1AF2-4DDD-9D1F-6EF1546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A68-A4A8-4E37-B0AB-F4D909A4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35F-D16C-42A7-8965-E661C2F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972-11A8-4998-9838-037ADB4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3E1-9F02-494C-8EF4-080DCDE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BD3-9950-4161-AB60-39E30F08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769-EF02-45D1-BEDA-8706D149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834-7691-44B1-B8DB-7A0BF597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06E-4833-4283-95D3-9CFF9CE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E25-9CD6-4CE3-853B-132FC8F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09D-9213-4574-918C-ED4CD6F6E7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22440"/>
            <a:ext cx="806436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6044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2749" b="2321"/>
          <a:stretch/>
        </p:blipFill>
        <p:spPr>
          <a:xfrm>
            <a:off x="611280" y="243000"/>
            <a:ext cx="784836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Norte Ch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m.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Grupo Pastos Blancos (Gr. Choiyoi)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Thiele, 1965; Martin et al.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m. Lautaro (Jurás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Unidad Los Tilos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(Tr Sup.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5 Ma (K-Ar)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5 Ma  y 210 Ma (U-Pb, circ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Unidad Guanaco Sons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Pérmic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8±6 Ma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60±6 Ma (K-Ar) y 265,8±5,6 Ma (U-Pb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í están representados los dos pulsos de extensión del Ciclo Pre-And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Quereo -  Los Mo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586" r="2744" b="9155"/>
          <a:stretch/>
        </p:blipFill>
        <p:spPr>
          <a:xfrm>
            <a:off x="0" y="7452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870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141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RICÓ, Hualañ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739" t="0" r="0" b="-325"/>
          <a:stretch/>
        </p:blipFill>
        <p:spPr>
          <a:xfrm>
            <a:off x="0" y="160200"/>
            <a:ext cx="8893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4:11:17Z</dcterms:created>
  <dc:creator>U. de Chile</dc:creator>
  <dc:description/>
  <dc:language>en-US</dc:language>
  <cp:lastModifiedBy>U. de Chile</cp:lastModifiedBy>
  <dcterms:modified xsi:type="dcterms:W3CDTF">2006-11-03T19:01:26Z</dcterms:modified>
  <cp:revision>10</cp:revision>
  <dc:subject/>
  <dc:title>Diapositiva 1</dc:title>
</cp:coreProperties>
</file>