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229-8022-47A1-A4CF-3B8BE575791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D5E-D610-4B19-865B-DBDB005B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B23-3650-41B9-8732-A967C39E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AC2-35D7-45E9-9034-1DB74FAB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ED1-4A2E-4103-9E5C-EBFBF096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A266-AF84-40D8-901D-C4B94DF5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FF9C-2757-4503-8383-A1320CE6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9CC7-C26B-445F-8F65-66FD4AD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5527-42AD-4B16-AE97-F60C10B5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627E-09D4-41E0-A1D8-2BFC130E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9C06-811C-4B0B-91ED-25063A9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F14-DBFF-41EC-8768-F8A0074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963-29A2-45DC-9502-49A7683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16F-2146-4315-BC66-B4AE1693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8B4-AE72-4507-802B-B469A4B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822E-C33A-4064-9E72-61E48BF4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170F-3B1A-44D3-B232-0E113B73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46D-A4DF-4D1F-953C-CCD2401C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C4D-F05F-455A-BCBE-F2BCDD58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699-750A-471D-9B21-0B5ED34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540-6C65-4CDE-8D4E-42D86281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9EE-FC83-4AE7-A673-C0D4E30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430-9166-4CCD-A8B9-5C0554B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3EF-46BC-46F8-A7A5-0676ADAD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D28-4C7E-405E-8C68-82B166A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16F6-6970-4A62-AE06-D15BC34CB7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F8C-DA8A-4EBC-A4BC-BBC2C34C70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e: Resumen de algunos elementos traza particularmente útiles en petrología I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e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6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lementos incompatibles que subsitutyen K en K-felds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120" y="3317760"/>
            <a:ext cx="59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menos fácilmente en Hb que en K-felds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080" y="3852720"/>
            <a:ext cx="638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K-f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0-03T05:16:58Z</dcterms:modified>
  <cp:revision>1</cp:revision>
  <dc:subject/>
  <dc:title>Diapositiva 1</dc:title>
</cp:coreProperties>
</file>