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A74D-0B00-48D9-BAE0-AF6E5480329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9BF-C428-4BA8-BB3F-3E8DCA57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8C3-43C4-4AA2-8727-59118BE8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599-8BFC-4EF3-8F76-C2CA69B7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C8C-2E6E-491A-81EA-E6DCE224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BA8B-2805-4226-8DB1-321E38F4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3996-B766-4E57-A0CF-F56389C6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98E2-9021-456F-AEE3-235FAF26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83C8-3C81-4693-9578-8A222051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D1C4-4F5E-4596-84A6-F1E3C99A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7143-FC8B-4A0E-9738-A680B421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CD2F-3E9A-4E1D-960B-6064392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7BA-B607-473B-A6BA-BE0A342B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D20F-5B0D-42EC-9B68-686D54A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AAAD-0F17-4304-A282-BF768807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79B0-80DC-470D-B563-C8A62D3A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33C9-0AEF-47EE-A4DA-D39DAD96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01E6-26B7-4D64-86B3-B87B0798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02C-800B-4048-9ED4-C8BE23B7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498-98FB-4839-9E18-13B6B6AB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3D6-FE8F-4CA1-A451-82840BCB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DA4-A7E8-4FCD-A2E5-E5089387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82D-7DCB-4DD1-A8AF-71DC20D1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D3D-3BBB-4823-B08B-3BFE373D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44A-3B65-4216-BAB7-DB20D927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53FE-16ED-46D3-834C-31F9AF8A7A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D900-D1A5-4B5C-9D4F-32A708D37EF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e: Resumen de algunos elementos traza particularmente útiles en petrología I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e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6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incompatibles que subsitutyen K en K-felds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120" y="3317760"/>
            <a:ext cx="59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menos fácilmente en Hb que en K-felds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080" y="3852720"/>
            <a:ext cx="638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K-f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0-03T05:16:58Z</dcterms:modified>
  <cp:revision>1</cp:revision>
  <dc:subject/>
  <dc:title>Diapositiva 1</dc:title>
</cp:coreProperties>
</file>