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6D4-954C-4916-9E39-E537ADD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37C-FC15-447A-AC34-575987D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EE8-F96D-41C2-88B7-FD7CCFD0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E06-CDCF-4EC7-96BF-757307F0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DB9-16D3-4BF7-A957-062BA0F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902-FB9B-446C-AC02-34418408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19A-0B16-4BE2-8F70-ADE30C4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204-41F1-4C16-A307-BC33BDF2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D8D-14E6-4D8F-8AE0-3B96436D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E26-5F71-4A58-828E-E3C3CFC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A07-0E65-4541-8C3E-07797DA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A59-0581-4CC5-9D94-29C8F3C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260-0C19-4DC9-8F34-4A605839CAB5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 forman mezcla entre estos dos extremos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ondulo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pagalvez</cp:lastModifiedBy>
  <dcterms:modified xsi:type="dcterms:W3CDTF">2006-10-03T23:13:30Z</dcterms:modified>
  <cp:revision>6</cp:revision>
  <dc:subject/>
  <dc:title>Feldespatoides, zeolitas y escapolitas</dc:title>
</cp:coreProperties>
</file>