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8D3-6A82-44EB-A7DD-482DE11D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B82-A933-48E8-BFA0-895CC7B8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AFA-422A-43E1-8652-FCF93C53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A0E-1771-40A2-8313-412E0783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22A-80C2-4D77-9B23-E6C62987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C64-10DF-4C85-B3D2-D23E24B6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1FF-8463-4953-BA68-518404B2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AC3-DEC1-46A4-BBBC-FAF64B28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24B-9BD6-4B98-BE40-1595CDD6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6D7-1BFE-4F6D-AB3A-0F5FB970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E1E-5A8D-47F0-B4EF-B71D9A36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A089-4B1D-4572-84F6-F8A5FA0E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4C34-D3D6-4D27-8FE1-0D362DCD7FDD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Feldespatoides, zeolitas y escap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Escap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[3NaAlSi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NaCl]=Marialita </a:t>
            </a:r>
            <a:r>
              <a:rPr b="0" i="1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[3Ca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Ca(O,C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] = Meionita forman mezcla entre estos dos extremos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gregados columnares, cristales larg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 a bastante fuerte, los más fuertes varían desde amarillo de primer orden a violeta de segundo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, n&gt;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Escap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2857680" cy="3343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28195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Kerr, Mineralogía Óptic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Feldespatoid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Leuc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Nefeli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aüy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ancrin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odal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lil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Leucita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90760" y="19051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Al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uy baja birrefringencia: 0.00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aclado polisintético desordenad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, menor al bálsamo, pero mayor que el de la microcli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niaxia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ondulos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1431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Nefe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Na,K)(Al,Si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 débil, grises de primer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muy bajo, n parecido a 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niaxial negativ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2814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Haüy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3 NaAl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Ca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3 NaAl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 a azul pálido a azul fuer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sométric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muy bajo, n menor que el 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Puede mostrar una leve birrefringenci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3639" t="0" r="9091" b="0"/>
          <a:stretch/>
        </p:blipFill>
        <p:spPr>
          <a:xfrm>
            <a:off x="228600" y="1981080"/>
            <a:ext cx="38862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781440" cy="567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0" r="0" b="19026"/>
          <a:stretch/>
        </p:blipFill>
        <p:spPr>
          <a:xfrm>
            <a:off x="4495680" y="3733920"/>
            <a:ext cx="3861000" cy="2876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76920" y="16765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lili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3048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oda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590560" y="1981080"/>
            <a:ext cx="2361960" cy="5335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362320" y="1981080"/>
            <a:ext cx="2590560" cy="289584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nalcim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Al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euland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Al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stilb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Ca,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habac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Ca,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6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Natrol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2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sol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*8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Thompsonita (N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6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scolec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idrosilicatos sódico-cálcico-alumínic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múnmente fibrosas o columna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uelen presentarse en cavidades de rocas subsilíceas, como minerales secundari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2949480" cy="5029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794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2:15:16Z</dcterms:created>
  <dc:creator>Yuki</dc:creator>
  <dc:description/>
  <dc:language>en-US</dc:language>
  <cp:lastModifiedBy>pagalvez</cp:lastModifiedBy>
  <dcterms:modified xsi:type="dcterms:W3CDTF">2006-10-03T23:13:30Z</dcterms:modified>
  <cp:revision>6</cp:revision>
  <dc:subject/>
  <dc:title>Feldespatoides, zeolitas y escapolitas</dc:title>
</cp:coreProperties>
</file>