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BB6-6E24-4C29-B23D-41A67FA3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B30-9151-4ACE-AE99-45809627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CC5-FC49-4DC9-818E-5BC26C52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532-E8B7-4DDA-99E9-BC66296E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549-96E8-459B-AB61-54A910F1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BB5-A915-4934-BA40-4F94A474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E3AA-ADE8-44FC-ACD4-2E414D2F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32D-AE30-4E2D-82FB-982A48BC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EBB-1BD4-4754-8CFB-8496CE95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FE8-C92E-40F9-9A43-D24B6329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04F-B12C-482D-893A-4E098B5C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189-33A8-4B4B-BBD8-1921605B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A268-A9E5-46A8-8972-E360DBCA9C99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Feldespatoides, zeolitas y escap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Escap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[3NaAlSi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NaCl]=Marialita </a:t>
            </a:r>
            <a:r>
              <a:rPr b="0" i="1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[3Ca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Ca(O,C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] = Meionita forman mezcla entre estos dos extremos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gregados columnares, cristales larg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 a bastante fuerte, los más fuertes varían desde amarillo de primer orden a violeta de segundo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, n&gt;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Escap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2857680" cy="3343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28195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Kerr, Mineralogía Óptic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Feldespatoid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Leuc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Nefeli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aüy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ancrin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odal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lil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Leucita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90760" y="19051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Al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uy baja birrefringencia: 0.00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aclado polisintético desordenad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, menor al bálsamo, pero mayor que el de la microcli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niaxia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ondulos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1431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Nefe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Na,K)(Al,Si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 débil, grises de primer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muy bajo, n parecido a 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niaxial negativ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2814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Haüy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3 NaAl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Ca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3 NaAl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 a azul pálido a azul fuer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sométric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muy bajo, n menor que el bálsa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Puede mostrar una leve birrefringenci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3639" t="0" r="9091" b="0"/>
          <a:stretch/>
        </p:blipFill>
        <p:spPr>
          <a:xfrm>
            <a:off x="228600" y="1981080"/>
            <a:ext cx="38862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781440" cy="567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0" r="0" b="19026"/>
          <a:stretch/>
        </p:blipFill>
        <p:spPr>
          <a:xfrm>
            <a:off x="4495680" y="3733920"/>
            <a:ext cx="3861000" cy="2876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76920" y="16765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lili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3048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oda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590560" y="1981080"/>
            <a:ext cx="2361960" cy="5335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362320" y="1981080"/>
            <a:ext cx="2590560" cy="289584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nalcim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Al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euland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Al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stilb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Ca,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habac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Ca,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6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Natrol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2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esol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*8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Thompsonita (N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i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6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scolecita (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*3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Hidrosilicatos sódico-cálcico-alumínic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múnmente fibrosas o columna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uelen presentarse en cavidades de rocas subsilíceas, como minerales secundari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ddf2"/>
            </a:gs>
            <a:gs pos="100000">
              <a:srgbClr val="bb5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Zeolit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2949480" cy="5029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794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2:15:16Z</dcterms:created>
  <dc:creator>Yuki</dc:creator>
  <dc:description/>
  <dc:language>en-US</dc:language>
  <cp:lastModifiedBy>pagalvez</cp:lastModifiedBy>
  <dcterms:modified xsi:type="dcterms:W3CDTF">2006-10-03T23:13:30Z</dcterms:modified>
  <cp:revision>6</cp:revision>
  <dc:subject/>
  <dc:title>Feldespatoides, zeolitas y escapolitas</dc:title>
</cp:coreProperties>
</file>