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4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768C-E86C-4223-AEB8-C297863D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189F-B71B-4DE1-AEA9-D4833CE6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CF21-CD3C-474B-B838-7DCEEC20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6CC2-AC71-4709-8202-B993EF41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3B6C-B6D1-40D1-BAC9-3BB5E539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A947-6B8F-417B-8B0F-5B4E103B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3CE0-D50F-4BEE-925D-7C4FBBF5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5118-24C7-464A-9B3F-37134291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4B88-AE65-4C6F-8EF4-B092CDB1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A872-C312-4FE6-9D78-1206A74A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50BA-D8BE-42A9-96E4-C9309144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3955-D8D4-48DA-A178-4980D36B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C33C-8947-4DD6-AE78-1B3C6049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804C-AC20-4709-ABBF-8B44BAB0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0239-EEC2-4610-B2D1-1C992DE5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1726-9A63-46B7-BD8F-9A285C78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394A-FC73-44FD-A37F-30532C87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E7DC-4E21-4B92-B765-5524E322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82A-0184-48A3-8F53-9E99DF8F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3DEE-352C-4CF0-8A62-F2C94189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8156-45C1-4F86-B0B1-E5225FD0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4E2C-54AE-41D9-8305-AE91969A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14C-9FB7-450A-9E44-96D6F775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89B8-1C3F-4E4D-B745-4E8EEB9C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A819-2898-4B72-81F6-C6484EE0CD67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B5CC-59E0-4C45-ACAF-F0498C7BEDC3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ecff"/>
                </a:solidFill>
                <a:latin typeface="Arial"/>
              </a:rPr>
              <a:t>Proyección Geográfic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600360" cy="18586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45080" y="1839960"/>
            <a:ext cx="4037040" cy="1689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95280" y="4111560"/>
            <a:ext cx="3529080" cy="1970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645080" y="4041720"/>
            <a:ext cx="4037040" cy="19335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11440" y="35924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Equidistant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2160" y="609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Mercato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2000" y="35211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Lamber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50720" y="596916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0" y="90360"/>
          <a:ext cx="9144000" cy="665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360"/>
                    <a:ext cx="9144000" cy="66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Proyección de Merca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La proyección mas utilizada en Chile es la proyección Universal Transversa de Mercator (UTM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Ideal para escalas grandes ( Mayores a 1:250.000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Conserva los ángul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Distorsiona todas las superficies sobre los objetos originales así como las distancias existent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Se mide la distancia en metros con respecto a dos líneas perpendicular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427640" y="2060640"/>
          <a:ext cx="453708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060640"/>
                    <a:ext cx="45370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900000" y="1413000"/>
          <a:ext cx="2880000" cy="48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1413000"/>
                    <a:ext cx="2880000" cy="48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3642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e trata de una proyección cilíndrica en la que la Tierra se divide en 60 husos con un ancho de 6 grados de longitud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distorsiones son nulas en los lados y aumentan hacia el meridiano central (es por tanto una proyección secante), especialmente cuando se incremente la latitud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proyección UTM no debe usarse en latitudes altas y suele reemplazarse por proyecciones azimutales polar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meridiano central tiene siempre un valor X= 500.000 metros y en el Ecuador Y=0 metro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7040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42920" y="836640"/>
            <a:ext cx="8893080" cy="5062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700360" y="1125360"/>
            <a:ext cx="287280" cy="381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028000" y="2997360"/>
            <a:ext cx="79200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26920" y="239760"/>
            <a:ext cx="7777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42920" y="907920"/>
            <a:ext cx="8893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437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jemplo coordena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Este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340.000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(6 Dígito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Norte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6.123.580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(7 Dígito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uso 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19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Zona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Datum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SAD 69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Geodesia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es la ciencia que estudia la forma y tamaño de la Tierra y las posiciones sobre la misma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Geoide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es una superficie en la que todos sus puntos experimentan la misma atracción gravitatoria siendo esta equivalente a la experimentada al nivel del mar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La forma del Geoide puede aproximarse utilizando diferentes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elipsoides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o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esferoides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que resultan de la revolución de una elips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859280" y="3933720"/>
            <a:ext cx="3019320" cy="2210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29527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42472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0872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50920" y="171360"/>
            <a:ext cx="849780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154080"/>
            <a:ext cx="914400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ecff"/>
                </a:solidFill>
                <a:latin typeface="Arial"/>
              </a:rPr>
              <a:t>Mapa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14860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a mapa geológico no es solo un dibujo. Debe tener información suficiente para que sea entendible con SOLO ver el mapa, sin necesidad de ver el tex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050920" y="3429000"/>
            <a:ext cx="53294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ntact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nidades y Formacion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ronologí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so de Colores  y simbologí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ntact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inea continua contacto observa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inea discontinua contacto infer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onsistentes los rumbos y manteos con la topografia (=&gt; REGLA DE LAS V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trato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orizont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tratos Vertic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213080" y="1630440"/>
            <a:ext cx="1847880" cy="16761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211640" y="3645000"/>
            <a:ext cx="1847880" cy="16761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6443640" y="3645000"/>
            <a:ext cx="1387440" cy="1655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6372360" y="1627200"/>
            <a:ext cx="13348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contra la Pendi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a favor de la Pendiente (ángulo menor que la pendient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1385640" cy="1656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1847880" cy="1676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427640" y="4200480"/>
            <a:ext cx="1847880" cy="16765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6640560" y="1627200"/>
            <a:ext cx="13874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ara cualquier tipo de coordenadas deben cumplirse las siguientes regl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el Punto sea ÚNIC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quede perfectamente identificado el sistema de proyección empleado para localizar el pu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permita referenciar la coordenada “Z” del pu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a favor de la pendiente (ángulo mayor que la pendient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804000" y="1773360"/>
            <a:ext cx="1276200" cy="15238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4500720" y="1700280"/>
            <a:ext cx="1847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idades y Formacio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Juntar varios cuerpos iguales a un cuerpo grande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Estratos: Juntar varios estratos parecidos para una unidad o formación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No dibujar el cuerpo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TODO LO ANTERIOR ES FUNCION DE LA ESCALA Y CALIDAD DE LA INFORMAC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763640" y="1628640"/>
          <a:ext cx="5689800" cy="17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628640"/>
                    <a:ext cx="568980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1051560" y="5516640"/>
            <a:ext cx="74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Varios cuerpos pequeños agrupados en un cuerpo mayor o destacad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como un conjunt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835280" y="3716280"/>
          <a:ext cx="5689440" cy="16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716280"/>
                    <a:ext cx="568944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979640" y="1557360"/>
          <a:ext cx="583236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57360"/>
                    <a:ext cx="583236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2050920" y="3500280"/>
          <a:ext cx="5761080" cy="21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500280"/>
                    <a:ext cx="576108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285920" y="2881440"/>
          <a:ext cx="6564240" cy="19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2881440"/>
                    <a:ext cx="656424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ronolog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Ser consistentes con los periodos de tiemp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12720" y="3141720"/>
          <a:ext cx="755964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3141720"/>
                    <a:ext cx="755964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540720" cy="68929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484360" y="2421000"/>
            <a:ext cx="3456000" cy="4437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24000" y="4265640"/>
          <a:ext cx="403704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265640"/>
                    <a:ext cx="403704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4643280" y="4221000"/>
          <a:ext cx="4037040" cy="20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4221000"/>
                    <a:ext cx="4037040" cy="20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1260360" y="404640"/>
          <a:ext cx="6480360" cy="321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60360" y="404640"/>
                    <a:ext cx="648036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 flipH="1">
            <a:off x="2771280" y="3645000"/>
            <a:ext cx="863640" cy="64764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416320" y="630864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Ojo con la temporalidad de los event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 Mapas: Simbolog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ara mapas en blanco y neg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4037040" cy="16398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4859280" y="4508640"/>
            <a:ext cx="4037040" cy="2122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179280" y="2852640"/>
            <a:ext cx="44388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sistema de coordenadas natural de un esferoide es el de latitud y longitud que suele denominarse </a:t>
            </a: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coordenadas geográficas</a:t>
            </a: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representación cartográfica de la Tierra (sea considerado como una esfera o un elipsoide) genera un problema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NO ES POSIBLE REPRESENTAR TODA LA SUPERFICIE SIN DEFORMARLA E INCLUSO REPRESENTARLA FIELMEN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proyecciones se utilizan para minimizar las deformaciones al representar la superficie terrestre en un mapa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 Mapas: Simbolog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apas en Col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Esquema "época por color": Cada época tiene su color propi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Esquema " litología y color": Cada roca tiene su color propia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12760" y="2565360"/>
            <a:ext cx="26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Colores por época par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rocas sedimentarias 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volcánica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826920" y="620640"/>
          <a:ext cx="526284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20640"/>
                    <a:ext cx="526284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lores por litolog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Intrusivas -&gt; Roj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Volcanicas -&gt; verd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onglomerados -&gt; Naranj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alizas -&gt; azu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metámorficas -&gt; gris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Reglas básic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Siempre amarillo claro exclusivamente para cuaternar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Rojo solo para rocas intrusivas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9200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Nombre del Map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Autores del Map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Escala: grafica y con palabr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Ubicación del Norte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Indicar Norte magnético y declinació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Tiene que llevar coordenad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Leyenda Geológic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Simbologi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Información acerca del tipo de proyección geográfica utiliza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Pequeño mapa con CALIDAD DE LA INFORMACION (sectores observados en terreno, quien observo cada sector, sectores foto interpretados, etc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eyenda Geológic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idades ordenadas Tempor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Muestra la simbología de cada unidad y su símbol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Breve descripción de la unid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1374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na 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proyección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s el proceso de transformar las coordenadas geográficas del esferoide a coordenadas planas para representarlo en dos dimensiones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x=f(lat,long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y=f(lat,long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proyección implica siempre una distorsió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propiedades del elipsoide que pueden mantenerse son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onformidad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os ángulos que dos líneas forman en la superficie terrestre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Equivalenci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as superfici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Equidistanci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as distanci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 forma de clasificar las proyecciones es con referencia a la figura geométrica que genera el plano bidimensional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ilíndrica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ónica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acimutale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distorsiones son nulas en la linea donde la figura corta al elipsoide y aumentan con la distancia a esta. Para minimizar el error medio suelen utilizarse planos secantes en lugar de planos tangent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0661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23:29:57Z</dcterms:created>
  <dc:creator>andrés</dc:creator>
  <dc:description/>
  <dc:language>en-US</dc:language>
  <cp:lastModifiedBy>Delorto III</cp:lastModifiedBy>
  <dcterms:modified xsi:type="dcterms:W3CDTF">2006-08-18T03:56:39Z</dcterms:modified>
  <cp:revision>14</cp:revision>
  <dc:subject/>
  <dc:title>Proyección Geográf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