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24.png" ContentType="image/png"/>
  <Override PartName="/ppt/media/image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14.jpeg" ContentType="image/jpe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1.jpeg" ContentType="image/jpe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A2A0-3E1A-42B2-8703-490748B7D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BE37-9770-4717-9031-913E78F08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EF33-BA14-44B8-A0AE-E00C204C7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B576-0B2F-4293-9436-E4F973D57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B2359-9831-4AEF-A64B-A576FFD0B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E2FBE-9EFA-457E-8AB5-319A6E8BA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270D5-E4AB-4ADF-95C7-6F7C53C6F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76E1A-33DA-4B0E-BFED-1294A12B3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A06E9-DD0C-4533-BE69-ED5E1B22A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52C31-D04B-48AF-972B-443F62BEE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467BC-2A98-4A93-A75D-4215C506A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9E8B-296D-49B7-9A05-43EE03FC5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8DE0C-2267-4BBF-9A10-107094CA7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BA51A-9C5E-4931-83BB-1033A3D8D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FB3BE-030E-425B-A6E3-60B26BE0B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2A242-E670-4F42-B58F-1380A0F32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9182D-3052-4A50-83AE-980661CF5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207B-096D-4858-94F7-322AA8334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1405-5221-4DC0-9DE4-DF8CA3A30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B36F-72EB-4CFC-A9FF-09CB36501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79AD-CD30-4B9E-8182-0B1388F6F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B5F4-C9C2-4A3F-9FE9-136CF8B9A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B93E-9B83-4665-98ED-3E3E51DAC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7384-562D-417D-8627-0B60644DF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97BBA-A721-4CC3-8244-518E144B3C2B}" type="slidenum"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75CE0-137C-406B-9454-8B776F2B7248}" type="slidenum"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0.png"/><Relationship Id="rId7" Type="http://schemas.openxmlformats.org/officeDocument/2006/relationships/slideLayout" Target="../slideLayouts/slideLayout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ccecff"/>
                </a:solidFill>
                <a:latin typeface="Arial"/>
              </a:rPr>
              <a:t>Proyección Geográfica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395280" y="1773360"/>
            <a:ext cx="3600360" cy="185868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645080" y="1839960"/>
            <a:ext cx="4037040" cy="168912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3"/>
          <a:stretch/>
        </p:blipFill>
        <p:spPr>
          <a:xfrm>
            <a:off x="395280" y="4111560"/>
            <a:ext cx="3529080" cy="197028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4"/>
          <a:stretch/>
        </p:blipFill>
        <p:spPr>
          <a:xfrm>
            <a:off x="4645080" y="4041720"/>
            <a:ext cx="4037040" cy="193356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811440" y="3592440"/>
            <a:ext cx="14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Arial"/>
              </a:rPr>
              <a:t>Equidistante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902160" y="6093000"/>
            <a:ext cx="10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Arial"/>
              </a:rPr>
              <a:t>Mercator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562000" y="352116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Arial"/>
              </a:rPr>
              <a:t>Lambert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50720" y="5969160"/>
            <a:ext cx="7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Arial"/>
              </a:rPr>
              <a:t>Polar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9" name=""/>
          <p:cNvGraphicFramePr/>
          <p:nvPr/>
        </p:nvGraphicFramePr>
        <p:xfrm>
          <a:off x="0" y="90360"/>
          <a:ext cx="9144000" cy="665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0360"/>
                    <a:ext cx="9144000" cy="665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Proyección de Mercato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La proyección mas utilizada en Chile es la proyección Universal Transversa de Mercator (UTM)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"/>
              </a:rPr>
              <a:t>Ideal para escalas grandes ( Mayores a 1:250.000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"/>
              </a:rPr>
              <a:t>Conserva los ángulos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"/>
              </a:rPr>
              <a:t>Distorsiona todas las superficies sobre los objetos originales así como las distancias existentes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"/>
              </a:rPr>
              <a:t>Se mide la distancia en metros con respecto a dos líneas perpendiculares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Coordenadas UT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4427640" y="2060640"/>
          <a:ext cx="4537080" cy="345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7640" y="2060640"/>
                    <a:ext cx="4537080" cy="34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6" name=""/>
          <p:cNvGraphicFramePr/>
          <p:nvPr/>
        </p:nvGraphicFramePr>
        <p:xfrm>
          <a:off x="900000" y="1413000"/>
          <a:ext cx="2880000" cy="4895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00000" y="1413000"/>
                    <a:ext cx="2880000" cy="48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Coordenadas UT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5760" y="1598400"/>
            <a:ext cx="836424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Se trata de una proyección cilíndrica en la que la Tierra se divide en 60 husos con un ancho de 6 grados de longitud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Las distorsiones son nulas en los lados y aumentan hacia el meridiano central (es por tanto una proyección secante), especialmente cuando se incremente la latitud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La proyección UTM no debe usarse en latitudes altas y suele reemplazarse por proyecciones azimutales polares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El meridiano central tiene siempre un valor X= 500.000 metros y en el Ecuador Y=0 metros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755640" y="981000"/>
            <a:ext cx="7704000" cy="40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142920" y="836640"/>
            <a:ext cx="8893080" cy="506268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2700360" y="1125360"/>
            <a:ext cx="287280" cy="3816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8028000" y="2997360"/>
            <a:ext cx="792000" cy="28728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826920" y="239760"/>
            <a:ext cx="777744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142920" y="907920"/>
            <a:ext cx="8893080" cy="51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Coordenadas UT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437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Ejemplo coordenad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Este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340.000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(6 Dígitos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Norte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6.123.580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(7 Dígitos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Huso  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19 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Zona 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H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Datum 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SAD 69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eaeaea"/>
                </a:solidFill>
                <a:latin typeface="Arial"/>
              </a:rPr>
              <a:t>Geodesia</a:t>
            </a:r>
            <a:r>
              <a:rPr b="0" lang="es-ES" sz="2000" spc="-1" strike="noStrike">
                <a:solidFill>
                  <a:srgbClr val="eaeaea"/>
                </a:solidFill>
                <a:latin typeface="Arial"/>
              </a:rPr>
              <a:t> es la ciencia que estudia la forma y tamaño de la Tierra y las posiciones sobre la misma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eaeaea"/>
                </a:solidFill>
                <a:latin typeface="Arial"/>
              </a:rPr>
              <a:t>Geoide</a:t>
            </a:r>
            <a:r>
              <a:rPr b="0" lang="es-ES" sz="2000" spc="-1" strike="noStrike">
                <a:solidFill>
                  <a:srgbClr val="eaeaea"/>
                </a:solidFill>
                <a:latin typeface="Arial"/>
              </a:rPr>
              <a:t> es una superficie en la que todos sus puntos experimentan la misma atracción gravitatoria siendo esta equivalente a la experimentada al nivel del mar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Arial"/>
              </a:rPr>
              <a:t>La forma del Geoide puede aproximarse utilizando diferentes </a:t>
            </a:r>
            <a:r>
              <a:rPr b="1" lang="es-ES" sz="2000" spc="-1" strike="noStrike">
                <a:solidFill>
                  <a:srgbClr val="eaeaea"/>
                </a:solidFill>
                <a:latin typeface="Arial"/>
              </a:rPr>
              <a:t>elipsoides</a:t>
            </a:r>
            <a:r>
              <a:rPr b="0" lang="es-ES" sz="2000" spc="-1" strike="noStrike">
                <a:solidFill>
                  <a:srgbClr val="eaeaea"/>
                </a:solidFill>
                <a:latin typeface="Arial"/>
              </a:rPr>
              <a:t> o </a:t>
            </a:r>
            <a:r>
              <a:rPr b="1" lang="es-ES" sz="2000" spc="-1" strike="noStrike">
                <a:solidFill>
                  <a:srgbClr val="eaeaea"/>
                </a:solidFill>
                <a:latin typeface="Arial"/>
              </a:rPr>
              <a:t>esferoides</a:t>
            </a:r>
            <a:r>
              <a:rPr b="0" lang="es-ES" sz="2000" spc="-1" strike="noStrike">
                <a:solidFill>
                  <a:srgbClr val="eaeaea"/>
                </a:solidFill>
                <a:latin typeface="Arial"/>
              </a:rPr>
              <a:t> que resultan de la revolución de una elipse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4859280" y="3933720"/>
            <a:ext cx="3019320" cy="221004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4859280" y="1557360"/>
            <a:ext cx="2952720" cy="22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324000" y="285840"/>
            <a:ext cx="8424720" cy="62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208720" cy="62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250920" y="171360"/>
            <a:ext cx="8497800" cy="64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0" y="154080"/>
            <a:ext cx="9144000" cy="65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ccecff"/>
                </a:solidFill>
                <a:latin typeface="Arial"/>
              </a:rPr>
              <a:t>Mapa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5400" y="1598400"/>
            <a:ext cx="8148600" cy="24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Una mapa geológico no es solo un dibujo. Debe tener información suficiente para que sea entendible con SOLO ver el mapa, sin necesidad de ver el text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2050920" y="3429000"/>
            <a:ext cx="5329440" cy="32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Dibujo del Map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Contacto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Unidades y Formacion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Cronologí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Uso de Colores  y simbologí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Dibujo del Map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Contacto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Linea continua contacto observad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Linea discontinua contacto inferid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Consistentes los rumbos y manteos con la topografia (=&gt; REGLA DE LAS V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Regla de las V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99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Estratos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Horizonta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Estratos Vertica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4213080" y="1630440"/>
            <a:ext cx="1847880" cy="167616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4211640" y="3645000"/>
            <a:ext cx="1847880" cy="167616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3"/>
          <a:stretch/>
        </p:blipFill>
        <p:spPr>
          <a:xfrm>
            <a:off x="6443640" y="3645000"/>
            <a:ext cx="1387440" cy="165564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4"/>
          <a:stretch/>
        </p:blipFill>
        <p:spPr>
          <a:xfrm>
            <a:off x="6372360" y="1627200"/>
            <a:ext cx="1334880" cy="16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Regla de las V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99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Manteo contra la Pendient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Manteo a favor de la Pendiente (ángulo menor que la pendient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6659640" y="4221000"/>
            <a:ext cx="1385640" cy="165600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2"/>
          <a:stretch/>
        </p:blipFill>
        <p:spPr>
          <a:xfrm>
            <a:off x="4427640" y="1628640"/>
            <a:ext cx="1847880" cy="167652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3"/>
          <a:stretch/>
        </p:blipFill>
        <p:spPr>
          <a:xfrm>
            <a:off x="4427640" y="4200480"/>
            <a:ext cx="1847880" cy="167652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4"/>
          <a:stretch/>
        </p:blipFill>
        <p:spPr>
          <a:xfrm>
            <a:off x="6640560" y="1627200"/>
            <a:ext cx="138744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Para cualquier tipo de coordenadas deben cumplirse las siguientes regla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Que el Punto sea ÚNIC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Que quede perfectamente identificado el sistema de proyección empleado para localizar el punt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Que permita referenciar la coordenada “Z” del punt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Regla de las V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99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Manteo a favor de la pendiente (ángulo mayor que la pendient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6804000" y="1773360"/>
            <a:ext cx="1276200" cy="152388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2"/>
          <a:stretch/>
        </p:blipFill>
        <p:spPr>
          <a:xfrm>
            <a:off x="4500720" y="1700280"/>
            <a:ext cx="184752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40720" cy="689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Dibujo del Map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Unidades y Formacion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eaeaea"/>
                </a:solidFill>
                <a:latin typeface="Arial"/>
              </a:rPr>
              <a:t>Juntar varios cuerpos iguales a un cuerpo grande</a:t>
            </a:r>
            <a:r>
              <a:rPr b="0" lang="es-CL" sz="24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eaeaea"/>
                </a:solidFill>
                <a:latin typeface="Arial"/>
              </a:rPr>
              <a:t>Estratos: Juntar varios estratos parecidos para una unidad o formación</a:t>
            </a:r>
            <a:r>
              <a:rPr b="0" lang="es-CL" sz="24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eaeaea"/>
                </a:solidFill>
                <a:latin typeface="Arial"/>
              </a:rPr>
              <a:t>No dibujar el cuerpo</a:t>
            </a:r>
            <a:r>
              <a:rPr b="0" lang="es-CL" sz="24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TODO LO ANTERIOR ES FUNCION DE LA ESCALA Y CALIDAD DE LA INFORMAC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Dibujo del Map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1763640" y="1628640"/>
          <a:ext cx="5689800" cy="170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1628640"/>
                    <a:ext cx="5689800" cy="170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3" name=""/>
          <p:cNvSpPr/>
          <p:nvPr/>
        </p:nvSpPr>
        <p:spPr>
          <a:xfrm>
            <a:off x="1051560" y="5516640"/>
            <a:ext cx="741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Arial"/>
              </a:rPr>
              <a:t>Varios cuerpos pequeños agrupados en un cuerpo mayor o destacado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Arial"/>
              </a:rPr>
              <a:t>como un conjunto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1835280" y="3716280"/>
          <a:ext cx="5689440" cy="1677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35280" y="3716280"/>
                    <a:ext cx="5689440" cy="167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Dibujo del Map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1979640" y="1557360"/>
          <a:ext cx="5832360" cy="170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1557360"/>
                    <a:ext cx="5832360" cy="170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9" name=""/>
          <p:cNvGraphicFramePr/>
          <p:nvPr/>
        </p:nvGraphicFramePr>
        <p:xfrm>
          <a:off x="2050920" y="3500280"/>
          <a:ext cx="5761080" cy="2162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50920" y="3500280"/>
                    <a:ext cx="5761080" cy="21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Dibujo del Map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1285920" y="2881440"/>
          <a:ext cx="6564240" cy="193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5920" y="2881440"/>
                    <a:ext cx="6564240" cy="19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Dibujo del Map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Cronologi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"/>
              </a:rPr>
              <a:t>Ser consistentes con los periodos de tiempo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612720" y="3141720"/>
          <a:ext cx="7559640" cy="344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2720" y="3141720"/>
                    <a:ext cx="7559640" cy="34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0" y="-7920"/>
            <a:ext cx="9540720" cy="689292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2484360" y="2421000"/>
            <a:ext cx="3456000" cy="4437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324000" y="4265640"/>
          <a:ext cx="4037040" cy="197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4265640"/>
                    <a:ext cx="4037040" cy="19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3" name=""/>
          <p:cNvGraphicFramePr/>
          <p:nvPr/>
        </p:nvGraphicFramePr>
        <p:xfrm>
          <a:off x="4643280" y="4221000"/>
          <a:ext cx="4037040" cy="2005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3280" y="4221000"/>
                    <a:ext cx="4037040" cy="20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5" name=""/>
          <p:cNvGraphicFramePr/>
          <p:nvPr/>
        </p:nvGraphicFramePr>
        <p:xfrm>
          <a:off x="1260360" y="404640"/>
          <a:ext cx="6480360" cy="3219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60360" y="404640"/>
                    <a:ext cx="6480360" cy="32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7" name=""/>
          <p:cNvSpPr/>
          <p:nvPr/>
        </p:nvSpPr>
        <p:spPr>
          <a:xfrm flipH="1">
            <a:off x="2771280" y="3645000"/>
            <a:ext cx="863640" cy="647640"/>
          </a:xfrm>
          <a:prstGeom prst="line">
            <a:avLst/>
          </a:prstGeom>
          <a:ln w="7632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416320" y="6308640"/>
            <a:ext cx="41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Arial"/>
              </a:rPr>
              <a:t>Ojo con la temporalidad de los evento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Dibujo de Mapas: Simbologí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Para mapas en blanco y negr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4859280" y="1916280"/>
            <a:ext cx="4037040" cy="1639800"/>
          </a:xfrm>
          <a:prstGeom prst="rect">
            <a:avLst/>
          </a:prstGeom>
          <a:ln w="0">
            <a:noFill/>
          </a:ln>
        </p:spPr>
      </p:pic>
      <p:pic>
        <p:nvPicPr>
          <p:cNvPr id="322" name="" descr=""/>
          <p:cNvPicPr/>
          <p:nvPr/>
        </p:nvPicPr>
        <p:blipFill>
          <a:blip r:embed="rId2"/>
          <a:stretch/>
        </p:blipFill>
        <p:spPr>
          <a:xfrm>
            <a:off x="4859280" y="4508640"/>
            <a:ext cx="4037040" cy="2122200"/>
          </a:xfrm>
          <a:prstGeom prst="rect">
            <a:avLst/>
          </a:prstGeom>
          <a:ln w="0">
            <a:noFill/>
          </a:ln>
        </p:spPr>
      </p:pic>
      <p:pic>
        <p:nvPicPr>
          <p:cNvPr id="323" name="" descr=""/>
          <p:cNvPicPr/>
          <p:nvPr/>
        </p:nvPicPr>
        <p:blipFill>
          <a:blip r:embed="rId3"/>
          <a:stretch/>
        </p:blipFill>
        <p:spPr>
          <a:xfrm>
            <a:off x="179280" y="2852640"/>
            <a:ext cx="443880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El sistema de coordenadas natural de un esferoide es el de latitud y longitud que suele denominarse </a:t>
            </a:r>
            <a:r>
              <a:rPr b="1" lang="es-ES" sz="2800" spc="-1" strike="noStrike">
                <a:solidFill>
                  <a:srgbClr val="eaeaea"/>
                </a:solidFill>
                <a:latin typeface="Arial"/>
              </a:rPr>
              <a:t>coordenadas geográficas</a:t>
            </a:r>
            <a:r>
              <a:rPr b="1" lang="es-ES" sz="28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La representación cartográfica de la Tierra (sea considerado como una esfera o un elipsoide) genera un problema: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NO ES POSIBLE REPRESENTAR TODA LA SUPERFICIE SIN DEFORMARLA E INCLUSO REPRESENTARLA FIELMENT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Las proyecciones se utilizan para minimizar las deformaciones al representar la superficie terrestre en un mapa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Dibujo de Mapas: Simbologí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Mapas en Col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eaeaea"/>
                </a:solidFill>
                <a:latin typeface="Arial"/>
              </a:rPr>
              <a:t>Esquema "época por color": Cada época tiene su color propia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eaeaea"/>
                </a:solidFill>
                <a:latin typeface="Arial"/>
              </a:rPr>
              <a:t>Esquema " litología y color": Cada roca tiene su color propia</a:t>
            </a:r>
            <a:r>
              <a:rPr b="0" lang="es-CL" sz="2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512760" y="2565360"/>
            <a:ext cx="262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Arial"/>
              </a:rPr>
              <a:t>Colores por época para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Arial"/>
              </a:rPr>
              <a:t>rocas sedimentarias y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Arial"/>
              </a:rPr>
              <a:t>volcánica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826920" y="620640"/>
          <a:ext cx="5262840" cy="576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620640"/>
                    <a:ext cx="5262840" cy="576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Colores por litologi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Rocas Intrusivas -&gt; Roj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Rocas Volcanicas -&gt; verd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Conglomerados -&gt; Naranjo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Calizas -&gt; azu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Rocas metámorficas -&gt; gris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Reglas básica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eaeaea"/>
                </a:solidFill>
                <a:latin typeface="Arial"/>
              </a:rPr>
              <a:t>Siempre amarillo claro exclusivamente para cuaternari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eaeaea"/>
                </a:solidFill>
                <a:latin typeface="Arial"/>
              </a:rPr>
              <a:t>Rojo solo para rocas intrusivas;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Construcción del Map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7920000" cy="48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Construcción del Map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Arial"/>
              </a:rPr>
              <a:t>Nombre del Mapa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Arial"/>
              </a:rPr>
              <a:t>Autores del Mapa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Arial"/>
              </a:rPr>
              <a:t>Escala: grafica y con palabra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Arial"/>
              </a:rPr>
              <a:t>Ubicación del Norte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Arial"/>
              </a:rPr>
              <a:t>Indicar Norte magnético y declinació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Arial"/>
              </a:rPr>
              <a:t>Tiene que llevar coordenada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Arial"/>
              </a:rPr>
              <a:t>Leyenda Geológica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Arial"/>
              </a:rPr>
              <a:t>Simbologia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Arial"/>
              </a:rPr>
              <a:t>Información acerca del tipo de proyección geográfica utilizada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Arial"/>
              </a:rPr>
              <a:t>Pequeño mapa con CALIDAD DE LA INFORMACION (sectores observados en terreno, quien observo cada sector, sectores foto interpretados, etc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Construcción del Map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Leyenda Geológic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Unidades ordenadas Temporalment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Muestra la simbología de cada unidad y su símbol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Breve descripción de la unida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611280" y="404640"/>
            <a:ext cx="8137440" cy="60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Una </a:t>
            </a:r>
            <a:r>
              <a:rPr b="1" lang="es-ES" sz="3200" spc="-1" strike="noStrike">
                <a:solidFill>
                  <a:srgbClr val="eaeaea"/>
                </a:solidFill>
                <a:latin typeface="Arial"/>
              </a:rPr>
              <a:t>proyección</a:t>
            </a: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 es el proceso de transformar las coordenadas geográficas del esferoide a coordenadas planas para representarlo en dos dimensiones: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x=f(lat,long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y=f(lat,long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La proyección implica siempre una distorsión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Las propiedades del elipsoide que pueden mantenerse son: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aeaea"/>
                </a:solidFill>
                <a:latin typeface="Arial"/>
              </a:rPr>
              <a:t>Conformidad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, la proyección mantiene los ángulos que dos líneas forman en la superficie terrestre,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aeaea"/>
                </a:solidFill>
                <a:latin typeface="Arial"/>
              </a:rPr>
              <a:t>Equivalencia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, la proyección mantiene las superficie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aeaea"/>
                </a:solidFill>
                <a:latin typeface="Arial"/>
              </a:rPr>
              <a:t>Equidistancia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, la proyección mantiene las distancia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Otra forma de clasificar las proyecciones es con referencia a la figura geométrica que genera el plano bidimensional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aeaea"/>
                </a:solidFill>
                <a:latin typeface="Arial"/>
              </a:rPr>
              <a:t>cilíndricas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aeaea"/>
                </a:solidFill>
                <a:latin typeface="Arial"/>
              </a:rPr>
              <a:t>cónicas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aeaea"/>
                </a:solidFill>
                <a:latin typeface="Arial"/>
              </a:rPr>
              <a:t>acimutales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Las distorsiones son nulas en la linea donde la figura corta al elipsoide y aumentan con la distancia a esta. Para minimizar el error medio suelen utilizarse planos secantes en lugar de planos tangentes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539640" y="1413000"/>
            <a:ext cx="806616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8T23:29:57Z</dcterms:created>
  <dc:creator>andrés</dc:creator>
  <dc:description/>
  <dc:language>en-US</dc:language>
  <cp:lastModifiedBy>Delorto III</cp:lastModifiedBy>
  <dcterms:modified xsi:type="dcterms:W3CDTF">2006-08-18T03:56:39Z</dcterms:modified>
  <cp:revision>14</cp:revision>
  <dc:subject/>
  <dc:title>Proyección Geográfic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