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526-2601-4D13-B2DC-5B8643BD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0819-9B62-410A-9314-2C067819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74B-C85F-44DC-AE68-6BDAF59D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7FB-6595-4CA1-A086-C37950ED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838A-5FF6-4590-9874-F8D21E99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AF30-637C-463F-B02B-B5894F8A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FD32-173A-4985-A14F-5C38AFF7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9FF3-21E5-45FC-AA36-63718783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C5A9-AA4D-4A1B-92D3-3D530507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25B6-3B2D-4F88-9644-3B09A203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5969-9A6B-4A62-8E72-B53AC3A8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AFEA-9AE7-4907-B1C8-D458BAEF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FA3E-A2AD-4938-979F-EB22F91E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4337-BCF8-4EB1-9C59-607F0B49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808A-8069-4ACE-91B3-96F63E19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D873-0A61-4933-AD88-8378BB4C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5A71-70E7-4555-BEDD-6693195A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DFB9-7708-4888-AF2D-BAA682ED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A5E8-AF89-46B0-8EB2-841822C5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EEBD-E4EB-454D-968F-8369975F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B46-1115-48E8-B3C2-05AEF3C2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A272-D6D2-4E67-A3B8-D1308015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AB1A-D692-4068-92D6-E97E2C32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52B-28CA-42A0-8FB2-CBB72C1D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87A1-DEA4-45A8-BCCA-7CE79D22F45B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C5FA-E566-4EB5-997E-7B3CF1CF922A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Proyección Geográfic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600360" cy="1858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5080" y="1839960"/>
            <a:ext cx="4037040" cy="1689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95280" y="4111560"/>
            <a:ext cx="3529080" cy="1970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645080" y="4041720"/>
            <a:ext cx="4037040" cy="1933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11440" y="35924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Equidistant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2160" y="609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Mercato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000" y="3521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Lamber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50720" y="59691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0" y="90360"/>
          <a:ext cx="9144000" cy="66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360"/>
                    <a:ext cx="9144000" cy="66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Proyección de Merca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a proyección mas utilizada en Chile es la proyección Universal Transversa de Mercator (UTM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Ideal para escalas grandes ( Mayores a 1:250.000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onserva los ángul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Distorsiona todas las superficies sobre los objetos originales así como las distancias existent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 mide la distancia en metros con respecto a dos líneas perpendicular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427640" y="2060640"/>
          <a:ext cx="453708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060640"/>
                    <a:ext cx="45370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900000" y="1413000"/>
          <a:ext cx="2880000" cy="48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1413000"/>
                    <a:ext cx="288000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3642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e trata de una proyección cilíndrica en la que la Tierra se divide en 60 husos con un ancho de 6 grados de long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os lados y aumentan hacia el meridiano central (es por tanto una proyección secante), especialmente cuando se incremente la lat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UTM no debe usarse en latitudes altas y suele reemplazarse por proyecciones azimutales polar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meridiano central tiene siempre un valor X= 500.000 metros y en el Ecuador Y=0 metro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04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2920" y="836640"/>
            <a:ext cx="8893080" cy="5062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700360" y="1125360"/>
            <a:ext cx="287280" cy="381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028000" y="2997360"/>
            <a:ext cx="79200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26920" y="239760"/>
            <a:ext cx="7777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2920" y="907920"/>
            <a:ext cx="8893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437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jemplo coordena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Es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340.00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6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or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6.123.58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7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uso 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19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Zona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atum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SAD 69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desia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la ciencia que estudia la forma y tamaño de la Tierra y las posiciones sobre la misma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ide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una superficie en la que todos sus puntos experimentan la misma atracción gravitatoria siendo esta equivalente a la experimentada al nivel del mar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La forma del Geoide puede aproximarse utilizando diferentes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lips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o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sfer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que resultan de la revolución de una elips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59280" y="3933720"/>
            <a:ext cx="3019320" cy="2210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29527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42472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0872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0920" y="171360"/>
            <a:ext cx="849780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15408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Map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14860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a mapa geológico no es solo un dibujo. Debe tener información suficiente para que sea entendible con SOLO ver el mapa, sin necesidad de ver el tex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050920" y="3429000"/>
            <a:ext cx="53294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ron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so de Colores  y simb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continua contacto observa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discontinua contacto infer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sistentes los rumbos y manteos con la topografia (=&gt; REGLA DE LAS V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orizont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Vertic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213080" y="163044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443640" y="3645000"/>
            <a:ext cx="1387440" cy="165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372360" y="1627200"/>
            <a:ext cx="13348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contra la Pendi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en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1385640" cy="1656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427640" y="420048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640560" y="1627200"/>
            <a:ext cx="1387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ara cualquier tipo de coordenadas deben cumplirse las siguientes regl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el Punto sea ÚNIC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quede perfectamente identificado el sistema de proyección empleado para localizar 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permita referenciar la coordenada “Z” d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ay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04000" y="1773360"/>
            <a:ext cx="1276200" cy="15238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1847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Juntar varios cuerpos iguales a un cuerpo grande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Estratos: Juntar varios estratos parecidos para una unidad o formación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No dibujar el cuerpo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TODO LO ANTERIOR ES FUNCION DE LA ESCALA Y CALIDAD DE LA INFORMAC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63640" y="1628640"/>
          <a:ext cx="568980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568980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1051560" y="5516640"/>
            <a:ext cx="74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arios cuerpos pequeños agrupados en un cuerpo mayor o destacad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mo un conjun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835280" y="3716280"/>
          <a:ext cx="5689440" cy="16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716280"/>
                    <a:ext cx="568944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979640" y="1557360"/>
          <a:ext cx="583236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83236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2050920" y="3500280"/>
          <a:ext cx="5761080" cy="21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500280"/>
                    <a:ext cx="576108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285920" y="2881440"/>
          <a:ext cx="6564240" cy="19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881440"/>
                    <a:ext cx="656424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ronolog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r consistentes con los periodos de tiemp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12720" y="3141720"/>
          <a:ext cx="755964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3141720"/>
                    <a:ext cx="755964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540720" cy="6892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484360" y="2421000"/>
            <a:ext cx="3456000" cy="443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24000" y="4265640"/>
          <a:ext cx="403704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265640"/>
                    <a:ext cx="40370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4643280" y="4221000"/>
          <a:ext cx="4037040" cy="20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221000"/>
                    <a:ext cx="40370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260360" y="404640"/>
          <a:ext cx="6480360" cy="321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60360" y="404640"/>
                    <a:ext cx="648036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 flipH="1">
            <a:off x="2771280" y="3645000"/>
            <a:ext cx="863640" cy="64764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416320" y="63086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Ojo con la temporalidad de los event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ara mapas en blanco y neg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037040" cy="16398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859280" y="4508640"/>
            <a:ext cx="4037040" cy="2122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179280" y="2852640"/>
            <a:ext cx="44388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sistema de coordenadas natural de un esferoide es el de latitud y longitud que suele denominarse 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coordenadas geográficas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representación cartográfica de la Tierra (sea considerado como una esfera o un elipsoide) genera un problema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NO ES POSIBLE REPRESENTAR TODA LA SUPERFICIE SIN DEFORMARLA E INCLUSO REPRESENTARLA FIELMEN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yecciones se utilizan para minimizar las deformaciones al representar la superficie terrestre en un mapa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pas en Col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época por color": Cada época tiene su color propi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 litología y color": Cada roca tiene su color propia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12760" y="2565360"/>
            <a:ext cx="26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lores por época par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rocas sedimentarias 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olcánica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826920" y="620640"/>
          <a:ext cx="526284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20640"/>
                    <a:ext cx="52628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lores por litolog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Intrusivas -&gt; Roj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Volcanicas -&gt; verd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glomerados -&gt; Naranj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alizas -&gt; azu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metámorficas -&gt; gri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Reglas básic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Siempre amarillo claro exclusivamente para cuaternar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Rojo solo para rocas intrusivas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920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Nombre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Autores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Escala: grafica y con palabr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Ubicación del Norte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dicar Norte magnético y declin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Tiene que llevar coordenad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Simbologi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formación acerca del tipo de proyección geográfica utiliza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Pequeño mapa con CALIDAD DE LA INFORMACION (sectores observados en terreno, quien observo cada sector, sectores foto interpretados, et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ordenadas Tempor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Muestra la simbología de cada unidad y su símbol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Breve descripción de la uni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37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na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proyección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s el proceso de transformar las coordenadas geográficas del esferoide a coordenadas planas para representarlo en dos dimensiones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x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y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implica siempre una distorsió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piedades del elipsoide que pueden mantenerse son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onformidad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os ángulos que dos líneas forman en la superficie terrestre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vale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superfici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dista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distanci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 forma de clasificar las proyecciones es con referencia a la figura geométrica que genera el plano bidimensiona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ilíndr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ón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acimutale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a linea donde la figura corta al elipsoide y aumentan con la distancia a esta. Para minimizar el error medio suelen utilizarse planos secantes en lugar de planos tangent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661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3:29:57Z</dcterms:created>
  <dc:creator>andrés</dc:creator>
  <dc:description/>
  <dc:language>en-US</dc:language>
  <cp:lastModifiedBy>Delorto III</cp:lastModifiedBy>
  <dcterms:modified xsi:type="dcterms:W3CDTF">2006-08-18T03:56:39Z</dcterms:modified>
  <cp:revision>14</cp:revision>
  <dc:subject/>
  <dc:title>Proyección Geográ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