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4B9-762B-422F-8DC3-18BD4231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8AE-D20D-49FF-B1BC-8D437A5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D89-DC84-473E-B08F-1A4F8C98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CC5-B32D-4AE0-9BB8-DB663D0D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2D4C-488A-4196-90AD-1428036F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93EC-DAA4-4CFC-BEAF-59A0AC9B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A1B5-8E0A-460E-8EE4-F4A2BDC4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4D68-6C88-4A70-879D-F6F0F41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0C84-ABB9-4423-BC7D-D5787FA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3889-81DC-4875-8987-6BF3D7EE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78D2-0CB1-4850-925B-3B15EFC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A85-1E61-4628-A3EC-0EC64A23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D5AD-0BF5-460A-AAB1-FF6AE9C8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3599-AC12-4537-86B4-404C0EC7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89C8-7192-469C-A52A-4A4AC293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7D7-F19A-4C61-BEC7-FE52ECF7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370B-D51D-415E-AA4A-264563A6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4DC-CA97-4254-99A2-710D4F7B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E9D-6DE1-455B-BB0B-838843A5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A92-4800-4952-A497-E8E9D189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88E-DD8E-429F-AEB2-3931C918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0B2-D9D9-4E9F-B8CC-DEBBC98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FCE-9E84-4E6F-804A-B726B0A9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7EA-EF1C-416D-A597-05FC1231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D6C3-D9B7-4738-B4C7-0D6114CD810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F4D4-0D4F-4CCA-A53E-4F3FB860D56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27640" y="2060640"/>
          <a:ext cx="45370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4537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900000" y="1413000"/>
          <a:ext cx="2880000" cy="48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413000"/>
                    <a:ext cx="28800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 ancho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28000" y="2997360"/>
            <a:ext cx="79200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71360"/>
            <a:ext cx="8497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ó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Ú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Delorto III</cp:lastModifiedBy>
  <dcterms:modified xsi:type="dcterms:W3CDTF">2006-08-18T03:56:39Z</dcterms:modified>
  <cp:revision>14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