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9F2-99C3-45A5-80F5-E09476C2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BF6-4646-47E2-9D36-F10B22A1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1FC-52EF-4F5B-BAF2-CF06AD2C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0B2-9532-431B-B743-121A862D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E35C-28E9-4CDD-ABE1-B67F250E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9821-7604-49A0-8168-FE6314B3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58D7-61D7-4EA6-8690-1B0977B2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714F-02E3-4329-A29E-C57562D0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23D3-078E-4A2B-8BB7-47AE2586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A58F-0A7C-43FC-9190-80E0515C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8150-155B-4E11-B271-029C7ED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85D-5000-4573-BDC5-076FF83F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FE6A-E475-406E-B917-5096BBC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551-AE13-44C8-BBF1-8348DD5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BE4C-BDA9-4FF1-8181-2C83A1ED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A212-BEBB-4B85-AC7B-EB2A713A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EC93-33DD-40F9-9267-6E0ADA4B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3FB-1F8C-4D48-92E5-301056AF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563-73DA-4654-A1DA-C2D458EF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30C-9481-4F02-9ADE-FA7604D9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929-852C-4A40-A308-6362A1EF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12E-9ACC-4AE5-A539-C5E23789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A0D-58DB-404E-88CA-C9B68DE7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894-A5C8-4B9C-9B37-505F8807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E83B-C2F2-4FF1-AA3F-395A8A437DBC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8D32-4163-4733-9C12-F509F7FD30E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27640" y="2060640"/>
          <a:ext cx="45370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4537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900000" y="1413000"/>
          <a:ext cx="2880000" cy="48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413000"/>
                    <a:ext cx="28800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 ancho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28000" y="2997360"/>
            <a:ext cx="79200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71360"/>
            <a:ext cx="8497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ó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Ú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Delorto III</cp:lastModifiedBy>
  <dcterms:modified xsi:type="dcterms:W3CDTF">2006-08-18T03:56:39Z</dcterms:modified>
  <cp:revision>14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