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938-0EF2-41AA-BD4E-D88286F3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FD2-7CD6-4ECE-A75D-A1BDC1FC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A7D-55A1-4952-BEC1-A5A769EE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B0C-233A-47AF-8947-2FDC0CB5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F09-8719-4F3D-849B-6CABEC94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563-797A-4624-8B08-6E8185F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FEF-D58B-46B6-A04F-428DC336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D12-A178-4EE7-BA59-1D066400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EE1-827D-4CDF-82E3-ED51CD3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8F5-C4B1-4208-B323-7861D9B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4B8-A03F-43F2-9280-7DA3876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02C-289E-4AE1-8FE0-4CC5E52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C99D-3EFF-45D1-A6EF-7C358B0440F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74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83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9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0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1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4041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13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14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16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17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0E/40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13640" y="2421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19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 (Pla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86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 Trazar línea en la proyección horizontal según dirección del rumbo 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 Trazar L1-T1 perpendicular a P (al ru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3. Trazar desde intersección W-E con L1-T1 línea perpendicular a L1-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 Medir manteo desde L1-T1hasta cortar la línea trazada 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Copiar la distancia d en una recta perpendicular a W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 Unir intersección de W-E y P con extremo de la línea trazada e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&gt;&gt;  P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edir manteo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4326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I (E,T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ctas: AB: N28E/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D: N48W/3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ar rectas en un depurado con LT de dirección  N-S, de manera que las rectas se intersec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r rumbo y buzamiento real de l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buzamiento aparente de las re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149720"/>
            <a:ext cx="4392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124000" y="2060640"/>
            <a:ext cx="439272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080" y="352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68360" y="2708280"/>
            <a:ext cx="57492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6520" y="3524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4880" y="281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o perpendicular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360" y="28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9040" y="2080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ecta correspondiente al buzamiento aparente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68360" y="2421000"/>
            <a:ext cx="417528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160" y="28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9280" y="4149720"/>
            <a:ext cx="3673440" cy="2303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59280" y="1052640"/>
            <a:ext cx="309708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3272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9280" y="41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59280" y="2060280"/>
            <a:ext cx="3673440" cy="2089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8880" y="2080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 de la otra rec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080" y="2811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interseccio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7672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29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1989000"/>
            <a:ext cx="5184720" cy="215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9079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1109520"/>
          <a:ext cx="648036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09520"/>
                    <a:ext cx="648036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a los pl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N30W/2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N25E/5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P y Q en un depurado con LT en dirección E-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la recta formada por la intersección de ambos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rumbo y buzamiento real de esta 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4560" y="1979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Ahora plan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22100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9640" y="5684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280" y="56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221000"/>
            <a:ext cx="273672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0160" y="4968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 al rumbo (L1-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04128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62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1341000"/>
            <a:ext cx="151272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92720" y="3357720"/>
            <a:ext cx="100800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9600" y="42372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arla perpendicular 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00720" y="278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3400" y="549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ar línea correspondiente al 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2492280"/>
            <a:ext cx="51134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6880" y="5493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ismo para otr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79640" y="4221000"/>
            <a:ext cx="1512720" cy="23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1844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2708280"/>
            <a:ext cx="5112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4360" y="2060280"/>
            <a:ext cx="3672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24360" y="2421000"/>
            <a:ext cx="935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724360" y="234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92360" y="1197000"/>
            <a:ext cx="3600720" cy="3024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87640" y="422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87640" y="3357720"/>
            <a:ext cx="158436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87640" y="4220640"/>
            <a:ext cx="151308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60" y="3333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rumbo y buzamiento aparente de la línea de intersección entre ambos pl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o buzamiento real para la recta de intersec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oceso inverso para calcular buzamiento aparente para rect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6200" y="5396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7490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zamiento real de la línea de intersección entre los pla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600200"/>
          <a:ext cx="71265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00200"/>
                    <a:ext cx="712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el manteo aparente en una LT con dirección N-S de un plano N28W/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ones Ester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ción de softwar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aplico el uso de redes estereográficas cuando tengo datos de muchas medidas de rumbo y mant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 (Clase 3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gresar datos en tabla en el formato correspondi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20640"/>
            <a:ext cx="7777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….(trabajo en clases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Para la parte de DIPS en la tarea plotee los polos en una red equiareal con proyección en el hemisferio inferior y seleccionar la opción de visualización en escala de gr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Luego trace las ventanas correspondientes a los sets mas importantes y trace los planos que corresponden a esas estructuras con sus correspondientes datos de rumbo y manteo (compárelos con los obtenidos en la parte 2 de la tarea en que usted traza estos planos “a man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*en la tarea debe incluir las figuras correspondientes a cada paso (solo polos, acumulación de polos (%), ventanas y pl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&gt;export image file (copy-paste a la 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7:13:14Z</dcterms:created>
  <dc:creator>pamela</dc:creator>
  <dc:description/>
  <dc:language>en-US</dc:language>
  <cp:lastModifiedBy>pamela</cp:lastModifiedBy>
  <dcterms:modified xsi:type="dcterms:W3CDTF">2006-09-01T17:41:56Z</dcterms:modified>
  <cp:revision>22</cp:revision>
  <dc:subject/>
  <dc:title>Geología Estructural</dc:title>
</cp:coreProperties>
</file>