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2.png" ContentType="image/png"/>
  <Override PartName="/ppt/media/image5.gif" ContentType="image/gif"/>
  <Override PartName="/ppt/media/image14.jpeg" ContentType="image/jpeg"/>
  <Override PartName="/ppt/media/image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F1D-46CC-4317-9ABB-FCEB292A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893-4635-4DD7-A95C-BF0AA185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F86-390D-4FF9-88C6-72721144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078-0433-4441-AE77-A7768B6F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513-8C3D-4D7B-9C76-90FA9D49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EA4-2959-450F-B4C1-C6E1B692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009-B6AB-4B78-8989-9BB1E219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CD6-AE51-461E-AA39-38F99284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3B2-A6CD-4C49-A5C9-EDB90637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724-EBBC-4C16-AFDB-FB72AF09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799-EE11-4483-89B0-D0C9132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BC0-89F7-42F7-9BBE-0FBA726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B19B-EFCD-45A9-9618-391C23B98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74170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5596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ementos fundamentales: 2 planos de Proyección,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84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07280" y="59500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ta de intersección: Línea de Tierra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88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95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98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04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07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08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770920" y="2276640"/>
            <a:ext cx="1009080" cy="1082520"/>
            <a:chOff x="2770920" y="2276640"/>
            <a:chExt cx="1009080" cy="1082520"/>
          </a:xfrm>
        </p:grpSpPr>
        <p:sp>
          <p:nvSpPr>
            <p:cNvPr id="114" name=""/>
            <p:cNvSpPr/>
            <p:nvPr/>
          </p:nvSpPr>
          <p:spPr>
            <a:xfrm>
              <a:off x="3276720" y="29908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70920" y="2276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17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20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32000" y="2637000"/>
            <a:ext cx="2086920" cy="2015640"/>
            <a:chOff x="1332000" y="2637000"/>
            <a:chExt cx="2086920" cy="2015640"/>
          </a:xfrm>
        </p:grpSpPr>
        <p:sp>
          <p:nvSpPr>
            <p:cNvPr id="125" name=""/>
            <p:cNvSpPr/>
            <p:nvPr/>
          </p:nvSpPr>
          <p:spPr>
            <a:xfrm>
              <a:off x="1403280" y="36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2000" y="3573360"/>
              <a:ext cx="14436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5080" y="3357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10800000">
              <a:off x="1403640" y="2636640"/>
              <a:ext cx="201528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11280" y="1916280"/>
            <a:ext cx="129672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149720"/>
            <a:ext cx="12970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 (E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46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155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880" y="573408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 mejor es usar colores para rectas y planos Aux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7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8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9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1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22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24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25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280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289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paralelas o cor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rtan están en la misma línea de 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03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09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5219640" y="2565000"/>
            <a:ext cx="3241800" cy="2519640"/>
            <a:chOff x="5219640" y="2565000"/>
            <a:chExt cx="3241800" cy="2519640"/>
          </a:xfrm>
        </p:grpSpPr>
        <p:sp>
          <p:nvSpPr>
            <p:cNvPr id="317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80000" y="4149720"/>
              <a:ext cx="2521080" cy="9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219640" y="2565000"/>
              <a:ext cx="2665440" cy="1584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292720" y="4076280"/>
              <a:ext cx="316872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88000" y="3357720"/>
              <a:ext cx="0" cy="1223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da una recta AB y un punto C fuera de ella trazar una recta horizontal que pase por C y se apoye en la 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09880" cy="5256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5364000" y="2420640"/>
            <a:ext cx="136872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364000" y="4005360"/>
            <a:ext cx="1368720" cy="620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96360" y="2924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2720" y="2421000"/>
            <a:ext cx="0" cy="158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64000" y="4005360"/>
            <a:ext cx="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997360"/>
            <a:ext cx="0" cy="158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11120" y="20034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28040" y="39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50160" y="3638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17840" y="465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3360" y="2630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148360" y="2997360"/>
            <a:ext cx="34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5363640" y="4005000"/>
            <a:ext cx="2737080" cy="71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27640" y="2995560"/>
            <a:ext cx="0" cy="1225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da dos rectas AB y CD que se cruzan determinar una recta horizontal de cota Z que se apoye en las rectas d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81360" cy="5112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580000" y="2637000"/>
            <a:ext cx="2521080" cy="129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80000" y="3933720"/>
            <a:ext cx="2521080" cy="9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219640" y="2637000"/>
            <a:ext cx="2160720" cy="1296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64000" y="3933360"/>
            <a:ext cx="2160720" cy="863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14172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 elementos del espacio en un pl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ir el concepto de estría - li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resumo/entrego los datos de muchas medidas de rumbo y mante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677960" y="1600200"/>
            <a:ext cx="578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581120" y="1600200"/>
            <a:ext cx="598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próxima cla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13840" y="1500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360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e el buzamiento aparente de la recta N30W/55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65000"/>
            <a:ext cx="4038480" cy="435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077840"/>
            <a:ext cx="4038480" cy="3863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ear todos los datos en la red de schmidt como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622764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1:43:53Z</dcterms:created>
  <dc:creator>pamela</dc:creator>
  <dc:description/>
  <dc:language>en-US</dc:language>
  <cp:lastModifiedBy>pamela</cp:lastModifiedBy>
  <dcterms:modified xsi:type="dcterms:W3CDTF">2006-08-30T15:57:10Z</dcterms:modified>
  <cp:revision>13</cp:revision>
  <dc:subject/>
  <dc:title>Diapositiva 1</dc:title>
</cp:coreProperties>
</file>