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9.png" ContentType="image/png"/>
  <Override PartName="/ppt/media/image2.png" ContentType="image/png"/>
  <Override PartName="/ppt/media/image5.gif" ContentType="image/gif"/>
  <Override PartName="/ppt/media/image14.jpeg" ContentType="image/jpeg"/>
  <Override PartName="/ppt/media/image3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EDA-6B63-4775-9326-4FAFD5F7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0E7-77FD-4A36-B8F0-0F3CC1EE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3E3F-E014-4787-861F-652EDF9A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668-F4B9-43E5-BDAB-8E8EE0D2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B44-3776-4AB2-9E44-1B97F98E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905-D688-4F37-BEBF-C2F1CF1E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A8E-DA6E-44E8-93BD-732C1E62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BCD-CABD-4F3C-AA4B-ED2D635A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FB8-7639-401A-A2D7-FE1F0140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764-11C2-40EC-92AC-112CEFE2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F92-14C4-41AF-94B3-AEB80868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8C6-68B6-4F40-B384-8EFC6901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A812-7C26-4F8D-BE68-ED7B21D83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ología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264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 de Conteo (Kalsbee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74170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ción en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558800"/>
            <a:ext cx="3958920" cy="3741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0" r="59056" b="44296"/>
          <a:stretch/>
        </p:blipFill>
        <p:spPr>
          <a:xfrm>
            <a:off x="4716360" y="1484280"/>
            <a:ext cx="4235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oteo en redes (DI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284720" y="3484440"/>
            <a:ext cx="4859280" cy="311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788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mbo – manteo - rak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55600" y="1620720"/>
            <a:ext cx="68328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5596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45E/3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/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t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nea de Intersección entre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rcic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    Presente gráficamente los siguientes datos de rumbo y manteo, indicando círculos máximos, polos y la orientación de las líneas de intersección entre plan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/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/0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75W/55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ementos fundamentales: 2 planos de Proyección, 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84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07280" y="59500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cta de intersección: Línea de Tierra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s-E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88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95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98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04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07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08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11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2770920" y="2276640"/>
            <a:ext cx="1009080" cy="1082520"/>
            <a:chOff x="2770920" y="2276640"/>
            <a:chExt cx="1009080" cy="1082520"/>
          </a:xfrm>
        </p:grpSpPr>
        <p:sp>
          <p:nvSpPr>
            <p:cNvPr id="114" name=""/>
            <p:cNvSpPr/>
            <p:nvPr/>
          </p:nvSpPr>
          <p:spPr>
            <a:xfrm>
              <a:off x="3276720" y="29908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70920" y="2276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17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20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32000" y="2637000"/>
            <a:ext cx="2086920" cy="2015640"/>
            <a:chOff x="1332000" y="2637000"/>
            <a:chExt cx="2086920" cy="2015640"/>
          </a:xfrm>
        </p:grpSpPr>
        <p:sp>
          <p:nvSpPr>
            <p:cNvPr id="125" name=""/>
            <p:cNvSpPr/>
            <p:nvPr/>
          </p:nvSpPr>
          <p:spPr>
            <a:xfrm>
              <a:off x="1403280" y="36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32000" y="3573360"/>
              <a:ext cx="14436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5080" y="3357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 rot="10800000">
              <a:off x="1403640" y="2636640"/>
              <a:ext cx="2015280" cy="20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11280" y="1916280"/>
            <a:ext cx="129672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149720"/>
            <a:ext cx="129708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des Estereográficas I (E)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ereometr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146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155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gnos conve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in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ínea de re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Aux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za Plano Aux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292720" y="227664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292720" y="278136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292720" y="3284640"/>
            <a:ext cx="2808360" cy="287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292720" y="378936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92720" y="429264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9880" y="573408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 mejor es usar colores para rectas y planos Auxil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72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180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97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689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212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/R a 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642200" y="2565360"/>
            <a:ext cx="3985200" cy="382320"/>
            <a:chOff x="4642200" y="2565360"/>
            <a:chExt cx="3985200" cy="382320"/>
          </a:xfrm>
        </p:grpSpPr>
        <p:sp>
          <p:nvSpPr>
            <p:cNvPr id="227" name=""/>
            <p:cNvSpPr/>
            <p:nvPr/>
          </p:nvSpPr>
          <p:spPr>
            <a:xfrm>
              <a:off x="4951440" y="278100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4220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2032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>
            <a:off x="5289120" y="3502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289120" y="206208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881840" y="2781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89480" y="205992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2928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0948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2568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5520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10800000">
            <a:off x="658800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13280" y="2421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49680" y="5372280"/>
            <a:ext cx="3985200" cy="382320"/>
            <a:chOff x="949680" y="5372280"/>
            <a:chExt cx="3985200" cy="382320"/>
          </a:xfrm>
        </p:grpSpPr>
        <p:sp>
          <p:nvSpPr>
            <p:cNvPr id="241" name=""/>
            <p:cNvSpPr/>
            <p:nvPr/>
          </p:nvSpPr>
          <p:spPr>
            <a:xfrm>
              <a:off x="125892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4968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2780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547640" y="48690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47640" y="4869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138560" y="486864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9080" y="472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3640" y="4653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2840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8644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6764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8616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255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212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280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289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ser paralelas o cor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cortan están en la misma línea de re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303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304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309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5219640" y="2565000"/>
            <a:ext cx="3241800" cy="2519640"/>
            <a:chOff x="5219640" y="2565000"/>
            <a:chExt cx="3241800" cy="2519640"/>
          </a:xfrm>
        </p:grpSpPr>
        <p:sp>
          <p:nvSpPr>
            <p:cNvPr id="317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80000" y="4149720"/>
              <a:ext cx="2521080" cy="93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219640" y="2565000"/>
              <a:ext cx="2665440" cy="1584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292720" y="4076280"/>
              <a:ext cx="316872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88000" y="3357720"/>
              <a:ext cx="0" cy="1223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da una recta AB y un punto C fuera de ella trazar una recta horizontal que pase por C y se apoye en la re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709880" cy="5256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V="1">
            <a:off x="5364000" y="2420640"/>
            <a:ext cx="136872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364000" y="4005360"/>
            <a:ext cx="1368720" cy="620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96360" y="2924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96360" y="4508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732720" y="2421000"/>
            <a:ext cx="0" cy="1584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64000" y="4005360"/>
            <a:ext cx="0" cy="64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67640" y="2997360"/>
            <a:ext cx="0" cy="158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11120" y="20034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28040" y="39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50160" y="3638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17840" y="4653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3360" y="2630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67640" y="443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148360" y="2997360"/>
            <a:ext cx="345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5363640" y="4005000"/>
            <a:ext cx="2737080" cy="718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27640" y="2995560"/>
            <a:ext cx="0" cy="1225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da dos rectas AB y CD que se cruzan determinar una recta horizontal de cota Z que se apoye en las rectas d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581360" cy="5112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580000" y="2637000"/>
            <a:ext cx="2521080" cy="129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80000" y="3933720"/>
            <a:ext cx="2521080" cy="93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219640" y="2637000"/>
            <a:ext cx="2160720" cy="1296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364000" y="3933360"/>
            <a:ext cx="2160720" cy="863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141720"/>
            <a:ext cx="0" cy="122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4400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44000" y="3860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o de Red de estereográfica y manejo de grandes sets de da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resentación de elementos del espacio en un pl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s Específico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forzar notaciones de rumbos y mant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ir el concepto de estría - line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OTIV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resumo/entrego los datos de muchas medidas de rumbo y mante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677960" y="1600200"/>
            <a:ext cx="578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581120" y="1600200"/>
            <a:ext cx="598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próxima cla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13840" y="15001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403280" y="3068640"/>
            <a:ext cx="5977080" cy="2305080"/>
            <a:chOff x="1403280" y="3068640"/>
            <a:chExt cx="5977080" cy="2305080"/>
          </a:xfrm>
        </p:grpSpPr>
        <p:sp>
          <p:nvSpPr>
            <p:cNvPr id="360" name=""/>
            <p:cNvSpPr/>
            <p:nvPr/>
          </p:nvSpPr>
          <p:spPr>
            <a:xfrm>
              <a:off x="3203640" y="3645000"/>
              <a:ext cx="244800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03640" y="4005360"/>
              <a:ext cx="237636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564000" y="3212640"/>
              <a:ext cx="201600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564000" y="4005360"/>
              <a:ext cx="2519280" cy="503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0360" y="3789360"/>
              <a:ext cx="0" cy="647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03640" y="3645000"/>
              <a:ext cx="0" cy="36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80000" y="4005360"/>
              <a:ext cx="0" cy="936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03280" y="4005360"/>
              <a:ext cx="56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403280" y="3068640"/>
              <a:ext cx="482436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03280" y="4005360"/>
              <a:ext cx="5977080" cy="1368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ando línea de tierra </a:t>
            </a:r>
            <a:br>
              <a:rPr sz="40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para cálculo de manteo o buzamiento apa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4221000"/>
            <a:ext cx="7931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r el buzamiento aparente de la recta N30E/40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40384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122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e el buzamiento aparente de la recta N30W/55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una red estereográf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red estereográfica es una representación en 2 dimensiones de una esfera en la que es posible ubicar estructuras planares como fallas, fracturas, diaclasas, etc. Para esto basta con tener una buena medición del rumbo y manteo de la estru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ciones estereo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angul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Ángulos correctos, distancias falsas = Red de WUL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distanci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Distancias correctas, ángulos falsos =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geología estructural se usa la red de Schmidt, proyectando en el hemisferio inferior. 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 evita una concentración muy grande de puntos en el centro de la red, como ocurriría con una red de Wul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765000"/>
            <a:ext cx="4038480" cy="435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1077840"/>
            <a:ext cx="4038480" cy="3863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57340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 de Wulff                                             Red de Schmi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90400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4520" y="1844640"/>
            <a:ext cx="3309840" cy="3889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16480" y="1844640"/>
            <a:ext cx="3000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d de Conteo (Kalsb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otear todos los datos en la red de schmidt como p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spasar los datos a la red de Kalsb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r el numero de polos dentro de un hexágono. Anotar este número en el centro del hexág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r los puntos “al otro la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cular los porcenta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= [(Valor del Nodo)/(Total)]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ear los conto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6227640" y="479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21:43:53Z</dcterms:created>
  <dc:creator>pamela</dc:creator>
  <dc:description/>
  <dc:language>en-US</dc:language>
  <cp:lastModifiedBy>pamela</cp:lastModifiedBy>
  <dcterms:modified xsi:type="dcterms:W3CDTF">2006-08-30T15:57:10Z</dcterms:modified>
  <cp:revision>13</cp:revision>
  <dc:subject/>
  <dc:title>Diapositiva 1</dc:title>
</cp:coreProperties>
</file>