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DDAE-7927-40CD-9D2F-C82F07AC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C91-9675-4A8E-A48B-E72B6B30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A43E-2685-4D3C-AEBE-1E2679F9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0344-EFA1-463F-9077-77AB9A67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301-E508-4D63-A4C9-A5A91D31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DB8-73E9-4941-A613-9AEF61AD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F68A-8394-4A1C-9D01-890FB884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8F2-BBDE-4180-B84B-227E30BB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342-E3AC-4486-B875-C1C02075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0FD5-85A2-4CA4-B90B-DDF89F7B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9ED-793F-4B67-AE69-D573706C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2AA-4E8A-4019-B846-D41D75B1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017E-5A85-4BFA-9827-6FDFDCE3901F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ología Estruc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L41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74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868000" y="2133720"/>
            <a:ext cx="1890720" cy="2815920"/>
            <a:chOff x="5868000" y="2133720"/>
            <a:chExt cx="1890720" cy="2815920"/>
          </a:xfrm>
        </p:grpSpPr>
        <p:sp>
          <p:nvSpPr>
            <p:cNvPr id="83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92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100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117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6893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3860280"/>
            <a:ext cx="404172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132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u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/R a 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642200" y="2565360"/>
            <a:ext cx="3985200" cy="382320"/>
            <a:chOff x="4642200" y="2565360"/>
            <a:chExt cx="3985200" cy="382320"/>
          </a:xfrm>
        </p:grpSpPr>
        <p:sp>
          <p:nvSpPr>
            <p:cNvPr id="147" name=""/>
            <p:cNvSpPr/>
            <p:nvPr/>
          </p:nvSpPr>
          <p:spPr>
            <a:xfrm>
              <a:off x="4951440" y="278100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220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2032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H="1">
            <a:off x="5289120" y="3502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289120" y="206208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881840" y="2781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89480" y="205992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2928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0948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2568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5520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 rot="10800000">
            <a:off x="658800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13280" y="2421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49680" y="5372280"/>
            <a:ext cx="3985200" cy="382320"/>
            <a:chOff x="949680" y="5372280"/>
            <a:chExt cx="3985200" cy="382320"/>
          </a:xfrm>
        </p:grpSpPr>
        <p:sp>
          <p:nvSpPr>
            <p:cNvPr id="161" name=""/>
            <p:cNvSpPr/>
            <p:nvPr/>
          </p:nvSpPr>
          <p:spPr>
            <a:xfrm>
              <a:off x="125892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4968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2780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547640" y="48690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4869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138560" y="486864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9080" y="4724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3640" y="4653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2840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8644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4764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26764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8616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175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212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mbiando línea de tierra </a:t>
            </a:r>
            <a:br>
              <a:rPr sz="40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para cálculo de manteo o buzamiento apa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4221000"/>
            <a:ext cx="7931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r el buzamiento aparente de la recta N30E/40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40384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30E/40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122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tereometría: El Plan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13640" y="2421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03280" y="3068640"/>
            <a:ext cx="5977080" cy="2305080"/>
            <a:chOff x="1403280" y="3068640"/>
            <a:chExt cx="5977080" cy="2305080"/>
          </a:xfrm>
        </p:grpSpPr>
        <p:sp>
          <p:nvSpPr>
            <p:cNvPr id="194" name=""/>
            <p:cNvSpPr/>
            <p:nvPr/>
          </p:nvSpPr>
          <p:spPr>
            <a:xfrm>
              <a:off x="3203640" y="3645000"/>
              <a:ext cx="244800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3640" y="4005360"/>
              <a:ext cx="2376360" cy="9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564000" y="3212640"/>
              <a:ext cx="201600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564000" y="4005360"/>
              <a:ext cx="2519280" cy="503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40360" y="3789360"/>
              <a:ext cx="0" cy="647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3640" y="3645000"/>
              <a:ext cx="0" cy="360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80000" y="4005360"/>
              <a:ext cx="0" cy="936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03280" y="4005360"/>
              <a:ext cx="56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403280" y="3068640"/>
              <a:ext cx="4824360" cy="936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03280" y="4005360"/>
              <a:ext cx="5977080" cy="1368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teo aparente (Plan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086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teo apar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. Trazar línea en la proyección horizontal según dirección del rumbo (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. Trazar L1-T1 perpendicular a P (al rumb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3. Trazar desde intersección W-E con L1-T1 línea perpendicular a L1-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4. Medir manteo desde L1-T1hasta cortar la línea trazada e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5. Copiar la distancia d en una recta perpendicular a W-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6. Unir intersección de W-E y P con extremo de la línea trazada en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&gt;&gt;  P´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edir manteo apar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492360" y="3573360"/>
            <a:ext cx="43261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des Estereográficas II (E,T)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tereometrí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Rectas: AB: N28E/17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D: N48W/30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bujar rectas en un depurado con LT de dirección  N-S, de manera que las rectas se intersec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icar rumbo y buzamiento real de las rec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rminar buzamiento aparente de las rec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4149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95640" y="4149720"/>
            <a:ext cx="439236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33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2124000" y="2060640"/>
            <a:ext cx="439272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5080" y="35244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bu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268360" y="2708280"/>
            <a:ext cx="57492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6520" y="35244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perpend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68360" y="2421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443640" y="4149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4880" y="28116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pio perpendicular sobre l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6360" y="28116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sobre l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9040" y="208080"/>
            <a:ext cx="66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recta correspondiente al buzamiento aparente sobre l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268360" y="2421000"/>
            <a:ext cx="4175280" cy="172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8160" y="2811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buzamiento apa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059280" y="4149720"/>
            <a:ext cx="3673440" cy="2303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059280" y="1052640"/>
            <a:ext cx="3097080" cy="54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859280" y="3213000"/>
            <a:ext cx="18734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732720" y="2060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059280" y="4149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059280" y="2060280"/>
            <a:ext cx="3673440" cy="20890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8880" y="208080"/>
            <a:ext cx="46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buzamiento aparente de la otra rect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83080" y="28116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interseccion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076720" y="4149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50072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076720" y="2997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7280" y="1989000"/>
            <a:ext cx="5184720" cy="2159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2920" y="90792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LISTO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y así qued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116000" y="1109520"/>
          <a:ext cx="6480360" cy="51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09520"/>
                    <a:ext cx="6480360" cy="51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ara los pla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N30W/25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N25E/50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bujar P y Q en un depurado con LT en dirección E-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ner la recta formada por la intersección de ambos 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ner rumbo y buzamiento real de esta 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024560" y="1979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Ahora plano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4221000"/>
            <a:ext cx="70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9640" y="5684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7280" y="5684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rumb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79640" y="4221000"/>
            <a:ext cx="2736720" cy="208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0160" y="49680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perpendicular al rumbo (L1-T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635280" y="3041280"/>
            <a:ext cx="381636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6520" y="620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mante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427640" y="1341000"/>
            <a:ext cx="1512720" cy="47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292720" y="3357720"/>
            <a:ext cx="100800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89600" y="423720"/>
            <a:ext cx="29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piarla perpendicular 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00720" y="2781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93400" y="54936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ar línea correspondiente al manteo apa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979640" y="2492280"/>
            <a:ext cx="5113440" cy="172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46880" y="54936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mismo para otro 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979640" y="4221000"/>
            <a:ext cx="1512720" cy="2376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492360" y="1844280"/>
            <a:ext cx="151128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24000" y="2708280"/>
            <a:ext cx="511200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924360" y="2060280"/>
            <a:ext cx="367200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724360" y="2421000"/>
            <a:ext cx="935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724360" y="2349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492360" y="1197000"/>
            <a:ext cx="3600720" cy="30240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987640" y="422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0720" y="335772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987640" y="3357720"/>
            <a:ext cx="1584360" cy="863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987640" y="4220640"/>
            <a:ext cx="1513080" cy="79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360" y="333360"/>
            <a:ext cx="85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rumbo y buzamiento aparente de la línea de intersección entre ambos pl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lculo buzamiento real para la recta de intersecció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proceso inverso para calcular buzamiento aparente para recta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56200" y="53964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LISTO!!!!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así qued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826920" y="1357200"/>
            <a:ext cx="749016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zamiento real de la línea de intersección entre los plan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26920" y="1600200"/>
          <a:ext cx="7126560" cy="476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600200"/>
                    <a:ext cx="712656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terminar el manteo aparente en una LT con dirección N-S de un plano N28W/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jetiv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o de Red de estereográfica y manejo de grandes sets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licaciones Estereometr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jetivos Específicos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zar notaciones de rumbos y mant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tilización de softwar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OTIV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ómo aplico el uso de redes estereográficas cuando tengo datos de muchas medidas de rumbo y mante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424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ción en red de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558800"/>
            <a:ext cx="3958920" cy="374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0" r="59056" b="44296"/>
          <a:stretch/>
        </p:blipFill>
        <p:spPr>
          <a:xfrm>
            <a:off x="4716360" y="1484280"/>
            <a:ext cx="4235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45E/3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/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at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nea de Intersección entre 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rcicio (Clase 3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    Presente gráficamente los siguientes datos de rumbo y manteo, indicando círculos máximos, polos y la orientación de las líneas de intersección entre plan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/1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/0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75W/55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oteo en redes (DI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84720" y="3484440"/>
            <a:ext cx="4859280" cy="3114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788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PS (Rocscien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. Crear un archivo D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le&gt;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up&gt;Job Control&gt;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gresar datos en tabla en el formato correspondient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rabar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. Plotear polos (abrir archivo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ew&gt; Pole 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up&gt;Stereonet Options&gt;&gt;tipo de red, hemisferio de proy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up&gt;Display Options&gt;&gt;selección de co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3. Generar sets y planos de sistemas princip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s&gt;Add plan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&gt;Add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&gt;edit planes o sets&gt;e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20640"/>
            <a:ext cx="777708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….(trabajo en clases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Para la parte de DIPS en la tarea plotee los polos en una red equiareal con proyección en el hemisferio inferior y seleccionar la opción de visualización en escala de gri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Luego trace las ventanas correspondientes a los sets mas importantes y trace los planos que corresponden a esas estructuras con sus correspondientes datos de rumbo y manteo (compárelos con los obtenidos en la parte 2 de la tarea en que usted traza estos planos “a man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*en la tarea debe incluir las figuras correspondientes a cada paso (solo polos, acumulación de polos (%), ventanas y plan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e&gt;export image file (copy-paste a la tar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REOME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7:13:14Z</dcterms:created>
  <dc:creator>pamela</dc:creator>
  <dc:description/>
  <dc:language>en-US</dc:language>
  <cp:lastModifiedBy>pamela</cp:lastModifiedBy>
  <dcterms:modified xsi:type="dcterms:W3CDTF">2006-09-01T17:41:56Z</dcterms:modified>
  <cp:revision>22</cp:revision>
  <dc:subject/>
  <dc:title>Geología Estructural</dc:title>
</cp:coreProperties>
</file>