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8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44E3-E07B-4E08-B86F-F6F1C4F72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3C15-2DD6-415B-8AA6-143C8C7B3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B641-7F8D-43C9-B06F-5C5831E3B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4D5C-2BAE-4D3A-95A8-3DD0ED960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6CF8-7A70-4AA0-9E2A-70AB16250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319B-68E1-48F3-BDED-F60A1BA12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C78B-BC15-42A3-B678-86658BE93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7AA1-FBF3-4BEF-835D-CD2744EB5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37FE-7EC9-49DD-9441-1840F0B9A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9C5F-301B-4318-AF09-1DA1423DF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2628-A626-4144-BEF5-CB2C2E464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C52D-3EC9-424A-AA7A-49CC54A9C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388CC-4F4C-4963-97B3-194BCF167950}" type="slidenum">
              <a:rPr b="0" lang="es-C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Geología Estructu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GL41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stereometría: La Rec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08000" y="1484280"/>
            <a:ext cx="4846680" cy="46911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148360" y="1700280"/>
            <a:ext cx="3794040" cy="42339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771640" y="4292640"/>
            <a:ext cx="1224000" cy="115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3440" y="4294080"/>
            <a:ext cx="1150920" cy="1079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84360" y="2276640"/>
            <a:ext cx="1150920" cy="1079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340000" y="2428920"/>
            <a:ext cx="576360" cy="15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059280" y="4229280"/>
            <a:ext cx="576000" cy="151272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003400" y="1565280"/>
            <a:ext cx="192240" cy="50328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2195640" y="2421000"/>
            <a:ext cx="144360" cy="1512720"/>
          </a:xfrm>
          <a:prstGeom prst="line">
            <a:avLst/>
          </a:prstGeom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340000" y="3789360"/>
            <a:ext cx="576360" cy="144360"/>
          </a:xfrm>
          <a:prstGeom prst="line">
            <a:avLst/>
          </a:prstGeom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340000" y="2421000"/>
            <a:ext cx="0" cy="1368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2195640" y="3933720"/>
            <a:ext cx="7207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5653080" y="1699920"/>
            <a:ext cx="3022560" cy="3097440"/>
            <a:chOff x="5653080" y="1699920"/>
            <a:chExt cx="3022560" cy="3097440"/>
          </a:xfrm>
        </p:grpSpPr>
        <p:sp>
          <p:nvSpPr>
            <p:cNvPr id="74" name=""/>
            <p:cNvSpPr/>
            <p:nvPr/>
          </p:nvSpPr>
          <p:spPr>
            <a:xfrm flipV="1">
              <a:off x="7524720" y="1699920"/>
              <a:ext cx="863640" cy="793800"/>
            </a:xfrm>
            <a:prstGeom prst="line">
              <a:avLst/>
            </a:prstGeom>
            <a:ln w="9360">
              <a:solidFill>
                <a:srgbClr val="33cc33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6084720" y="3860640"/>
              <a:ext cx="1440000" cy="720720"/>
            </a:xfrm>
            <a:prstGeom prst="line">
              <a:avLst/>
            </a:prstGeom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 flipV="1">
              <a:off x="5724360" y="3860280"/>
              <a:ext cx="360360" cy="360360"/>
            </a:xfrm>
            <a:prstGeom prst="line">
              <a:avLst/>
            </a:prstGeom>
            <a:ln w="9360">
              <a:solidFill>
                <a:srgbClr val="33cc33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5653080" y="4076640"/>
              <a:ext cx="1440000" cy="720720"/>
            </a:xfrm>
            <a:prstGeom prst="line">
              <a:avLst/>
            </a:prstGeom>
            <a:ln w="9360">
              <a:solidFill>
                <a:srgbClr val="33cc33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flipV="1">
              <a:off x="7236000" y="3284640"/>
              <a:ext cx="1439640" cy="720720"/>
            </a:xfrm>
            <a:prstGeom prst="line">
              <a:avLst/>
            </a:prstGeom>
            <a:ln w="9360">
              <a:solidFill>
                <a:srgbClr val="33cc33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2265480" y="213372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910960" y="371016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6084720" y="2491920"/>
            <a:ext cx="1440000" cy="1368360"/>
          </a:xfrm>
          <a:prstGeom prst="line">
            <a:avLst/>
          </a:prstGeom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868000" y="2133720"/>
            <a:ext cx="1890720" cy="2815920"/>
            <a:chOff x="5868000" y="2133720"/>
            <a:chExt cx="1890720" cy="2815920"/>
          </a:xfrm>
        </p:grpSpPr>
        <p:sp>
          <p:nvSpPr>
            <p:cNvPr id="83" name=""/>
            <p:cNvSpPr/>
            <p:nvPr/>
          </p:nvSpPr>
          <p:spPr>
            <a:xfrm>
              <a:off x="7524720" y="2492280"/>
              <a:ext cx="0" cy="136836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084720" y="3860640"/>
              <a:ext cx="0" cy="7207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382160" y="2133720"/>
              <a:ext cx="34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a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868000" y="3494160"/>
              <a:ext cx="36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b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35680" y="458136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49840" y="3789360"/>
              <a:ext cx="30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stereometría: La Rec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ctas especi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cta Horizontal: recta contenida en un plano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cta frontal: Recta contenida en un plano fr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4478760" y="2637000"/>
            <a:ext cx="3985200" cy="382320"/>
            <a:chOff x="4478760" y="2637000"/>
            <a:chExt cx="3985200" cy="382320"/>
          </a:xfrm>
        </p:grpSpPr>
        <p:sp>
          <p:nvSpPr>
            <p:cNvPr id="92" name=""/>
            <p:cNvSpPr/>
            <p:nvPr/>
          </p:nvSpPr>
          <p:spPr>
            <a:xfrm>
              <a:off x="4788000" y="2852640"/>
              <a:ext cx="331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478760" y="265104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156880" y="26370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5076720" y="2133720"/>
            <a:ext cx="2590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76720" y="2852640"/>
            <a:ext cx="2590920" cy="72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076720" y="2133720"/>
            <a:ext cx="0" cy="7189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7667640" y="2133360"/>
            <a:ext cx="0" cy="1439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4499280" y="4581360"/>
            <a:ext cx="3985200" cy="382320"/>
            <a:chOff x="4499280" y="4581360"/>
            <a:chExt cx="3985200" cy="382320"/>
          </a:xfrm>
        </p:grpSpPr>
        <p:sp>
          <p:nvSpPr>
            <p:cNvPr id="100" name=""/>
            <p:cNvSpPr/>
            <p:nvPr/>
          </p:nvSpPr>
          <p:spPr>
            <a:xfrm>
              <a:off x="4808520" y="4797000"/>
              <a:ext cx="331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499280" y="459540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177400" y="45813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"/>
          <p:cNvSpPr/>
          <p:nvPr/>
        </p:nvSpPr>
        <p:spPr>
          <a:xfrm flipH="1">
            <a:off x="5146200" y="5518080"/>
            <a:ext cx="2590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 flipV="1">
            <a:off x="5146200" y="4078440"/>
            <a:ext cx="2590920" cy="72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7738920" y="4797360"/>
            <a:ext cx="0" cy="7192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46560" y="4076640"/>
            <a:ext cx="0" cy="1440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913640" y="178740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574760" y="1716120"/>
            <a:ext cx="3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857480" y="285264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715160" y="34434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986720" y="366084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66920" y="4437000"/>
            <a:ext cx="3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82760" y="553248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712280" y="55166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stereometría: La Rec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4478760" y="2637000"/>
            <a:ext cx="3985200" cy="382320"/>
            <a:chOff x="4478760" y="2637000"/>
            <a:chExt cx="3985200" cy="382320"/>
          </a:xfrm>
        </p:grpSpPr>
        <p:sp>
          <p:nvSpPr>
            <p:cNvPr id="117" name=""/>
            <p:cNvSpPr/>
            <p:nvPr/>
          </p:nvSpPr>
          <p:spPr>
            <a:xfrm>
              <a:off x="4788000" y="2852640"/>
              <a:ext cx="331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478760" y="265104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156880" y="26370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5076720" y="2133720"/>
            <a:ext cx="2590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076720" y="2852640"/>
            <a:ext cx="2590920" cy="72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076720" y="2133720"/>
            <a:ext cx="0" cy="7189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7667640" y="2133360"/>
            <a:ext cx="0" cy="1439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913640" y="178740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574760" y="1716120"/>
            <a:ext cx="3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857480" y="285264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715160" y="34434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68360" y="3357720"/>
            <a:ext cx="4689360" cy="30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stereometría: La Rec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3860280"/>
            <a:ext cx="4041720" cy="22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ctas Especi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cta que corta a 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4694760" y="2852640"/>
            <a:ext cx="3985200" cy="382320"/>
            <a:chOff x="4694760" y="2852640"/>
            <a:chExt cx="3985200" cy="382320"/>
          </a:xfrm>
        </p:grpSpPr>
        <p:sp>
          <p:nvSpPr>
            <p:cNvPr id="132" name=""/>
            <p:cNvSpPr/>
            <p:nvPr/>
          </p:nvSpPr>
          <p:spPr>
            <a:xfrm>
              <a:off x="5004000" y="3068280"/>
              <a:ext cx="331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694760" y="286668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372880" y="28526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"/>
          <p:cNvSpPr/>
          <p:nvPr/>
        </p:nvSpPr>
        <p:spPr>
          <a:xfrm flipV="1">
            <a:off x="5292720" y="2349360"/>
            <a:ext cx="2590920" cy="719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292720" y="3068640"/>
            <a:ext cx="2590920" cy="72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7883640" y="2349360"/>
            <a:ext cx="0" cy="1440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078520" y="263700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790760" y="1932120"/>
            <a:ext cx="3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073480" y="306864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931160" y="36590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4500720" y="2852640"/>
            <a:ext cx="790560" cy="21600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4789440" y="2997000"/>
            <a:ext cx="790560" cy="21564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stereometría: La Rec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oncep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Buza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umb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(C/R a L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4642200" y="2565360"/>
            <a:ext cx="3985200" cy="382320"/>
            <a:chOff x="4642200" y="2565360"/>
            <a:chExt cx="3985200" cy="382320"/>
          </a:xfrm>
        </p:grpSpPr>
        <p:sp>
          <p:nvSpPr>
            <p:cNvPr id="147" name=""/>
            <p:cNvSpPr/>
            <p:nvPr/>
          </p:nvSpPr>
          <p:spPr>
            <a:xfrm>
              <a:off x="4951440" y="2781000"/>
              <a:ext cx="331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642200" y="257940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320320" y="25653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"/>
          <p:cNvSpPr/>
          <p:nvPr/>
        </p:nvSpPr>
        <p:spPr>
          <a:xfrm flipH="1">
            <a:off x="5289120" y="3502080"/>
            <a:ext cx="2590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 flipV="1">
            <a:off x="5289120" y="2062080"/>
            <a:ext cx="2590920" cy="72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7881840" y="2781000"/>
            <a:ext cx="0" cy="7189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289480" y="2059920"/>
            <a:ext cx="0" cy="1439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129280" y="164448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809480" y="2421000"/>
            <a:ext cx="3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125680" y="351648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855200" y="35002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V="1" rot="10800000">
            <a:off x="6588000" y="2491560"/>
            <a:ext cx="577440" cy="577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713280" y="242100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949680" y="5372280"/>
            <a:ext cx="3985200" cy="382320"/>
            <a:chOff x="949680" y="5372280"/>
            <a:chExt cx="3985200" cy="382320"/>
          </a:xfrm>
        </p:grpSpPr>
        <p:sp>
          <p:nvSpPr>
            <p:cNvPr id="161" name=""/>
            <p:cNvSpPr/>
            <p:nvPr/>
          </p:nvSpPr>
          <p:spPr>
            <a:xfrm>
              <a:off x="1258920" y="5587920"/>
              <a:ext cx="331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949680" y="538632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627800" y="5372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1547640" y="4869000"/>
            <a:ext cx="2590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547640" y="4869000"/>
            <a:ext cx="0" cy="7189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4138560" y="4868640"/>
            <a:ext cx="0" cy="1439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189080" y="472428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283640" y="4653000"/>
            <a:ext cx="3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328400" y="558792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186440" y="61786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547640" y="5589720"/>
            <a:ext cx="2590920" cy="72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2267640" y="5300280"/>
            <a:ext cx="576720" cy="57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486160" y="5510160"/>
            <a:ext cx="31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5075640" y="5372280"/>
            <a:ext cx="3985200" cy="382320"/>
            <a:chOff x="5075640" y="5372280"/>
            <a:chExt cx="3985200" cy="382320"/>
          </a:xfrm>
        </p:grpSpPr>
        <p:sp>
          <p:nvSpPr>
            <p:cNvPr id="175" name=""/>
            <p:cNvSpPr/>
            <p:nvPr/>
          </p:nvSpPr>
          <p:spPr>
            <a:xfrm>
              <a:off x="5384880" y="5587920"/>
              <a:ext cx="331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075640" y="538632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753760" y="5372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5651640" y="4508640"/>
            <a:ext cx="2592360" cy="100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651640" y="4508640"/>
            <a:ext cx="21960" cy="10792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 flipV="1">
            <a:off x="8243640" y="5589360"/>
            <a:ext cx="20520" cy="7189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54360" y="558792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8312400" y="61786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3600" y="5589720"/>
            <a:ext cx="2590920" cy="72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6393600" y="5300280"/>
            <a:ext cx="576720" cy="57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2120" y="5510160"/>
            <a:ext cx="31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Cambiando línea de tierra </a:t>
            </a:r>
            <a:br>
              <a:rPr sz="4000"/>
            </a:b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(para cálculo de manteo o buzamiento aparen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4221000"/>
            <a:ext cx="793116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jempl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r el buzamiento aparente de la recta N30E/40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692360" y="1341360"/>
            <a:ext cx="403848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30E/40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468360" y="1413000"/>
            <a:ext cx="8112240" cy="45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Estereometría: El Plano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913640" y="2421000"/>
            <a:ext cx="102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2 rec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1403280" y="3068640"/>
            <a:ext cx="5977080" cy="2305080"/>
            <a:chOff x="1403280" y="3068640"/>
            <a:chExt cx="5977080" cy="2305080"/>
          </a:xfrm>
        </p:grpSpPr>
        <p:sp>
          <p:nvSpPr>
            <p:cNvPr id="194" name=""/>
            <p:cNvSpPr/>
            <p:nvPr/>
          </p:nvSpPr>
          <p:spPr>
            <a:xfrm>
              <a:off x="3203640" y="3645000"/>
              <a:ext cx="2448000" cy="3603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203640" y="4005360"/>
              <a:ext cx="2376360" cy="9363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3564000" y="3212640"/>
              <a:ext cx="2016000" cy="79236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3564000" y="4005360"/>
              <a:ext cx="2519280" cy="50328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140360" y="3789360"/>
              <a:ext cx="0" cy="6476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203640" y="3645000"/>
              <a:ext cx="0" cy="36036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580000" y="4005360"/>
              <a:ext cx="0" cy="93636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403280" y="4005360"/>
              <a:ext cx="561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1403280" y="3068640"/>
              <a:ext cx="4824360" cy="93672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403280" y="4005360"/>
              <a:ext cx="5977080" cy="136836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nteo aparente (Plan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1547640" y="1557360"/>
            <a:ext cx="60865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nteo aparen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1. Trazar línea en la proyección horizontal según dirección del rumbo (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2. Trazar L1-T1 perpendicular a P (al rumb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3. Trazar desde intersección W-E con L1-T1 línea perpendicular a L1-T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4. Medir manteo desde L1-T1hasta cortar la línea trazada en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5. Copiar la distancia d en una recta perpendicular a W-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6. Unir intersección de W-E y P con extremo de la línea trazada en 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&gt;&gt;  P´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Medir manteo apar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3492360" y="3573360"/>
            <a:ext cx="4326120" cy="30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Redes Estereográficas II (E,T)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Estereometría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las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jemplo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. Rectas: AB: N28E/17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D: N48W/30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ibujar rectas en un depurado con LT de dirección  N-S, de manera que las rectas se intersec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ndicar rumbo y buzamiento real de las rec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terminar buzamiento aparente de las rect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042920" y="4149720"/>
            <a:ext cx="741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195640" y="4149720"/>
            <a:ext cx="4392360" cy="1584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11280" y="33336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razo rumb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2124000" y="2060640"/>
            <a:ext cx="4392720" cy="367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5080" y="352440"/>
            <a:ext cx="200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razo buza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268360" y="2708280"/>
            <a:ext cx="574920" cy="144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96520" y="352440"/>
            <a:ext cx="220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razo perpendic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2268360" y="2421000"/>
            <a:ext cx="0" cy="17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6443640" y="4149360"/>
            <a:ext cx="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24880" y="281160"/>
            <a:ext cx="34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pio perpendicular sobre la 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66360" y="281160"/>
            <a:ext cx="228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yecto sobre la 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99040" y="208080"/>
            <a:ext cx="668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razo recta correspondiente al buzamiento aparente sobre la 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2268360" y="2421000"/>
            <a:ext cx="4175280" cy="1728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68160" y="2811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ido buzamiento apar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3059280" y="4149720"/>
            <a:ext cx="3673440" cy="230364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3059280" y="1052640"/>
            <a:ext cx="3097080" cy="540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 flipV="1">
            <a:off x="4859280" y="3213000"/>
            <a:ext cx="187344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6732720" y="2060280"/>
            <a:ext cx="0" cy="20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3059280" y="4149360"/>
            <a:ext cx="0" cy="230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3059280" y="2060280"/>
            <a:ext cx="3673440" cy="208908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68880" y="208080"/>
            <a:ext cx="469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ido buzamiento aparente de la otra recta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883080" y="281160"/>
            <a:ext cx="28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yecto interseccione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076720" y="414972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4500720" y="335772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5076720" y="2997000"/>
            <a:ext cx="0" cy="11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627280" y="1989000"/>
            <a:ext cx="5184720" cy="2159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042920" y="907920"/>
            <a:ext cx="41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00"/>
                </a:solidFill>
                <a:latin typeface="Arial"/>
              </a:rPr>
              <a:t>LISTO!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9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9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4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1" dur="10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flt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4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60" dur="50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9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9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5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5" dur="8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6" dur="8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7" dur="8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y así queda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1116000" y="1109520"/>
          <a:ext cx="6480360" cy="516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109520"/>
                    <a:ext cx="6480360" cy="516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Para los plan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: N30W/25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N25E/50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bujar P y Q en un depurado con LT en dirección E-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tener la recta formada por la intersección de ambos pla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tener rumbo y buzamiento real de esta rec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1024560" y="197964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9999"/>
                </a:solidFill>
                <a:latin typeface="Arial"/>
              </a:rPr>
              <a:t>Ahora planos!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900000" y="4221000"/>
            <a:ext cx="705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809640" y="56844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razo 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37280" y="568440"/>
            <a:ext cx="15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razo rumb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979640" y="4221000"/>
            <a:ext cx="2736720" cy="2087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40160" y="496800"/>
            <a:ext cx="397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razo perpendicular al rumbo (L1-T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3635280" y="3041280"/>
            <a:ext cx="3816360" cy="381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406520" y="62064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ido manteo r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4427640" y="1341000"/>
            <a:ext cx="1512720" cy="475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H="1" flipV="1">
            <a:off x="5292720" y="3357720"/>
            <a:ext cx="1008000" cy="86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389600" y="423720"/>
            <a:ext cx="299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piarla perpendicular a 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6300720" y="2781000"/>
            <a:ext cx="0" cy="143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193400" y="549360"/>
            <a:ext cx="512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razar línea correspondiente al manteo apar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1979640" y="2492280"/>
            <a:ext cx="5113440" cy="1728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046880" y="549360"/>
            <a:ext cx="27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 mismo para otro pl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1979640" y="4221000"/>
            <a:ext cx="1512720" cy="237672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3492360" y="1844280"/>
            <a:ext cx="1511280" cy="23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124000" y="2708280"/>
            <a:ext cx="5112000" cy="21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3924360" y="2060280"/>
            <a:ext cx="3672000" cy="143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5724360" y="2421000"/>
            <a:ext cx="93528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5724360" y="2349000"/>
            <a:ext cx="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3492360" y="1197000"/>
            <a:ext cx="3600720" cy="302400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2987640" y="422064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500720" y="3357720"/>
            <a:ext cx="0" cy="86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2987640" y="3357720"/>
            <a:ext cx="1584360" cy="8632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V="1">
            <a:off x="2987640" y="4220640"/>
            <a:ext cx="1513080" cy="7923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9360" y="333360"/>
            <a:ext cx="85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ido rumbo y buzamiento aparente de la línea de intersección entre ambos pla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39640" y="54936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alculo buzamiento real para la recta de intersección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proceso inverso para calcular buzamiento aparente para rectas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456200" y="539640"/>
            <a:ext cx="225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00"/>
                </a:solidFill>
                <a:latin typeface="Arial"/>
              </a:rPr>
              <a:t>LISTO!!!!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3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3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0" dur="8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1" dur="8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2" dur="8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xit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76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0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xit" presetID="4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90" dur="10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flt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3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9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xit" presetID="4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5" dur="10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flt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8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9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3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9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08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2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9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3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8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3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9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9" dur="5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 así queda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826920" y="1357200"/>
            <a:ext cx="7490160" cy="50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uzamiento real de la línea de intersección entre los plano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826920" y="1600200"/>
          <a:ext cx="7126560" cy="476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600200"/>
                    <a:ext cx="7126560" cy="476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jercic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eterminar el manteo aparente en una LT con dirección N-S de un plano N28W/50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!!!!!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Objetivo Princip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so de Red de estereográfica y manejo de grandes sets de da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plicaciones Estereometrí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Objetivos Específicos: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forzar notaciones de rumbos y mante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tilización de software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MOTIVAC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¿Cómo aplico el uso de redes estereográficas cuando tengo datos de muchas medidas de rumbo y mante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842472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royección en red de Schm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24000" y="1558800"/>
            <a:ext cx="3958920" cy="37418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rcRect l="0" t="0" r="59056" b="44296"/>
          <a:stretch/>
        </p:blipFill>
        <p:spPr>
          <a:xfrm>
            <a:off x="4716360" y="1484280"/>
            <a:ext cx="423540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jemplos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45E/38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0/2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rato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ínea de Intersección entre pla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jercicio (Clase 3)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)     Presente gráficamente los siguientes datos de rumbo y manteo, indicando círculos máximos, polos y la orientación de las líneas de intersección entre plano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5/1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0/0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75W/55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Ploteo en redes (DIP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284720" y="3484440"/>
            <a:ext cx="4859280" cy="31147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0" y="1484280"/>
            <a:ext cx="4788000" cy="29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00000" y="274320"/>
            <a:ext cx="7786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DIPS (Rocscienc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5280" y="1125360"/>
            <a:ext cx="822960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1. Crear un archivo DIP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ile&gt;N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etup&gt;Job Control&gt;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Ingresar datos en tabla en el formato correspondiente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Grabar arch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2. Plotear polos (abrir archivo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View&gt; Pole pl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etup&gt;Stereonet Options&gt;&gt;tipo de red, hemisferio de proye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etup&gt;Display Options&gt;&gt;selección de col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3. Generar sets y planos de sistemas principa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ets&gt;Add plane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elect&gt;Add pl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elect&gt;edit planes o sets&gt;ed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95280" y="620640"/>
            <a:ext cx="7777080" cy="45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JEMPLO….(trabajo en clases)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ARE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*Para la parte de DIPS en la tarea plotee los polos en una red equiareal con proyección en el hemisferio inferior y seleccionar la opción de visualización en escala de gri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*Luego trace las ventanas correspondientes a los sets mas importantes y trace los planos que corresponden a esas estructuras con sus correspondientes datos de rumbo y manteo (compárelos con los obtenidos en la parte 2 de la tarea en que usted traza estos planos “a man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**en la tarea debe incluir las figuras correspondientes a cada paso (solo polos, acumulación de polos (%), ventanas y plano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ile&gt;export image file (copy-paste a la tare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EREOMET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continuació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30T17:13:14Z</dcterms:created>
  <dc:creator>pamela</dc:creator>
  <dc:description/>
  <dc:language>en-US</dc:language>
  <cp:lastModifiedBy>pamela</cp:lastModifiedBy>
  <dcterms:modified xsi:type="dcterms:W3CDTF">2006-09-01T17:41:56Z</dcterms:modified>
  <cp:revision>22</cp:revision>
  <dc:subject/>
  <dc:title>Geología Estructural</dc:title>
</cp:coreProperties>
</file>