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9.png" ContentType="image/png"/>
  <Override PartName="/ppt/media/image2.png" ContentType="image/png"/>
  <Override PartName="/ppt/media/image5.gif" ContentType="image/gif"/>
  <Override PartName="/ppt/media/image14.jpeg" ContentType="image/jpeg"/>
  <Override PartName="/ppt/media/image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0A9-4B0C-4F4B-80C3-8EB04341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01B-7CEF-4606-A28D-BB853512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A2B-F467-4A4A-A62A-4D742634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8C7-6200-47DA-8DAD-5A6AB5DC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05A-A74B-4F76-94E9-5D82D802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7B9-2705-412C-8C1A-DAAAEE2A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9BF-A9FA-46C1-8CB0-58E1EE5A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DBF-1ECC-4E7E-8ECE-15D97A12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6B7-A5BF-44AA-BF7B-B73E3E5B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7DB-DCFA-4C89-975F-FE7882B4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7F8-16B8-4565-9791-6124B958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227-A6B4-4BCB-A088-C41372E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4EC6-A6DA-4C66-BFDB-4DBB49361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74170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5596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ementos fundamentales: 2 planos de Proyección, 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s-E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84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07280" y="59500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ta de intersección: Línea de Tierra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88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95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98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01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04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07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08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11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770920" y="2276640"/>
            <a:ext cx="1009080" cy="1082520"/>
            <a:chOff x="2770920" y="2276640"/>
            <a:chExt cx="1009080" cy="1082520"/>
          </a:xfrm>
        </p:grpSpPr>
        <p:sp>
          <p:nvSpPr>
            <p:cNvPr id="114" name=""/>
            <p:cNvSpPr/>
            <p:nvPr/>
          </p:nvSpPr>
          <p:spPr>
            <a:xfrm>
              <a:off x="3276720" y="29908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70920" y="2276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17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20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32000" y="2637000"/>
            <a:ext cx="2086920" cy="2015640"/>
            <a:chOff x="1332000" y="2637000"/>
            <a:chExt cx="2086920" cy="2015640"/>
          </a:xfrm>
        </p:grpSpPr>
        <p:sp>
          <p:nvSpPr>
            <p:cNvPr id="125" name=""/>
            <p:cNvSpPr/>
            <p:nvPr/>
          </p:nvSpPr>
          <p:spPr>
            <a:xfrm>
              <a:off x="1403280" y="3645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32000" y="3573360"/>
              <a:ext cx="144360" cy="142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5080" y="3357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10800000">
              <a:off x="1403640" y="2636640"/>
              <a:ext cx="2015280" cy="20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11280" y="1916280"/>
            <a:ext cx="129672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149720"/>
            <a:ext cx="12970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 (E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46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155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gnos conve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in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ínea de re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za Plano Aux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292720" y="2276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292720" y="2781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292720" y="3284640"/>
            <a:ext cx="2808360" cy="287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292720" y="378936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92720" y="4292640"/>
            <a:ext cx="2808360" cy="28728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880" y="573408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 mejor es usar colores para rectas y planos Auxil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7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8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9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1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22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24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25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280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289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paralelas o cor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cortan están en la misma línea de re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03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04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09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5219640" y="2565000"/>
            <a:ext cx="3241800" cy="2519640"/>
            <a:chOff x="5219640" y="2565000"/>
            <a:chExt cx="3241800" cy="2519640"/>
          </a:xfrm>
        </p:grpSpPr>
        <p:sp>
          <p:nvSpPr>
            <p:cNvPr id="317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80000" y="4149720"/>
              <a:ext cx="2521080" cy="9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219640" y="2565000"/>
              <a:ext cx="2665440" cy="1584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292720" y="4076280"/>
              <a:ext cx="316872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88000" y="3357720"/>
              <a:ext cx="0" cy="1223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da una recta AB y un punto C fuera de ella trazar una recta horizontal que pase por C y se apoye en la 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09880" cy="5256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V="1">
            <a:off x="5364000" y="2420640"/>
            <a:ext cx="136872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364000" y="4005360"/>
            <a:ext cx="1368720" cy="620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96360" y="2924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4508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32720" y="2421000"/>
            <a:ext cx="0" cy="1584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64000" y="4005360"/>
            <a:ext cx="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67640" y="2997360"/>
            <a:ext cx="0" cy="158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11120" y="20034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28040" y="39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50160" y="3638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17840" y="465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3360" y="2630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148360" y="2997360"/>
            <a:ext cx="345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5363640" y="4005000"/>
            <a:ext cx="2737080" cy="71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27640" y="2995560"/>
            <a:ext cx="0" cy="1225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da dos rectas AB y CD que se cruzan determinar una recta horizontal de cota Z que se apoye en las rectas d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581360" cy="5112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580000" y="2637000"/>
            <a:ext cx="2521080" cy="1296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80000" y="3933720"/>
            <a:ext cx="2521080" cy="9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219640" y="2637000"/>
            <a:ext cx="2160720" cy="1296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364000" y="3933360"/>
            <a:ext cx="2160720" cy="863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14172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44000" y="328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44000" y="3860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presentación de elementos del espacio en un pl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roducir el concepto de estría - line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resumo/entrego los datos de muchas medidas de rumbo y mante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677960" y="1600200"/>
            <a:ext cx="578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581120" y="1600200"/>
            <a:ext cx="598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próxima cla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13840" y="1500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360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e el buzamiento aparente de la recta N30W/55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65000"/>
            <a:ext cx="4038480" cy="435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077840"/>
            <a:ext cx="4038480" cy="3863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0400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ear todos los datos en la red de schmidt como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6227640" y="479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21:43:53Z</dcterms:created>
  <dc:creator>pamela</dc:creator>
  <dc:description/>
  <dc:language>en-US</dc:language>
  <cp:lastModifiedBy>pamela</cp:lastModifiedBy>
  <dcterms:modified xsi:type="dcterms:W3CDTF">2006-08-30T15:57:10Z</dcterms:modified>
  <cp:revision>13</cp:revision>
  <dc:subject/>
  <dc:title>Diapositiva 1</dc:title>
</cp:coreProperties>
</file>