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9.png" ContentType="image/png"/>
  <Override PartName="/ppt/media/image2.png" ContentType="image/png"/>
  <Override PartName="/ppt/media/image5.gif" ContentType="image/gif"/>
  <Override PartName="/ppt/media/image14.jpeg" ContentType="image/jpeg"/>
  <Override PartName="/ppt/media/image3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D55D-81C6-4241-979D-86CC2109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F31A-EBD5-499D-9C50-B18D0A3F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495B-59B9-4486-B193-24A17CF7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24A2-A3A7-452F-8DCC-ECA0DF2A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B5C3-83D5-4D7B-8CAC-F71613FB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7A87-6235-4499-BEAD-E219172F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DDB4-7980-4739-8F30-99490850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A9BD-2293-4D53-AD7F-52489CC0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B2EF-6393-435B-9C61-D6C17219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A60A-1110-4CD3-BA3C-943EBF80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478C-95FF-47E3-9F30-42091871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7A20-BF09-407C-82CB-CEB0814D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6191-AB03-484A-8C5E-2192356AC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ología Estruc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L41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32000" y="115920"/>
            <a:ext cx="6264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d de Conteo (Kalsbee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741708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424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yección en red de Schm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1558800"/>
            <a:ext cx="3958920" cy="3741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0" r="59056" b="44296"/>
          <a:stretch/>
        </p:blipFill>
        <p:spPr>
          <a:xfrm>
            <a:off x="4716360" y="1484280"/>
            <a:ext cx="4235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oteo en redes (DI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284720" y="3484440"/>
            <a:ext cx="4859280" cy="3114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7880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mbo – manteo - rak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55600" y="1620720"/>
            <a:ext cx="683280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5596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45E/38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/2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ato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ínea de Intersección entre pl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jercici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    Presente gráficamente los siguientes datos de rumbo y manteo, indicando círculos máximos, polos y la orientación de las líneas de intersección entre plan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/1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/0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75W/55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ereo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presentar en un solo plano objetos del espa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4846680" cy="4691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2"/>
          <a:srcRect l="3795" t="0" r="0" b="0"/>
          <a:stretch/>
        </p:blipFill>
        <p:spPr>
          <a:xfrm>
            <a:off x="5292720" y="1413000"/>
            <a:ext cx="3651120" cy="4233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519120" y="52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stereometría: Geometría Diéd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240" y="5950080"/>
            <a:ext cx="62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ementos fundamentales: 2 planos de Proyección, </a:t>
            </a:r>
            <a:r>
              <a:rPr b="1" lang="es-ES" sz="1800" spc="-1" strike="noStrike">
                <a:solidFill>
                  <a:srgbClr val="33cc33"/>
                </a:solidFill>
                <a:latin typeface="Tahoma"/>
              </a:rPr>
              <a:t>H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s-ES" sz="1800" spc="-1" strike="noStrike">
                <a:solidFill>
                  <a:srgbClr val="33cc33"/>
                </a:solidFill>
                <a:latin typeface="Tahoma"/>
              </a:rPr>
              <a:t>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0000" y="1413000"/>
            <a:ext cx="1584720" cy="2160000"/>
            <a:chOff x="2700000" y="1413000"/>
            <a:chExt cx="1584720" cy="2160000"/>
          </a:xfrm>
        </p:grpSpPr>
        <p:sp>
          <p:nvSpPr>
            <p:cNvPr id="84" name=""/>
            <p:cNvSpPr/>
            <p:nvPr/>
          </p:nvSpPr>
          <p:spPr>
            <a:xfrm flipH="1">
              <a:off x="2700000" y="1413000"/>
              <a:ext cx="358920" cy="14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924360" y="3430080"/>
              <a:ext cx="360360" cy="1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07280" y="5950080"/>
            <a:ext cx="47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cta de intersección: Línea de Tierra </a:t>
            </a: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L</a:t>
            </a:r>
            <a:r>
              <a:rPr b="0" lang="es-E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s-E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332000" y="2708280"/>
            <a:ext cx="1944360" cy="1657440"/>
            <a:chOff x="1332000" y="2708280"/>
            <a:chExt cx="1944360" cy="1657440"/>
          </a:xfrm>
        </p:grpSpPr>
        <p:sp>
          <p:nvSpPr>
            <p:cNvPr id="88" name=""/>
            <p:cNvSpPr/>
            <p:nvPr/>
          </p:nvSpPr>
          <p:spPr>
            <a:xfrm flipV="1">
              <a:off x="1332000" y="414972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916000" y="2708280"/>
              <a:ext cx="360360" cy="2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397560" y="56610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pu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El pu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292720" y="1427040"/>
            <a:ext cx="3794040" cy="4233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1330200"/>
            <a:ext cx="4846680" cy="469116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3276720" y="2292480"/>
            <a:ext cx="574560" cy="415800"/>
            <a:chOff x="3276720" y="2292480"/>
            <a:chExt cx="574560" cy="415800"/>
          </a:xfrm>
        </p:grpSpPr>
        <p:sp>
          <p:nvSpPr>
            <p:cNvPr id="95" name=""/>
            <p:cNvSpPr/>
            <p:nvPr/>
          </p:nvSpPr>
          <p:spPr>
            <a:xfrm>
              <a:off x="3276720" y="256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00560" y="22924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270160" y="2276640"/>
            <a:ext cx="1456200" cy="1591920"/>
            <a:chOff x="2270160" y="2276640"/>
            <a:chExt cx="1456200" cy="1591920"/>
          </a:xfrm>
        </p:grpSpPr>
        <p:sp>
          <p:nvSpPr>
            <p:cNvPr id="98" name=""/>
            <p:cNvSpPr/>
            <p:nvPr/>
          </p:nvSpPr>
          <p:spPr>
            <a:xfrm>
              <a:off x="2484360" y="2637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4800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3274920" y="3500280"/>
              <a:ext cx="451440" cy="368280"/>
              <a:chOff x="3274920" y="3500280"/>
              <a:chExt cx="451440" cy="368280"/>
            </a:xfrm>
          </p:grpSpPr>
          <p:sp>
            <p:nvSpPr>
              <p:cNvPr id="101" name=""/>
              <p:cNvSpPr/>
              <p:nvPr/>
            </p:nvSpPr>
            <p:spPr>
              <a:xfrm>
                <a:off x="3274920" y="3573360"/>
                <a:ext cx="144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417480" y="350028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270160" y="2276640"/>
              <a:ext cx="348480" cy="431640"/>
              <a:chOff x="2270160" y="2276640"/>
              <a:chExt cx="348480" cy="431640"/>
            </a:xfrm>
          </p:grpSpPr>
          <p:sp>
            <p:nvSpPr>
              <p:cNvPr id="104" name=""/>
              <p:cNvSpPr/>
              <p:nvPr/>
            </p:nvSpPr>
            <p:spPr>
              <a:xfrm>
                <a:off x="2340000" y="2565360"/>
                <a:ext cx="14436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70160" y="227664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6878880" y="2205000"/>
            <a:ext cx="447840" cy="2455920"/>
            <a:chOff x="6878880" y="2205000"/>
            <a:chExt cx="447840" cy="2455920"/>
          </a:xfrm>
        </p:grpSpPr>
        <p:grpSp>
          <p:nvGrpSpPr>
            <p:cNvPr id="107" name=""/>
            <p:cNvGrpSpPr/>
            <p:nvPr/>
          </p:nvGrpSpPr>
          <p:grpSpPr>
            <a:xfrm>
              <a:off x="6878880" y="2205000"/>
              <a:ext cx="348480" cy="431640"/>
              <a:chOff x="6878880" y="2205000"/>
              <a:chExt cx="348480" cy="431640"/>
            </a:xfrm>
          </p:grpSpPr>
          <p:sp>
            <p:nvSpPr>
              <p:cNvPr id="108" name=""/>
              <p:cNvSpPr/>
              <p:nvPr/>
            </p:nvSpPr>
            <p:spPr>
              <a:xfrm>
                <a:off x="6948720" y="2493720"/>
                <a:ext cx="14436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78880" y="22050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948360" y="4292640"/>
              <a:ext cx="378360" cy="368280"/>
              <a:chOff x="6948360" y="4292640"/>
              <a:chExt cx="378360" cy="368280"/>
            </a:xfrm>
          </p:grpSpPr>
          <p:sp>
            <p:nvSpPr>
              <p:cNvPr id="111" name=""/>
              <p:cNvSpPr/>
              <p:nvPr/>
            </p:nvSpPr>
            <p:spPr>
              <a:xfrm>
                <a:off x="6948360" y="4365720"/>
                <a:ext cx="144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017840" y="429264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2770920" y="2276640"/>
            <a:ext cx="1009080" cy="1082520"/>
            <a:chOff x="2770920" y="2276640"/>
            <a:chExt cx="1009080" cy="1082520"/>
          </a:xfrm>
        </p:grpSpPr>
        <p:sp>
          <p:nvSpPr>
            <p:cNvPr id="114" name=""/>
            <p:cNvSpPr/>
            <p:nvPr/>
          </p:nvSpPr>
          <p:spPr>
            <a:xfrm>
              <a:off x="3276720" y="29908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70920" y="22766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411280" y="2637000"/>
            <a:ext cx="936720" cy="1008000"/>
            <a:chOff x="2411280" y="2637000"/>
            <a:chExt cx="936720" cy="1008000"/>
          </a:xfrm>
        </p:grpSpPr>
        <p:sp>
          <p:nvSpPr>
            <p:cNvPr id="117" name=""/>
            <p:cNvSpPr/>
            <p:nvPr/>
          </p:nvSpPr>
          <p:spPr>
            <a:xfrm>
              <a:off x="241128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11280" y="36450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947640" y="2565360"/>
            <a:ext cx="313200" cy="1871280"/>
            <a:chOff x="6947640" y="2565360"/>
            <a:chExt cx="313200" cy="1871280"/>
          </a:xfrm>
        </p:grpSpPr>
        <p:sp>
          <p:nvSpPr>
            <p:cNvPr id="120" name=""/>
            <p:cNvSpPr/>
            <p:nvPr/>
          </p:nvSpPr>
          <p:spPr>
            <a:xfrm>
              <a:off x="6947640" y="2917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47640" y="3925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20000" y="2565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7020000" y="357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332000" y="2637000"/>
            <a:ext cx="2086920" cy="2015640"/>
            <a:chOff x="1332000" y="2637000"/>
            <a:chExt cx="2086920" cy="2015640"/>
          </a:xfrm>
        </p:grpSpPr>
        <p:sp>
          <p:nvSpPr>
            <p:cNvPr id="125" name=""/>
            <p:cNvSpPr/>
            <p:nvPr/>
          </p:nvSpPr>
          <p:spPr>
            <a:xfrm>
              <a:off x="1403280" y="3645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32000" y="3573360"/>
              <a:ext cx="144360" cy="14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05080" y="3357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 rot="10800000">
              <a:off x="1403640" y="2636640"/>
              <a:ext cx="2015280" cy="20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11280" y="1916280"/>
            <a:ext cx="129672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4149720"/>
            <a:ext cx="129708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39320" y="574848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= 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= alej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Redes Estereográficas I (E)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stereometrí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146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868000" y="2133720"/>
            <a:ext cx="1890720" cy="2815920"/>
            <a:chOff x="5868000" y="2133720"/>
            <a:chExt cx="1890720" cy="2815920"/>
          </a:xfrm>
        </p:grpSpPr>
        <p:sp>
          <p:nvSpPr>
            <p:cNvPr id="155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gnos conven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 vi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 invi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ínea de ref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 Aux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za Plano Aux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292720" y="2276640"/>
            <a:ext cx="2808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292720" y="2781360"/>
            <a:ext cx="2808360" cy="2872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292720" y="3284640"/>
            <a:ext cx="2808360" cy="287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292720" y="3789360"/>
            <a:ext cx="2808360" cy="28728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292720" y="4292640"/>
            <a:ext cx="2808360" cy="287280"/>
          </a:xfrm>
          <a:prstGeom prst="line">
            <a:avLst/>
          </a:prstGeom>
          <a:ln w="381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79880" y="5734080"/>
            <a:ext cx="613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o mejor es usar colores para rectas y planos Auxil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Horizontal: recta contenida en un plano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frontal: Recta contenida en un plano fr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172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499280" y="4581360"/>
            <a:ext cx="3985200" cy="382320"/>
            <a:chOff x="4499280" y="4581360"/>
            <a:chExt cx="3985200" cy="382320"/>
          </a:xfrm>
        </p:grpSpPr>
        <p:sp>
          <p:nvSpPr>
            <p:cNvPr id="180" name=""/>
            <p:cNvSpPr/>
            <p:nvPr/>
          </p:nvSpPr>
          <p:spPr>
            <a:xfrm>
              <a:off x="4808520" y="4797000"/>
              <a:ext cx="33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99280" y="4595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77400" y="458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 flipH="1">
            <a:off x="5146200" y="55180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146200" y="40784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738920" y="4797360"/>
            <a:ext cx="0" cy="719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6560" y="4076640"/>
            <a:ext cx="0" cy="144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8672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66920" y="4437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82760" y="5532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12280" y="551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197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46893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que corta a 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de Perfil: Recta perpendicular a 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694760" y="2852640"/>
            <a:ext cx="3985200" cy="382320"/>
            <a:chOff x="4694760" y="2852640"/>
            <a:chExt cx="3985200" cy="382320"/>
          </a:xfrm>
        </p:grpSpPr>
        <p:sp>
          <p:nvSpPr>
            <p:cNvPr id="212" name=""/>
            <p:cNvSpPr/>
            <p:nvPr/>
          </p:nvSpPr>
          <p:spPr>
            <a:xfrm>
              <a:off x="5004000" y="306828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94760" y="2866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72880" y="285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V="1">
            <a:off x="5292720" y="2349360"/>
            <a:ext cx="259092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3068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883640" y="2349360"/>
            <a:ext cx="0" cy="144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8520" y="2637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90760" y="1932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73480" y="306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1160" y="3659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4500720" y="2852640"/>
            <a:ext cx="790560" cy="2160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789440" y="2997000"/>
            <a:ext cx="790560" cy="2156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uz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C/R a 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642200" y="2565360"/>
            <a:ext cx="3985200" cy="382320"/>
            <a:chOff x="4642200" y="2565360"/>
            <a:chExt cx="3985200" cy="382320"/>
          </a:xfrm>
        </p:grpSpPr>
        <p:sp>
          <p:nvSpPr>
            <p:cNvPr id="227" name=""/>
            <p:cNvSpPr/>
            <p:nvPr/>
          </p:nvSpPr>
          <p:spPr>
            <a:xfrm>
              <a:off x="4951440" y="278100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42200" y="2579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20320" y="256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flipH="1">
            <a:off x="5289120" y="35020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5289120" y="206208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7881840" y="278100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89480" y="205992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29280" y="1644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09480" y="2421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25680" y="351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5520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 rot="10800000">
            <a:off x="6588000" y="2491560"/>
            <a:ext cx="5774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13280" y="2421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949680" y="5372280"/>
            <a:ext cx="3985200" cy="382320"/>
            <a:chOff x="949680" y="5372280"/>
            <a:chExt cx="3985200" cy="382320"/>
          </a:xfrm>
        </p:grpSpPr>
        <p:sp>
          <p:nvSpPr>
            <p:cNvPr id="241" name=""/>
            <p:cNvSpPr/>
            <p:nvPr/>
          </p:nvSpPr>
          <p:spPr>
            <a:xfrm>
              <a:off x="1258920" y="558792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4968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2780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547640" y="486900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47640" y="486900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138560" y="486864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89080" y="4724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83640" y="4653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2840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8644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47640" y="558972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26764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86160" y="55101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075640" y="5372280"/>
            <a:ext cx="3985200" cy="382320"/>
            <a:chOff x="5075640" y="5372280"/>
            <a:chExt cx="3985200" cy="382320"/>
          </a:xfrm>
        </p:grpSpPr>
        <p:sp>
          <p:nvSpPr>
            <p:cNvPr id="255" name=""/>
            <p:cNvSpPr/>
            <p:nvPr/>
          </p:nvSpPr>
          <p:spPr>
            <a:xfrm>
              <a:off x="5384880" y="558792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7564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75376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651640" y="4508640"/>
            <a:ext cx="259236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51640" y="4508640"/>
            <a:ext cx="21960" cy="1079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8243640" y="5589360"/>
            <a:ext cx="2052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5436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1240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73600" y="558972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639360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2120" y="55101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280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868000" y="2133720"/>
            <a:ext cx="1890720" cy="2815920"/>
            <a:chOff x="5868000" y="2133720"/>
            <a:chExt cx="1890720" cy="2815920"/>
          </a:xfrm>
        </p:grpSpPr>
        <p:sp>
          <p:nvSpPr>
            <p:cNvPr id="289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 flipV="1">
            <a:off x="2122920" y="342864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5478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547826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484360" y="3499920"/>
            <a:ext cx="50328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rot="19480800">
            <a:off x="6935400" y="3404160"/>
            <a:ext cx="577080" cy="112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75" y="5102"/>
                </a:moveTo>
                <a:arcTo wR="10800" hR="10800" stAng="-1910423" swAng="1910393"/>
                <a:lnTo>
                  <a:pt x="10800" y="10800"/>
                </a:lnTo>
                <a:close/>
              </a:path>
              <a:path fill="none" w="21600" h="21600">
                <a:moveTo>
                  <a:pt x="19975" y="5102"/>
                </a:moveTo>
                <a:arcTo wR="10800" hR="10800" stAng="-1910423" swAng="1910393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372000" y="4076640"/>
            <a:ext cx="431640" cy="214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 rec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n ser paralelas o cort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se cortan están en la misma línea de re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356000" y="1600200"/>
            <a:ext cx="4608720" cy="4462560"/>
          </a:xfrm>
          <a:prstGeom prst="rect">
            <a:avLst/>
          </a:prstGeom>
          <a:ln w="0">
            <a:noFill/>
          </a:ln>
        </p:spPr>
      </p:pic>
      <p:grpSp>
        <p:nvGrpSpPr>
          <p:cNvPr id="302" name=""/>
          <p:cNvGrpSpPr/>
          <p:nvPr/>
        </p:nvGrpSpPr>
        <p:grpSpPr>
          <a:xfrm>
            <a:off x="6174720" y="2430360"/>
            <a:ext cx="1930680" cy="1720800"/>
            <a:chOff x="6174720" y="2430360"/>
            <a:chExt cx="1930680" cy="1720800"/>
          </a:xfrm>
        </p:grpSpPr>
        <p:grpSp>
          <p:nvGrpSpPr>
            <p:cNvPr id="303" name=""/>
            <p:cNvGrpSpPr/>
            <p:nvPr/>
          </p:nvGrpSpPr>
          <p:grpSpPr>
            <a:xfrm>
              <a:off x="6248160" y="2774880"/>
              <a:ext cx="1584360" cy="1297080"/>
              <a:chOff x="6248160" y="2774880"/>
              <a:chExt cx="1584360" cy="1297080"/>
            </a:xfrm>
          </p:grpSpPr>
          <p:sp>
            <p:nvSpPr>
              <p:cNvPr id="304" name=""/>
              <p:cNvSpPr/>
              <p:nvPr/>
            </p:nvSpPr>
            <p:spPr>
              <a:xfrm flipV="1">
                <a:off x="6537240" y="2774880"/>
                <a:ext cx="0" cy="1008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6392880" y="3495240"/>
                <a:ext cx="0" cy="431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248160" y="4071960"/>
                <a:ext cx="13687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680160" y="3639960"/>
                <a:ext cx="11523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6174720" y="2430360"/>
              <a:ext cx="1930680" cy="1720800"/>
              <a:chOff x="6174720" y="2430360"/>
              <a:chExt cx="1930680" cy="1720800"/>
            </a:xfrm>
          </p:grpSpPr>
          <p:sp>
            <p:nvSpPr>
              <p:cNvPr id="309" name=""/>
              <p:cNvSpPr/>
              <p:nvPr/>
            </p:nvSpPr>
            <p:spPr>
              <a:xfrm>
                <a:off x="6537240" y="2774880"/>
                <a:ext cx="1079640" cy="12970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392880" y="3495600"/>
                <a:ext cx="1439640" cy="14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389640" y="24303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611480" y="378288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174720" y="313524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756920" y="34164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4581720" cy="511164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5219640" y="2565000"/>
            <a:ext cx="3241800" cy="2519640"/>
            <a:chOff x="5219640" y="2565000"/>
            <a:chExt cx="3241800" cy="2519640"/>
          </a:xfrm>
        </p:grpSpPr>
        <p:sp>
          <p:nvSpPr>
            <p:cNvPr id="317" name=""/>
            <p:cNvSpPr/>
            <p:nvPr/>
          </p:nvSpPr>
          <p:spPr>
            <a:xfrm>
              <a:off x="5580000" y="2852640"/>
              <a:ext cx="2521080" cy="1297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80000" y="4149720"/>
              <a:ext cx="2521080" cy="93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219640" y="2565000"/>
              <a:ext cx="2665440" cy="1584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5292720" y="4076280"/>
              <a:ext cx="3168720" cy="792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588000" y="3357720"/>
              <a:ext cx="0" cy="1223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da una recta AB y un punto C fuera de ella trazar una recta horizontal que pase por C y se apoye en la rec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4709880" cy="5256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 flipV="1">
            <a:off x="5364000" y="2420640"/>
            <a:ext cx="136872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364000" y="4005360"/>
            <a:ext cx="1368720" cy="620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596360" y="2924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96360" y="4508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732720" y="2421000"/>
            <a:ext cx="0" cy="1584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64000" y="4005360"/>
            <a:ext cx="0" cy="647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667640" y="2997360"/>
            <a:ext cx="0" cy="158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711120" y="20034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728040" y="3933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150160" y="3638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17840" y="4653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3360" y="2630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667640" y="4437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148360" y="2997360"/>
            <a:ext cx="345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5363640" y="4005000"/>
            <a:ext cx="2737080" cy="718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27640" y="2995560"/>
            <a:ext cx="0" cy="1225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ada dos rectas AB y CD que se cruzan determinar una recta horizontal de cota Z que se apoye en las rectas d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581360" cy="51120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5580000" y="2637000"/>
            <a:ext cx="2521080" cy="1296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80000" y="3933720"/>
            <a:ext cx="2521080" cy="93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219640" y="2637000"/>
            <a:ext cx="2160720" cy="1296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5364000" y="3933360"/>
            <a:ext cx="2160720" cy="863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141720"/>
            <a:ext cx="0" cy="122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244000" y="3284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44000" y="38606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bjetivo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so de Red de estereográfica y manejo de grandes sets de da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presentación de elementos del espacio en un pl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bjetivos Específicos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forzar notaciones de rumbos y mant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roducir el concepto de estría - line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MOTIV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ómo resumo/entrego los datos de muchas medidas de rumbo y mante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definimos un plano? (en gen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 pu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 en el depur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3 pu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dos rectas, las que pueden cortarse o ser parale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una recta y un punto fuera de 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677960" y="1600200"/>
            <a:ext cx="5786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581120" y="1600200"/>
            <a:ext cx="5980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stereometría: El Plan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próxima cla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613840" y="150012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 rec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403280" y="3068640"/>
            <a:ext cx="5977080" cy="2305080"/>
            <a:chOff x="1403280" y="3068640"/>
            <a:chExt cx="5977080" cy="2305080"/>
          </a:xfrm>
        </p:grpSpPr>
        <p:sp>
          <p:nvSpPr>
            <p:cNvPr id="360" name=""/>
            <p:cNvSpPr/>
            <p:nvPr/>
          </p:nvSpPr>
          <p:spPr>
            <a:xfrm>
              <a:off x="3203640" y="3645000"/>
              <a:ext cx="2448000" cy="36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203640" y="4005360"/>
              <a:ext cx="2376360" cy="93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3564000" y="3212640"/>
              <a:ext cx="2016000" cy="792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3564000" y="4005360"/>
              <a:ext cx="2519280" cy="5032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40360" y="3789360"/>
              <a:ext cx="0" cy="647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03640" y="3645000"/>
              <a:ext cx="0" cy="360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80000" y="4005360"/>
              <a:ext cx="0" cy="936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03280" y="4005360"/>
              <a:ext cx="56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1403280" y="3068640"/>
              <a:ext cx="4824360" cy="936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03280" y="4005360"/>
              <a:ext cx="5977080" cy="1368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ambiando línea de tierra </a:t>
            </a:r>
            <a:br>
              <a:rPr sz="40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para cálculo de manteo o buzamiento apa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4221000"/>
            <a:ext cx="7931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r el buzamiento aparente de la recta N30E/40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40384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11224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e el buzamiento aparente de la recta N30W/55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Qué es una red estereográf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a red estereográfica es una representación en 2 dimensiones de una esfera en la que es posible ubicar estructuras planares como fallas, fracturas, diaclasas, etc. Para esto basta con tener una buena medición del rumbo y manteo de la estruc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ciones estereográ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angula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Ángulos correctos, distancias falsas = Red de WUL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distanci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Distancias correctas, ángulos falsos = Red de SCHM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geología estructural se usa la red de Schmidt, proyectando en el hemisferio inferior. 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 evita una concentración muy grande de puntos en el centro de la red, como ocurriría con una red de Wul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765000"/>
            <a:ext cx="4038480" cy="4359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8320" y="1077840"/>
            <a:ext cx="4038480" cy="3863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42920" y="5734080"/>
            <a:ext cx="78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d de Wulff                                             Red de Schmi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90400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4520" y="1844640"/>
            <a:ext cx="3309840" cy="3889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16480" y="1844640"/>
            <a:ext cx="30006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d de Conteo (Kalsbe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otear todos los datos en la red de schmidt como p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spasar los datos a la red de Kalsb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ar el numero de polos dentro de un hexágono. Anotar este número en el centro del hexág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ar los puntos “al otro lad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lcular los porcenta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= [(Valor del Nodo)/(Total)]*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rear los contor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6227640" y="479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21:43:53Z</dcterms:created>
  <dc:creator>pamela</dc:creator>
  <dc:description/>
  <dc:language>en-US</dc:language>
  <cp:lastModifiedBy>pamela</cp:lastModifiedBy>
  <dcterms:modified xsi:type="dcterms:W3CDTF">2006-08-30T15:57:10Z</dcterms:modified>
  <cp:revision>13</cp:revision>
  <dc:subject/>
  <dc:title>Diapositiva 1</dc:title>
</cp:coreProperties>
</file>