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8.jpeg" ContentType="image/jpeg"/>
  <Override PartName="/ppt/media/image14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22.wmf" ContentType="image/x-wmf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wmf" ContentType="image/x-wmf"/>
  <Override PartName="/ppt/media/image3.png" ContentType="image/png"/>
  <Override PartName="/ppt/media/image5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B61-C53C-43A3-A32D-8AA3E139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004-2961-4FE0-B0BF-7D412355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A89-3CE1-45AE-8EA1-9AC66F11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AEB-B921-41F6-9A48-615260A2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894-75DF-4D04-8047-C9E4123B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B17-0861-4777-A0D0-A1D202D9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68E-5B52-4545-AC0F-776FC24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2A1-2AF3-44A9-9A4E-3C2E682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24D-7F7F-43D6-8FAA-B9C6109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169-ABD6-4D52-A858-7ADB0E2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AC8-D892-4EF0-869D-A8B7A7A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D04-EB9B-4506-8FB7-E42B0B6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F99-60E7-4FAB-BFF4-31B991317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34528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Modelos gauss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90512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-11160" y="38088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Pasquill-Gifford (en Zanetti 199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4800600" cy="36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495680" y="0"/>
          <a:ext cx="4648320" cy="3564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0"/>
                    <a:ext cx="464832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99120" y="304920"/>
            <a:ext cx="635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0492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2280" y="4572000"/>
            <a:ext cx="748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La dispersión vertical es más sensibl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diciones meteorológicas que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ersión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flexión/Absorción total en una superfi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47920" y="3276720"/>
            <a:ext cx="6400800" cy="1371600"/>
            <a:chOff x="1447920" y="3276720"/>
            <a:chExt cx="6400800" cy="1371600"/>
          </a:xfrm>
        </p:grpSpPr>
        <p:sp>
          <p:nvSpPr>
            <p:cNvPr id="136" name=""/>
            <p:cNvSpPr/>
            <p:nvPr/>
          </p:nvSpPr>
          <p:spPr>
            <a:xfrm rot="16200000">
              <a:off x="3390840" y="3009960"/>
              <a:ext cx="1371600" cy="1905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447920" y="3962520"/>
              <a:ext cx="6400800" cy="685800"/>
              <a:chOff x="1447920" y="3962520"/>
              <a:chExt cx="6400800" cy="68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447920" y="4648320"/>
                <a:ext cx="640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24080" y="3962520"/>
                <a:ext cx="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280" y="1523880"/>
                <a:ext cx="868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lt;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791320" y="5029200"/>
                <a:ext cx="973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rot="287400">
            <a:off x="6324120" y="2590920"/>
            <a:ext cx="304920" cy="2438280"/>
          </a:xfrm>
          <a:prstGeom prst="upDownArrow">
            <a:avLst>
              <a:gd name="adj1" fmla="val 50000"/>
              <a:gd name="adj2" fmla="val 15918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24080" y="4648320"/>
            <a:ext cx="1905120" cy="1371600"/>
            <a:chOff x="3124080" y="4648320"/>
            <a:chExt cx="1905120" cy="1371600"/>
          </a:xfrm>
        </p:grpSpPr>
        <p:sp>
          <p:nvSpPr>
            <p:cNvPr id="144" name=""/>
            <p:cNvSpPr/>
            <p:nvPr/>
          </p:nvSpPr>
          <p:spPr>
            <a:xfrm rot="16200000">
              <a:off x="3390840" y="4381560"/>
              <a:ext cx="1371600" cy="1905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posición Seca/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9625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838080"/>
                <a:ext cx="90439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de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*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lí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t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11811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33520" y="2971800"/>
            <a:ext cx="8605800" cy="3314520"/>
            <a:chOff x="533520" y="2971800"/>
            <a:chExt cx="8605800" cy="3314520"/>
          </a:xfrm>
        </p:grpSpPr>
        <p:sp>
          <p:nvSpPr>
            <p:cNvPr id="151" name=""/>
            <p:cNvSpPr/>
            <p:nvPr/>
          </p:nvSpPr>
          <p:spPr>
            <a:xfrm>
              <a:off x="2209680" y="4164120"/>
              <a:ext cx="0" cy="205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33520" y="2971800"/>
              <a:ext cx="8605800" cy="3314520"/>
              <a:chOff x="533520" y="2971800"/>
              <a:chExt cx="8605800" cy="3314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33520" y="6221520"/>
                <a:ext cx="640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182680" y="2971800"/>
                <a:ext cx="6956640" cy="3314520"/>
                <a:chOff x="2182680" y="2971800"/>
                <a:chExt cx="6956640" cy="3314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182680" y="2971800"/>
                  <a:ext cx="6956640" cy="3314520"/>
                </a:xfrm>
                <a:custGeom>
                  <a:avLst/>
                  <a:gdLst/>
                  <a:ahLst/>
                  <a:rect l="l" t="t" r="r" b="b"/>
                  <a:pathLst>
                    <a:path w="4382" h="2088">
                      <a:moveTo>
                        <a:pt x="36" y="789"/>
                      </a:moveTo>
                      <a:cubicBezTo>
                        <a:pt x="144" y="842"/>
                        <a:pt x="198" y="865"/>
                        <a:pt x="303" y="900"/>
                      </a:cubicBezTo>
                      <a:cubicBezTo>
                        <a:pt x="313" y="959"/>
                        <a:pt x="296" y="1025"/>
                        <a:pt x="325" y="1077"/>
                      </a:cubicBezTo>
                      <a:cubicBezTo>
                        <a:pt x="362" y="1144"/>
                        <a:pt x="440" y="1151"/>
                        <a:pt x="503" y="1166"/>
                      </a:cubicBezTo>
                      <a:cubicBezTo>
                        <a:pt x="594" y="1269"/>
                        <a:pt x="658" y="1322"/>
                        <a:pt x="792" y="1355"/>
                      </a:cubicBezTo>
                      <a:cubicBezTo>
                        <a:pt x="796" y="1388"/>
                        <a:pt x="786" y="1426"/>
                        <a:pt x="803" y="1455"/>
                      </a:cubicBezTo>
                      <a:cubicBezTo>
                        <a:pt x="822" y="1487"/>
                        <a:pt x="859" y="1504"/>
                        <a:pt x="892" y="1522"/>
                      </a:cubicBezTo>
                      <a:cubicBezTo>
                        <a:pt x="1046" y="1605"/>
                        <a:pt x="1210" y="1630"/>
                        <a:pt x="1381" y="1644"/>
                      </a:cubicBezTo>
                      <a:cubicBezTo>
                        <a:pt x="1396" y="1654"/>
                        <a:pt x="1452" y="1690"/>
                        <a:pt x="1459" y="1700"/>
                      </a:cubicBezTo>
                      <a:cubicBezTo>
                        <a:pt x="1478" y="1726"/>
                        <a:pt x="1478" y="1767"/>
                        <a:pt x="1503" y="1788"/>
                      </a:cubicBezTo>
                      <a:cubicBezTo>
                        <a:pt x="1527" y="1808"/>
                        <a:pt x="1562" y="1806"/>
                        <a:pt x="1592" y="1811"/>
                      </a:cubicBezTo>
                      <a:cubicBezTo>
                        <a:pt x="1677" y="1825"/>
                        <a:pt x="1763" y="1833"/>
                        <a:pt x="1848" y="1844"/>
                      </a:cubicBezTo>
                      <a:cubicBezTo>
                        <a:pt x="1878" y="1848"/>
                        <a:pt x="1937" y="1855"/>
                        <a:pt x="1937" y="1855"/>
                      </a:cubicBezTo>
                      <a:cubicBezTo>
                        <a:pt x="1959" y="1877"/>
                        <a:pt x="1995" y="1944"/>
                        <a:pt x="2025" y="1955"/>
                      </a:cubicBezTo>
                      <a:cubicBezTo>
                        <a:pt x="2053" y="1965"/>
                        <a:pt x="2084" y="1962"/>
                        <a:pt x="2114" y="1966"/>
                      </a:cubicBezTo>
                      <a:cubicBezTo>
                        <a:pt x="2176" y="2058"/>
                        <a:pt x="2095" y="1947"/>
                        <a:pt x="2170" y="2022"/>
                      </a:cubicBezTo>
                      <a:cubicBezTo>
                        <a:pt x="2190" y="2042"/>
                        <a:pt x="2205" y="2068"/>
                        <a:pt x="2225" y="2088"/>
                      </a:cubicBezTo>
                      <a:cubicBezTo>
                        <a:pt x="2281" y="2070"/>
                        <a:pt x="2301" y="2021"/>
                        <a:pt x="2359" y="2000"/>
                      </a:cubicBezTo>
                      <a:cubicBezTo>
                        <a:pt x="2424" y="1977"/>
                        <a:pt x="2380" y="1989"/>
                        <a:pt x="2492" y="1977"/>
                      </a:cubicBezTo>
                      <a:cubicBezTo>
                        <a:pt x="2765" y="1993"/>
                        <a:pt x="2969" y="2013"/>
                        <a:pt x="3237" y="2022"/>
                      </a:cubicBezTo>
                      <a:cubicBezTo>
                        <a:pt x="3274" y="2026"/>
                        <a:pt x="3311" y="2030"/>
                        <a:pt x="3348" y="2033"/>
                      </a:cubicBezTo>
                      <a:cubicBezTo>
                        <a:pt x="3437" y="2041"/>
                        <a:pt x="3615" y="2055"/>
                        <a:pt x="3615" y="2055"/>
                      </a:cubicBezTo>
                      <a:cubicBezTo>
                        <a:pt x="3852" y="2033"/>
                        <a:pt x="4096" y="2048"/>
                        <a:pt x="4326" y="1988"/>
                      </a:cubicBezTo>
                      <a:cubicBezTo>
                        <a:pt x="4382" y="1973"/>
                        <a:pt x="4221" y="1938"/>
                        <a:pt x="4170" y="1911"/>
                      </a:cubicBezTo>
                      <a:cubicBezTo>
                        <a:pt x="3851" y="1742"/>
                        <a:pt x="4092" y="1853"/>
                        <a:pt x="3815" y="1733"/>
                      </a:cubicBezTo>
                      <a:cubicBezTo>
                        <a:pt x="3631" y="1428"/>
                        <a:pt x="3852" y="1774"/>
                        <a:pt x="3681" y="1555"/>
                      </a:cubicBezTo>
                      <a:cubicBezTo>
                        <a:pt x="3636" y="1498"/>
                        <a:pt x="3654" y="1390"/>
                        <a:pt x="3637" y="1322"/>
                      </a:cubicBezTo>
                      <a:cubicBezTo>
                        <a:pt x="3590" y="1139"/>
                        <a:pt x="3582" y="849"/>
                        <a:pt x="3348" y="811"/>
                      </a:cubicBezTo>
                      <a:cubicBezTo>
                        <a:pt x="3355" y="774"/>
                        <a:pt x="3360" y="737"/>
                        <a:pt x="3370" y="700"/>
                      </a:cubicBezTo>
                      <a:cubicBezTo>
                        <a:pt x="3379" y="666"/>
                        <a:pt x="3403" y="600"/>
                        <a:pt x="3403" y="600"/>
                      </a:cubicBezTo>
                      <a:cubicBezTo>
                        <a:pt x="3422" y="420"/>
                        <a:pt x="3408" y="535"/>
                        <a:pt x="3448" y="300"/>
                      </a:cubicBezTo>
                      <a:cubicBezTo>
                        <a:pt x="3452" y="278"/>
                        <a:pt x="3459" y="233"/>
                        <a:pt x="3459" y="233"/>
                      </a:cubicBezTo>
                      <a:cubicBezTo>
                        <a:pt x="3457" y="212"/>
                        <a:pt x="3438" y="35"/>
                        <a:pt x="3426" y="11"/>
                      </a:cubicBezTo>
                      <a:cubicBezTo>
                        <a:pt x="3421" y="0"/>
                        <a:pt x="3403" y="4"/>
                        <a:pt x="3392" y="0"/>
                      </a:cubicBezTo>
                      <a:cubicBezTo>
                        <a:pt x="3354" y="58"/>
                        <a:pt x="3328" y="66"/>
                        <a:pt x="3259" y="77"/>
                      </a:cubicBezTo>
                      <a:cubicBezTo>
                        <a:pt x="3070" y="146"/>
                        <a:pt x="2850" y="82"/>
                        <a:pt x="2648" y="122"/>
                      </a:cubicBezTo>
                      <a:cubicBezTo>
                        <a:pt x="2573" y="195"/>
                        <a:pt x="2538" y="219"/>
                        <a:pt x="2437" y="244"/>
                      </a:cubicBezTo>
                      <a:cubicBezTo>
                        <a:pt x="2356" y="321"/>
                        <a:pt x="2254" y="309"/>
                        <a:pt x="2148" y="322"/>
                      </a:cubicBezTo>
                      <a:cubicBezTo>
                        <a:pt x="2020" y="364"/>
                        <a:pt x="1967" y="368"/>
                        <a:pt x="1814" y="377"/>
                      </a:cubicBezTo>
                      <a:cubicBezTo>
                        <a:pt x="1756" y="393"/>
                        <a:pt x="1636" y="411"/>
                        <a:pt x="1636" y="411"/>
                      </a:cubicBezTo>
                      <a:cubicBezTo>
                        <a:pt x="1568" y="456"/>
                        <a:pt x="1533" y="454"/>
                        <a:pt x="1448" y="477"/>
                      </a:cubicBezTo>
                      <a:cubicBezTo>
                        <a:pt x="1414" y="486"/>
                        <a:pt x="1378" y="492"/>
                        <a:pt x="1348" y="511"/>
                      </a:cubicBezTo>
                      <a:cubicBezTo>
                        <a:pt x="1337" y="518"/>
                        <a:pt x="1327" y="532"/>
                        <a:pt x="1314" y="533"/>
                      </a:cubicBezTo>
                      <a:cubicBezTo>
                        <a:pt x="1218" y="543"/>
                        <a:pt x="1121" y="540"/>
                        <a:pt x="1025" y="544"/>
                      </a:cubicBezTo>
                      <a:cubicBezTo>
                        <a:pt x="873" y="574"/>
                        <a:pt x="752" y="592"/>
                        <a:pt x="592" y="600"/>
                      </a:cubicBezTo>
                      <a:cubicBezTo>
                        <a:pt x="499" y="631"/>
                        <a:pt x="411" y="641"/>
                        <a:pt x="314" y="655"/>
                      </a:cubicBezTo>
                      <a:cubicBezTo>
                        <a:pt x="262" y="677"/>
                        <a:pt x="212" y="703"/>
                        <a:pt x="159" y="722"/>
                      </a:cubicBezTo>
                      <a:cubicBezTo>
                        <a:pt x="138" y="730"/>
                        <a:pt x="113" y="724"/>
                        <a:pt x="92" y="733"/>
                      </a:cubicBezTo>
                      <a:cubicBezTo>
                        <a:pt x="67" y="743"/>
                        <a:pt x="25" y="777"/>
                        <a:pt x="25" y="777"/>
                      </a:cubicBezTo>
                      <a:cubicBezTo>
                        <a:pt x="23" y="784"/>
                        <a:pt x="0" y="852"/>
                        <a:pt x="3" y="855"/>
                      </a:cubicBezTo>
                      <a:cubicBezTo>
                        <a:pt x="12" y="864"/>
                        <a:pt x="25" y="840"/>
                        <a:pt x="36" y="833"/>
                      </a:cubicBezTo>
                      <a:cubicBezTo>
                        <a:pt x="40" y="818"/>
                        <a:pt x="40" y="802"/>
                        <a:pt x="47" y="789"/>
                      </a:cubicBezTo>
                      <a:cubicBezTo>
                        <a:pt x="55" y="773"/>
                        <a:pt x="110" y="739"/>
                        <a:pt x="36" y="789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09680" y="41641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286000" y="4164120"/>
                  <a:ext cx="388620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45040" y="4187880"/>
                  <a:ext cx="795240" cy="495360"/>
                </a:xfrm>
                <a:custGeom>
                  <a:avLst/>
                  <a:gdLst/>
                  <a:ahLst/>
                  <a:rect l="l" t="t" r="r" b="b"/>
                  <a:pathLst>
                    <a:path w="501" h="312">
                      <a:moveTo>
                        <a:pt x="501" y="0"/>
                      </a:moveTo>
                      <a:cubicBezTo>
                        <a:pt x="498" y="28"/>
                        <a:pt x="497" y="106"/>
                        <a:pt x="478" y="145"/>
                      </a:cubicBezTo>
                      <a:cubicBezTo>
                        <a:pt x="456" y="189"/>
                        <a:pt x="459" y="171"/>
                        <a:pt x="423" y="200"/>
                      </a:cubicBezTo>
                      <a:cubicBezTo>
                        <a:pt x="283" y="312"/>
                        <a:pt x="182" y="289"/>
                        <a:pt x="0" y="28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68880" y="4164120"/>
                  <a:ext cx="372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0" y="2209680"/>
                <a:ext cx="727560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elevación del penach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puje de los gases a la salida de la chime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401940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3657600"/>
          <a:ext cx="762012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57600"/>
                    <a:ext cx="7620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81960" y="49370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=h+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enachos y gradientes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8534520" cy="618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533520" y="3579480"/>
            <a:ext cx="8610480" cy="2772000"/>
            <a:chOff x="533520" y="3579480"/>
            <a:chExt cx="8610480" cy="2772000"/>
          </a:xfrm>
        </p:grpSpPr>
        <p:grpSp>
          <p:nvGrpSpPr>
            <p:cNvPr id="169" name=""/>
            <p:cNvGrpSpPr/>
            <p:nvPr/>
          </p:nvGrpSpPr>
          <p:grpSpPr>
            <a:xfrm>
              <a:off x="685800" y="6248160"/>
              <a:ext cx="8369280" cy="103320"/>
              <a:chOff x="685800" y="6248160"/>
              <a:chExt cx="8369280" cy="103320"/>
            </a:xfrm>
          </p:grpSpPr>
          <p:sp>
            <p:nvSpPr>
              <p:cNvPr id="170" name=""/>
              <p:cNvSpPr/>
              <p:nvPr/>
            </p:nvSpPr>
            <p:spPr>
              <a:xfrm>
                <a:off x="2730600" y="6248160"/>
                <a:ext cx="632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5800" y="6261120"/>
                <a:ext cx="2011320" cy="90360"/>
              </a:xfrm>
              <a:custGeom>
                <a:avLst/>
                <a:gdLst/>
                <a:ahLst/>
                <a:rect l="l" t="t" r="r" b="b"/>
                <a:pathLst>
                  <a:path w="1267" h="57">
                    <a:moveTo>
                      <a:pt x="1267" y="0"/>
                    </a:moveTo>
                    <a:cubicBezTo>
                      <a:pt x="1245" y="4"/>
                      <a:pt x="1221" y="3"/>
                      <a:pt x="1200" y="11"/>
                    </a:cubicBezTo>
                    <a:cubicBezTo>
                      <a:pt x="1169" y="22"/>
                      <a:pt x="1111" y="56"/>
                      <a:pt x="1111" y="56"/>
                    </a:cubicBezTo>
                    <a:cubicBezTo>
                      <a:pt x="999" y="49"/>
                      <a:pt x="935" y="37"/>
                      <a:pt x="833" y="23"/>
                    </a:cubicBezTo>
                    <a:cubicBezTo>
                      <a:pt x="778" y="27"/>
                      <a:pt x="722" y="26"/>
                      <a:pt x="667" y="34"/>
                    </a:cubicBezTo>
                    <a:cubicBezTo>
                      <a:pt x="644" y="37"/>
                      <a:pt x="600" y="56"/>
                      <a:pt x="600" y="56"/>
                    </a:cubicBezTo>
                    <a:cubicBezTo>
                      <a:pt x="537" y="52"/>
                      <a:pt x="473" y="57"/>
                      <a:pt x="411" y="45"/>
                    </a:cubicBezTo>
                    <a:cubicBezTo>
                      <a:pt x="393" y="41"/>
                      <a:pt x="385" y="13"/>
                      <a:pt x="367" y="11"/>
                    </a:cubicBezTo>
                    <a:cubicBezTo>
                      <a:pt x="245" y="1"/>
                      <a:pt x="122" y="11"/>
                      <a:pt x="0" y="11"/>
                    </a:cubicBezTo>
                  </a:path>
                </a:pathLst>
              </a:custGeom>
              <a:noFill/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33520" y="525744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066680" y="3581280"/>
              <a:ext cx="4209840" cy="2673000"/>
              <a:chOff x="1066680" y="3581280"/>
              <a:chExt cx="4209840" cy="2673000"/>
            </a:xfrm>
          </p:grpSpPr>
          <p:sp>
            <p:nvSpPr>
              <p:cNvPr id="174" name=""/>
              <p:cNvSpPr/>
              <p:nvPr/>
            </p:nvSpPr>
            <p:spPr>
              <a:xfrm>
                <a:off x="2690640" y="5027760"/>
                <a:ext cx="152280" cy="122652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66680" y="3581280"/>
                <a:ext cx="4209840" cy="1483200"/>
              </a:xfrm>
              <a:custGeom>
                <a:avLst/>
                <a:gdLst/>
                <a:ahLst/>
                <a:rect l="l" t="t" r="r" b="b"/>
                <a:pathLst>
                  <a:path w="2652" h="1335">
                    <a:moveTo>
                      <a:pt x="1082" y="1333"/>
                    </a:moveTo>
                    <a:cubicBezTo>
                      <a:pt x="1229" y="1325"/>
                      <a:pt x="1349" y="1301"/>
                      <a:pt x="1493" y="1288"/>
                    </a:cubicBezTo>
                    <a:cubicBezTo>
                      <a:pt x="1548" y="1270"/>
                      <a:pt x="1589" y="1244"/>
                      <a:pt x="1638" y="1211"/>
                    </a:cubicBezTo>
                    <a:cubicBezTo>
                      <a:pt x="1649" y="1204"/>
                      <a:pt x="1658" y="1192"/>
                      <a:pt x="1671" y="1188"/>
                    </a:cubicBezTo>
                    <a:cubicBezTo>
                      <a:pt x="1738" y="1166"/>
                      <a:pt x="1813" y="1118"/>
                      <a:pt x="1882" y="1111"/>
                    </a:cubicBezTo>
                    <a:cubicBezTo>
                      <a:pt x="2019" y="1097"/>
                      <a:pt x="1956" y="1106"/>
                      <a:pt x="2071" y="1088"/>
                    </a:cubicBezTo>
                    <a:cubicBezTo>
                      <a:pt x="2165" y="1057"/>
                      <a:pt x="2117" y="1080"/>
                      <a:pt x="2204" y="1022"/>
                    </a:cubicBezTo>
                    <a:cubicBezTo>
                      <a:pt x="2215" y="1015"/>
                      <a:pt x="2238" y="1000"/>
                      <a:pt x="2238" y="1000"/>
                    </a:cubicBezTo>
                    <a:cubicBezTo>
                      <a:pt x="2254" y="975"/>
                      <a:pt x="2315" y="912"/>
                      <a:pt x="2338" y="900"/>
                    </a:cubicBezTo>
                    <a:cubicBezTo>
                      <a:pt x="2358" y="890"/>
                      <a:pt x="2382" y="892"/>
                      <a:pt x="2404" y="888"/>
                    </a:cubicBezTo>
                    <a:cubicBezTo>
                      <a:pt x="2415" y="873"/>
                      <a:pt x="2426" y="858"/>
                      <a:pt x="2438" y="844"/>
                    </a:cubicBezTo>
                    <a:cubicBezTo>
                      <a:pt x="2448" y="832"/>
                      <a:pt x="2461" y="823"/>
                      <a:pt x="2471" y="811"/>
                    </a:cubicBezTo>
                    <a:cubicBezTo>
                      <a:pt x="2496" y="780"/>
                      <a:pt x="2504" y="744"/>
                      <a:pt x="2527" y="711"/>
                    </a:cubicBezTo>
                    <a:cubicBezTo>
                      <a:pt x="2535" y="685"/>
                      <a:pt x="2538" y="658"/>
                      <a:pt x="2549" y="633"/>
                    </a:cubicBezTo>
                    <a:cubicBezTo>
                      <a:pt x="2602" y="510"/>
                      <a:pt x="2538" y="708"/>
                      <a:pt x="2593" y="555"/>
                    </a:cubicBezTo>
                    <a:cubicBezTo>
                      <a:pt x="2625" y="466"/>
                      <a:pt x="2629" y="434"/>
                      <a:pt x="2649" y="344"/>
                    </a:cubicBezTo>
                    <a:cubicBezTo>
                      <a:pt x="2645" y="285"/>
                      <a:pt x="2652" y="224"/>
                      <a:pt x="2638" y="166"/>
                    </a:cubicBezTo>
                    <a:cubicBezTo>
                      <a:pt x="2637" y="162"/>
                      <a:pt x="2582" y="150"/>
                      <a:pt x="2560" y="144"/>
                    </a:cubicBezTo>
                    <a:cubicBezTo>
                      <a:pt x="2534" y="137"/>
                      <a:pt x="2509" y="127"/>
                      <a:pt x="2482" y="122"/>
                    </a:cubicBezTo>
                    <a:cubicBezTo>
                      <a:pt x="2351" y="96"/>
                      <a:pt x="2215" y="86"/>
                      <a:pt x="2082" y="77"/>
                    </a:cubicBezTo>
                    <a:cubicBezTo>
                      <a:pt x="1905" y="48"/>
                      <a:pt x="2159" y="87"/>
                      <a:pt x="1793" y="55"/>
                    </a:cubicBezTo>
                    <a:cubicBezTo>
                      <a:pt x="1608" y="39"/>
                      <a:pt x="1422" y="23"/>
                      <a:pt x="1238" y="0"/>
                    </a:cubicBezTo>
                    <a:cubicBezTo>
                      <a:pt x="791" y="6"/>
                      <a:pt x="452" y="17"/>
                      <a:pt x="37" y="44"/>
                    </a:cubicBezTo>
                    <a:cubicBezTo>
                      <a:pt x="109" y="377"/>
                      <a:pt x="0" y="371"/>
                      <a:pt x="215" y="344"/>
                    </a:cubicBezTo>
                    <a:cubicBezTo>
                      <a:pt x="237" y="341"/>
                      <a:pt x="260" y="337"/>
                      <a:pt x="282" y="333"/>
                    </a:cubicBezTo>
                    <a:cubicBezTo>
                      <a:pt x="371" y="337"/>
                      <a:pt x="460" y="338"/>
                      <a:pt x="549" y="344"/>
                    </a:cubicBezTo>
                    <a:cubicBezTo>
                      <a:pt x="616" y="349"/>
                      <a:pt x="683" y="377"/>
                      <a:pt x="749" y="388"/>
                    </a:cubicBezTo>
                    <a:cubicBezTo>
                      <a:pt x="871" y="430"/>
                      <a:pt x="989" y="438"/>
                      <a:pt x="1115" y="455"/>
                    </a:cubicBezTo>
                    <a:cubicBezTo>
                      <a:pt x="1334" y="485"/>
                      <a:pt x="1537" y="502"/>
                      <a:pt x="1760" y="511"/>
                    </a:cubicBezTo>
                    <a:cubicBezTo>
                      <a:pt x="1893" y="527"/>
                      <a:pt x="2027" y="533"/>
                      <a:pt x="2160" y="544"/>
                    </a:cubicBezTo>
                    <a:cubicBezTo>
                      <a:pt x="2164" y="577"/>
                      <a:pt x="2171" y="610"/>
                      <a:pt x="2171" y="644"/>
                    </a:cubicBezTo>
                    <a:cubicBezTo>
                      <a:pt x="2171" y="787"/>
                      <a:pt x="2103" y="790"/>
                      <a:pt x="2004" y="855"/>
                    </a:cubicBezTo>
                    <a:cubicBezTo>
                      <a:pt x="1953" y="889"/>
                      <a:pt x="1886" y="890"/>
                      <a:pt x="1826" y="900"/>
                    </a:cubicBezTo>
                    <a:cubicBezTo>
                      <a:pt x="1782" y="907"/>
                      <a:pt x="1693" y="922"/>
                      <a:pt x="1693" y="922"/>
                    </a:cubicBezTo>
                    <a:cubicBezTo>
                      <a:pt x="1636" y="951"/>
                      <a:pt x="1604" y="957"/>
                      <a:pt x="1538" y="966"/>
                    </a:cubicBezTo>
                    <a:cubicBezTo>
                      <a:pt x="1467" y="989"/>
                      <a:pt x="1434" y="1014"/>
                      <a:pt x="1382" y="1066"/>
                    </a:cubicBezTo>
                    <a:cubicBezTo>
                      <a:pt x="1355" y="1150"/>
                      <a:pt x="1346" y="1113"/>
                      <a:pt x="1282" y="1177"/>
                    </a:cubicBezTo>
                    <a:cubicBezTo>
                      <a:pt x="1243" y="1216"/>
                      <a:pt x="1203" y="1254"/>
                      <a:pt x="1160" y="1288"/>
                    </a:cubicBezTo>
                    <a:cubicBezTo>
                      <a:pt x="1100" y="1335"/>
                      <a:pt x="1119" y="1333"/>
                      <a:pt x="1082" y="1333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V="1">
              <a:off x="2286000" y="4266720"/>
              <a:ext cx="5867280" cy="19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12000">
              <a:off x="6248160" y="358128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513560" y="4343040"/>
              <a:ext cx="1630440" cy="1981080"/>
              <a:chOff x="7513560" y="4343040"/>
              <a:chExt cx="1630440" cy="1981080"/>
            </a:xfrm>
          </p:grpSpPr>
          <p:sp>
            <p:nvSpPr>
              <p:cNvPr id="179" name=""/>
              <p:cNvSpPr/>
              <p:nvPr/>
            </p:nvSpPr>
            <p:spPr>
              <a:xfrm>
                <a:off x="7513560" y="4343040"/>
                <a:ext cx="228600" cy="19810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51480 h 1981080"/>
                  <a:gd name="textAreaBottom" fmla="*/ 192960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0520" y="4689000"/>
                <a:ext cx="1113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ap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d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ezc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439560" y="-1800"/>
            <a:ext cx="8704440" cy="3000600"/>
            <a:chOff x="439560" y="-1800"/>
            <a:chExt cx="8704440" cy="3000600"/>
          </a:xfrm>
        </p:grpSpPr>
        <p:sp>
          <p:nvSpPr>
            <p:cNvPr id="182" name=""/>
            <p:cNvSpPr/>
            <p:nvPr/>
          </p:nvSpPr>
          <p:spPr>
            <a:xfrm>
              <a:off x="2362320" y="1676520"/>
              <a:ext cx="152280" cy="12268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9560" y="761760"/>
              <a:ext cx="8704440" cy="2237040"/>
              <a:chOff x="439560" y="761760"/>
              <a:chExt cx="8704440" cy="2237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2331720" y="1295280"/>
                <a:ext cx="4586400" cy="1482840"/>
                <a:chOff x="2331720" y="1295280"/>
                <a:chExt cx="4586400" cy="1482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31720" y="1474920"/>
                  <a:ext cx="3264120" cy="339480"/>
                </a:xfrm>
                <a:custGeom>
                  <a:avLst/>
                  <a:gdLst/>
                  <a:ahLst/>
                  <a:rect l="l" t="t" r="r" b="b"/>
                  <a:pathLst>
                    <a:path w="2056" h="306">
                      <a:moveTo>
                        <a:pt x="39" y="148"/>
                      </a:moveTo>
                      <a:lnTo>
                        <a:pt x="58" y="182"/>
                      </a:lnTo>
                      <a:lnTo>
                        <a:pt x="67" y="182"/>
                      </a:lnTo>
                      <a:lnTo>
                        <a:pt x="78" y="173"/>
                      </a:lnTo>
                      <a:lnTo>
                        <a:pt x="87" y="173"/>
                      </a:lnTo>
                      <a:lnTo>
                        <a:pt x="96" y="164"/>
                      </a:lnTo>
                      <a:lnTo>
                        <a:pt x="96" y="153"/>
                      </a:lnTo>
                      <a:lnTo>
                        <a:pt x="106" y="153"/>
                      </a:lnTo>
                      <a:lnTo>
                        <a:pt x="106" y="144"/>
                      </a:lnTo>
                      <a:lnTo>
                        <a:pt x="126" y="144"/>
                      </a:lnTo>
                      <a:lnTo>
                        <a:pt x="135" y="134"/>
                      </a:lnTo>
                      <a:lnTo>
                        <a:pt x="135" y="125"/>
                      </a:lnTo>
                      <a:lnTo>
                        <a:pt x="165" y="125"/>
                      </a:lnTo>
                      <a:lnTo>
                        <a:pt x="183" y="105"/>
                      </a:lnTo>
                      <a:lnTo>
                        <a:pt x="242" y="105"/>
                      </a:lnTo>
                      <a:lnTo>
                        <a:pt x="252" y="96"/>
                      </a:lnTo>
                      <a:lnTo>
                        <a:pt x="290" y="96"/>
                      </a:lnTo>
                      <a:lnTo>
                        <a:pt x="290" y="87"/>
                      </a:lnTo>
                      <a:lnTo>
                        <a:pt x="368" y="87"/>
                      </a:lnTo>
                      <a:lnTo>
                        <a:pt x="377" y="76"/>
                      </a:lnTo>
                      <a:lnTo>
                        <a:pt x="427" y="76"/>
                      </a:lnTo>
                      <a:lnTo>
                        <a:pt x="436" y="67"/>
                      </a:lnTo>
                      <a:lnTo>
                        <a:pt x="553" y="67"/>
                      </a:lnTo>
                      <a:lnTo>
                        <a:pt x="562" y="58"/>
                      </a:lnTo>
                      <a:lnTo>
                        <a:pt x="669" y="58"/>
                      </a:lnTo>
                      <a:lnTo>
                        <a:pt x="726" y="49"/>
                      </a:lnTo>
                      <a:lnTo>
                        <a:pt x="795" y="49"/>
                      </a:lnTo>
                      <a:lnTo>
                        <a:pt x="854" y="38"/>
                      </a:lnTo>
                      <a:lnTo>
                        <a:pt x="881" y="38"/>
                      </a:lnTo>
                      <a:lnTo>
                        <a:pt x="892" y="29"/>
                      </a:lnTo>
                      <a:lnTo>
                        <a:pt x="1114" y="29"/>
                      </a:lnTo>
                      <a:lnTo>
                        <a:pt x="1125" y="20"/>
                      </a:lnTo>
                      <a:lnTo>
                        <a:pt x="1406" y="20"/>
                      </a:lnTo>
                      <a:lnTo>
                        <a:pt x="1406" y="11"/>
                      </a:lnTo>
                      <a:lnTo>
                        <a:pt x="2006" y="11"/>
                      </a:lnTo>
                      <a:lnTo>
                        <a:pt x="2017" y="0"/>
                      </a:lnTo>
                      <a:lnTo>
                        <a:pt x="2036" y="0"/>
                      </a:lnTo>
                      <a:lnTo>
                        <a:pt x="2036" y="220"/>
                      </a:lnTo>
                      <a:lnTo>
                        <a:pt x="2045" y="220"/>
                      </a:lnTo>
                      <a:lnTo>
                        <a:pt x="2045" y="258"/>
                      </a:lnTo>
                      <a:lnTo>
                        <a:pt x="2056" y="258"/>
                      </a:lnTo>
                      <a:lnTo>
                        <a:pt x="2056" y="306"/>
                      </a:lnTo>
                      <a:lnTo>
                        <a:pt x="1445" y="306"/>
                      </a:lnTo>
                      <a:lnTo>
                        <a:pt x="1424" y="297"/>
                      </a:lnTo>
                      <a:lnTo>
                        <a:pt x="1251" y="297"/>
                      </a:lnTo>
                      <a:lnTo>
                        <a:pt x="1173" y="287"/>
                      </a:lnTo>
                      <a:lnTo>
                        <a:pt x="854" y="287"/>
                      </a:lnTo>
                      <a:lnTo>
                        <a:pt x="843" y="278"/>
                      </a:lnTo>
                      <a:lnTo>
                        <a:pt x="446" y="278"/>
                      </a:lnTo>
                      <a:lnTo>
                        <a:pt x="368" y="268"/>
                      </a:lnTo>
                      <a:lnTo>
                        <a:pt x="311" y="258"/>
                      </a:lnTo>
                      <a:lnTo>
                        <a:pt x="290" y="258"/>
                      </a:lnTo>
                      <a:lnTo>
                        <a:pt x="272" y="249"/>
                      </a:lnTo>
                      <a:lnTo>
                        <a:pt x="252" y="249"/>
                      </a:lnTo>
                      <a:lnTo>
                        <a:pt x="242" y="240"/>
                      </a:lnTo>
                      <a:lnTo>
                        <a:pt x="165" y="240"/>
                      </a:lnTo>
                      <a:lnTo>
                        <a:pt x="155" y="229"/>
                      </a:lnTo>
                      <a:lnTo>
                        <a:pt x="135" y="220"/>
                      </a:lnTo>
                      <a:lnTo>
                        <a:pt x="39" y="220"/>
                      </a:lnTo>
                      <a:lnTo>
                        <a:pt x="19" y="211"/>
                      </a:lnTo>
                      <a:lnTo>
                        <a:pt x="19" y="182"/>
                      </a:lnTo>
                      <a:lnTo>
                        <a:pt x="10" y="182"/>
                      </a:lnTo>
                      <a:lnTo>
                        <a:pt x="10" y="173"/>
                      </a:lnTo>
                      <a:lnTo>
                        <a:pt x="0" y="173"/>
                      </a:lnTo>
                      <a:lnTo>
                        <a:pt x="39" y="240"/>
                      </a:lnTo>
                      <a:lnTo>
                        <a:pt x="78" y="191"/>
                      </a:lnTo>
                      <a:lnTo>
                        <a:pt x="78" y="182"/>
                      </a:lnTo>
                      <a:lnTo>
                        <a:pt x="67" y="182"/>
                      </a:lnTo>
                      <a:lnTo>
                        <a:pt x="67" y="202"/>
                      </a:lnTo>
                      <a:lnTo>
                        <a:pt x="78" y="202"/>
                      </a:lnTo>
                      <a:lnTo>
                        <a:pt x="96" y="220"/>
                      </a:lnTo>
                      <a:lnTo>
                        <a:pt x="117" y="220"/>
                      </a:lnTo>
                      <a:lnTo>
                        <a:pt x="117" y="173"/>
                      </a:lnTo>
                      <a:lnTo>
                        <a:pt x="96" y="173"/>
                      </a:lnTo>
                      <a:lnTo>
                        <a:pt x="96" y="211"/>
                      </a:lnTo>
                      <a:lnTo>
                        <a:pt x="96" y="202"/>
                      </a:lnTo>
                      <a:lnTo>
                        <a:pt x="78" y="202"/>
                      </a:lnTo>
                      <a:lnTo>
                        <a:pt x="78" y="182"/>
                      </a:lnTo>
                      <a:lnTo>
                        <a:pt x="39" y="1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78160" y="1295280"/>
                  <a:ext cx="1839960" cy="1482840"/>
                </a:xfrm>
                <a:custGeom>
                  <a:avLst/>
                  <a:gdLst/>
                  <a:ahLst/>
                  <a:rect l="l" t="t" r="r" b="b"/>
                  <a:pathLst>
                    <a:path w="1159" h="1334">
                      <a:moveTo>
                        <a:pt x="199" y="489"/>
                      </a:moveTo>
                      <a:cubicBezTo>
                        <a:pt x="8" y="587"/>
                        <a:pt x="88" y="547"/>
                        <a:pt x="99" y="867"/>
                      </a:cubicBezTo>
                      <a:cubicBezTo>
                        <a:pt x="76" y="913"/>
                        <a:pt x="65" y="939"/>
                        <a:pt x="22" y="967"/>
                      </a:cubicBezTo>
                      <a:cubicBezTo>
                        <a:pt x="9" y="1044"/>
                        <a:pt x="0" y="1234"/>
                        <a:pt x="44" y="1300"/>
                      </a:cubicBezTo>
                      <a:cubicBezTo>
                        <a:pt x="57" y="1320"/>
                        <a:pt x="88" y="1319"/>
                        <a:pt x="111" y="1323"/>
                      </a:cubicBezTo>
                      <a:cubicBezTo>
                        <a:pt x="151" y="1330"/>
                        <a:pt x="192" y="1330"/>
                        <a:pt x="233" y="1334"/>
                      </a:cubicBezTo>
                      <a:cubicBezTo>
                        <a:pt x="337" y="1330"/>
                        <a:pt x="441" y="1330"/>
                        <a:pt x="544" y="1323"/>
                      </a:cubicBezTo>
                      <a:cubicBezTo>
                        <a:pt x="655" y="1315"/>
                        <a:pt x="877" y="1289"/>
                        <a:pt x="877" y="1289"/>
                      </a:cubicBezTo>
                      <a:cubicBezTo>
                        <a:pt x="897" y="1171"/>
                        <a:pt x="923" y="1049"/>
                        <a:pt x="955" y="934"/>
                      </a:cubicBezTo>
                      <a:cubicBezTo>
                        <a:pt x="966" y="894"/>
                        <a:pt x="978" y="810"/>
                        <a:pt x="1000" y="778"/>
                      </a:cubicBezTo>
                      <a:cubicBezTo>
                        <a:pt x="1020" y="749"/>
                        <a:pt x="1110" y="737"/>
                        <a:pt x="1122" y="734"/>
                      </a:cubicBezTo>
                      <a:cubicBezTo>
                        <a:pt x="1133" y="704"/>
                        <a:pt x="1159" y="676"/>
                        <a:pt x="1155" y="645"/>
                      </a:cubicBezTo>
                      <a:cubicBezTo>
                        <a:pt x="1140" y="535"/>
                        <a:pt x="1096" y="430"/>
                        <a:pt x="1066" y="323"/>
                      </a:cubicBezTo>
                      <a:cubicBezTo>
                        <a:pt x="1051" y="269"/>
                        <a:pt x="1049" y="212"/>
                        <a:pt x="988" y="178"/>
                      </a:cubicBezTo>
                      <a:cubicBezTo>
                        <a:pt x="929" y="145"/>
                        <a:pt x="854" y="167"/>
                        <a:pt x="788" y="156"/>
                      </a:cubicBezTo>
                      <a:cubicBezTo>
                        <a:pt x="708" y="50"/>
                        <a:pt x="555" y="93"/>
                        <a:pt x="466" y="0"/>
                      </a:cubicBezTo>
                      <a:cubicBezTo>
                        <a:pt x="396" y="21"/>
                        <a:pt x="331" y="46"/>
                        <a:pt x="266" y="78"/>
                      </a:cubicBezTo>
                      <a:cubicBezTo>
                        <a:pt x="230" y="190"/>
                        <a:pt x="238" y="305"/>
                        <a:pt x="233" y="423"/>
                      </a:cubicBezTo>
                      <a:cubicBezTo>
                        <a:pt x="237" y="449"/>
                        <a:pt x="254" y="476"/>
                        <a:pt x="244" y="500"/>
                      </a:cubicBezTo>
                      <a:cubicBezTo>
                        <a:pt x="239" y="512"/>
                        <a:pt x="224" y="478"/>
                        <a:pt x="211" y="478"/>
                      </a:cubicBezTo>
                      <a:cubicBezTo>
                        <a:pt x="194" y="478"/>
                        <a:pt x="178" y="489"/>
                        <a:pt x="166" y="500"/>
                      </a:cubicBezTo>
                      <a:cubicBezTo>
                        <a:pt x="157" y="508"/>
                        <a:pt x="188" y="493"/>
                        <a:pt x="199" y="489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V="1">
                <a:off x="2027160" y="761760"/>
                <a:ext cx="5867280" cy="198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439560" y="2895480"/>
                <a:ext cx="8369280" cy="103320"/>
                <a:chOff x="439560" y="2895480"/>
                <a:chExt cx="8369280" cy="103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484360" y="2895480"/>
                  <a:ext cx="632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9560" y="2908440"/>
                  <a:ext cx="2011320" cy="90360"/>
                </a:xfrm>
                <a:custGeom>
                  <a:avLst/>
                  <a:gdLst/>
                  <a:ahLst/>
                  <a:rect l="l" t="t" r="r" b="b"/>
                  <a:pathLst>
                    <a:path w="1267" h="57">
                      <a:moveTo>
                        <a:pt x="1267" y="0"/>
                      </a:moveTo>
                      <a:cubicBezTo>
                        <a:pt x="1245" y="4"/>
                        <a:pt x="1221" y="3"/>
                        <a:pt x="1200" y="11"/>
                      </a:cubicBezTo>
                      <a:cubicBezTo>
                        <a:pt x="1169" y="22"/>
                        <a:pt x="1111" y="56"/>
                        <a:pt x="1111" y="56"/>
                      </a:cubicBezTo>
                      <a:cubicBezTo>
                        <a:pt x="999" y="49"/>
                        <a:pt x="935" y="37"/>
                        <a:pt x="833" y="23"/>
                      </a:cubicBezTo>
                      <a:cubicBezTo>
                        <a:pt x="778" y="27"/>
                        <a:pt x="722" y="26"/>
                        <a:pt x="667" y="34"/>
                      </a:cubicBezTo>
                      <a:cubicBezTo>
                        <a:pt x="644" y="37"/>
                        <a:pt x="600" y="56"/>
                        <a:pt x="600" y="56"/>
                      </a:cubicBezTo>
                      <a:cubicBezTo>
                        <a:pt x="537" y="52"/>
                        <a:pt x="473" y="57"/>
                        <a:pt x="411" y="45"/>
                      </a:cubicBezTo>
                      <a:cubicBezTo>
                        <a:pt x="393" y="41"/>
                        <a:pt x="385" y="13"/>
                        <a:pt x="367" y="11"/>
                      </a:cubicBezTo>
                      <a:cubicBezTo>
                        <a:pt x="245" y="1"/>
                        <a:pt x="122" y="11"/>
                        <a:pt x="0" y="11"/>
                      </a:cubicBezTo>
                    </a:path>
                  </a:pathLst>
                </a:custGeom>
                <a:noFill/>
                <a:ln w="57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502920" y="1828800"/>
                <a:ext cx="990720" cy="457200"/>
              </a:xfrm>
              <a:prstGeom prst="rightArrow">
                <a:avLst>
                  <a:gd name="adj1" fmla="val 50000"/>
                  <a:gd name="adj2" fmla="val 5417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513560" y="914400"/>
                <a:ext cx="1630440" cy="1981080"/>
                <a:chOff x="7513560" y="914400"/>
                <a:chExt cx="1630440" cy="19810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513560" y="914400"/>
                  <a:ext cx="228600" cy="1981080"/>
                </a:xfrm>
                <a:custGeom>
                  <a:avLst/>
                  <a:gdLst>
                    <a:gd name="textAreaLeft" fmla="*/ 0 w 228600"/>
                    <a:gd name="textAreaRight" fmla="*/ 82440 w 228600"/>
                    <a:gd name="textAreaTop" fmla="*/ 51480 h 1981080"/>
                    <a:gd name="textAreaBottom" fmla="*/ 192960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30520" y="1260360"/>
                  <a:ext cx="1113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p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d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ezcl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 rot="10812000">
              <a:off x="6400800" y="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resentación1" descr=""/>
          <p:cNvPicPr/>
          <p:nvPr/>
        </p:nvPicPr>
        <p:blipFill>
          <a:blip r:embed="rId1"/>
          <a:stretch/>
        </p:blipFill>
        <p:spPr>
          <a:xfrm>
            <a:off x="343080" y="0"/>
            <a:ext cx="84582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Fáciles de usar (y adquir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Solución sencilla a problemas comp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Se alimentan con inf. meteorológica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empí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ejan bi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. quí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enos comp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ípicamente, para modelos gaussian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ideales (gaussianas): cerca (10 km), tiempos cortos de promedio (min-hr), terreno plano, meteorología constant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10-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m salvo fuentes en altura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20-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no tan ideales pero no extremas....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facto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extremas tipo bordes costeros...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rden de magn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acionar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362400" y="1933560"/>
          <a:ext cx="5603760" cy="176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1933560"/>
                    <a:ext cx="5603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4920" y="3581280"/>
                <a:ext cx="8305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 = </m:t>
                    </m:r>
                    <m:f>
                      <m:num>
                        <m:r>
                          <m:t xml:space="preserve">DM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373040" y="4954680"/>
            <a:ext cx="5940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safío: ¡¡Estimar los sigmas y las trayectorias de los “puffs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9160" y="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ttp://www.risoe.dk/vea-atu/atm_disp/rimpuff/rp_ind2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anejan situaciones no estacio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anejan situaciones de viento en ca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empí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n inf. meteorológica detal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ejan bi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. quí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92720" y="400536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n aplicable es un modelo gaussiano estacionario para evaluar el impacto ambiental, en cuanto a ozono, de esta termoeléct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369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210040" cy="2651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1196640" cy="1300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ehuenco en el Valle del Aconc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238640" y="549360"/>
            <a:ext cx="490536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 económico no despreciable que requiere mejor cuantificación y monito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1104840" cy="10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436572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concentraciones de ozono en la V reg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&gt;Pérdida de biomasa …paltas, duraznos, vid de m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&gt;Costos: ~6.5 MUS$ o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32628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barra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10544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4643280" y="981000"/>
            <a:ext cx="3805200" cy="2884680"/>
            <a:chOff x="4643280" y="981000"/>
            <a:chExt cx="3805200" cy="2884680"/>
          </a:xfrm>
        </p:grpSpPr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6238800" y="981000"/>
              <a:ext cx="2209680" cy="26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4643280" y="2565360"/>
              <a:ext cx="119700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6265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delación inversa y asimilación de da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Marcelo Cor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Jérôme Hi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Jaime Ortega/Laura Gall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olcanes andinos: ¿qué implican para la química atmosférica a escalas local, regional y global?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Mauricio Ro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</a:rPr>
              <a:t>Tomás Op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ura Gallardo/Alvaro Am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rización de deposición húm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ernanda Balad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Milena Muñ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edro Sanz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rice Sau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Laura Gall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nóxido de carbono en Santia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</a:rPr>
              <a:t>Pablo Sa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Felipe S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ura Gallardo/Sebastián Tolve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10400" y="2417760"/>
            <a:ext cx="21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sistencia técn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sabel R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drigo Del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ín Jac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prendiendo a usar 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pción 1: Miércoles 10+1 de Octubre (12-1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pción 2: Sábado 14 de Octubre (11-13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Laboratorio de Geoinfor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http://mct.dgf.uchile.cl/LABORATORIOS/lab_geoinformat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partamento de Geofísica (2do Piso) – F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Blanco Encalada 2002 - Santiag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56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59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62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65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68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828800" y="304920"/>
            <a:ext cx="3951360" cy="5257800"/>
            <a:chOff x="1828800" y="304920"/>
            <a:chExt cx="3951360" cy="52578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28800" y="3124080"/>
              <a:ext cx="20574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3886200" y="304920"/>
              <a:ext cx="18939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895480" y="609480"/>
              <a:ext cx="701640" cy="7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1080" y="5791320"/>
            <a:ext cx="8914320" cy="1068120"/>
            <a:chOff x="1080" y="5791320"/>
            <a:chExt cx="8914320" cy="1068120"/>
          </a:xfrm>
        </p:grpSpPr>
        <p:sp>
          <p:nvSpPr>
            <p:cNvPr id="79" name=""/>
            <p:cNvSpPr/>
            <p:nvPr/>
          </p:nvSpPr>
          <p:spPr>
            <a:xfrm>
              <a:off x="228600" y="60958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002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848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10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26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93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660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41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34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Times New Roman"/>
                </a:rPr>
                <a:t>0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81480" y="228600"/>
            <a:ext cx="3733920" cy="5286240"/>
            <a:chOff x="5181480" y="228600"/>
            <a:chExt cx="3733920" cy="52862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5791320" y="22860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5181480" y="3352680"/>
              <a:ext cx="2219400" cy="2162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7" name=""/>
            <p:cNvGraphicFramePr/>
            <p:nvPr/>
          </p:nvGraphicFramePr>
          <p:xfrm>
            <a:off x="6553080" y="2057400"/>
            <a:ext cx="2300400" cy="247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53080" y="2057400"/>
                      <a:ext cx="2300400" cy="24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0" y="914400"/>
            <a:ext cx="3049560" cy="4419720"/>
            <a:chOff x="0" y="914400"/>
            <a:chExt cx="3049560" cy="4419720"/>
          </a:xfrm>
        </p:grpSpPr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1447920" y="1600200"/>
              <a:ext cx="1601640" cy="13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0" y="914400"/>
              <a:ext cx="2057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3520" y="4267080"/>
              <a:ext cx="838080" cy="10670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32448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erias de tiempo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920" y="5257800"/>
            <a:ext cx="84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ttp://www.rpi.edu/dept/chem-eng/Biotech-Environ/SYSTEMS/plume/gaussia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920" y="5840280"/>
            <a:ext cx="66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ttp://www.chemalliance.org/Columns/Industry/Ind990816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0"/>
                <a:ext cx="883908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95936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9200" y="2417760"/>
            <a:ext cx="8410680" cy="2914560"/>
            <a:chOff x="349200" y="2417760"/>
            <a:chExt cx="8410680" cy="2914560"/>
          </a:xfrm>
        </p:grpSpPr>
        <p:graphicFrame>
          <p:nvGraphicFramePr>
            <p:cNvPr id="113" name=""/>
            <p:cNvGraphicFramePr/>
            <p:nvPr/>
          </p:nvGraphicFramePr>
          <p:xfrm>
            <a:off x="349200" y="2417760"/>
            <a:ext cx="8410680" cy="2914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200" y="2417760"/>
                      <a:ext cx="8410680" cy="29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5029200" y="328284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3280" y="4116240"/>
              <a:ext cx="106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297080" y="5564160"/>
            <a:ext cx="662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 rot="16200000">
            <a:off x="4117680" y="1980720"/>
            <a:ext cx="739080" cy="135360"/>
          </a:xfrm>
          <a:prstGeom prst="curvedConnector5">
            <a:avLst>
              <a:gd name="adj1" fmla="val 49853"/>
              <a:gd name="adj2" fmla="val 49866"/>
              <a:gd name="adj3" fmla="val 4985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sigmas se determinan empíricamente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0" y="762120"/>
                <a:ext cx="41911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43400" y="762120"/>
                <a:ext cx="4495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0" y="2819520"/>
          <a:ext cx="914400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914400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6-10-04T15:18:19Z</dcterms:modified>
  <cp:revision>39</cp:revision>
  <dc:subject/>
  <dc:title>Transformaciones</dc:title>
</cp:coreProperties>
</file>