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5.jpeg" ContentType="image/jpeg"/>
  <Override PartName="/ppt/media/image12.wmf" ContentType="image/x-wmf"/>
  <Override PartName="/ppt/media/image7.jpeg" ContentType="image/jpeg"/>
  <Override PartName="/ppt/media/image31.wmf" ContentType="image/x-wmf"/>
  <Override PartName="/ppt/media/image27.png" ContentType="image/png"/>
  <Override PartName="/ppt/media/image30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9.jpeg" ContentType="image/jpeg"/>
  <Override PartName="/ppt/media/image29.jpeg" ContentType="image/jpeg"/>
  <Override PartName="/ppt/media/image8.jpeg" ContentType="image/jpeg"/>
  <Override PartName="/ppt/media/image13.wmf" ContentType="image/x-wmf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14F-4063-42E7-90CC-A14AD4A5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2B3-8FFD-44DC-BDAE-6F3C5C7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93C-DC0C-4F84-A92D-4230563D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707-2B20-4488-AF22-447D577D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B69-D77E-4B6A-8C3A-BCAE5B33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839-F637-40C5-B345-000B91F8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017-BFFB-4F1A-8DD2-FA45609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CB3-7DCE-4E74-8DBA-AC12962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399-1C0F-4E99-B0C7-5FEED00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D8D-87B9-4526-9B72-329324A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E25-C9C9-4A77-9A0D-03823E6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23D-F1F7-4F9A-8617-84E8523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EAC3-C535-4579-AFD7-E891853EA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claración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0" y="4941720"/>
            <a:ext cx="2879640" cy="915840"/>
            <a:chOff x="4572000" y="4941720"/>
            <a:chExt cx="2879640" cy="915840"/>
          </a:xfrm>
        </p:grpSpPr>
        <p:sp>
          <p:nvSpPr>
            <p:cNvPr id="45" name=""/>
            <p:cNvSpPr/>
            <p:nvPr/>
          </p:nvSpPr>
          <p:spPr>
            <a:xfrm>
              <a:off x="4723560" y="4941720"/>
              <a:ext cx="2636640" cy="2368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728040" y="5182560"/>
              <a:ext cx="0" cy="659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5087880" y="5158440"/>
              <a:ext cx="0" cy="69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5447880"/>
              <a:ext cx="117900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59880" y="5447880"/>
              <a:ext cx="139176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940360" y="5300640"/>
            <a:ext cx="1609920" cy="698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102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0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23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29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30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33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53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58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61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69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78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81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Declaración púb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r diversos motivos, incluyendo cambio de casa, viajes y otros compromisos académicos, la profesora de este curso ha incurrido en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“notable abandono de deberes”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 lo relativo a la corrección de la tare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 situación se subnará en el día de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da alumno recibirá un bono de 2 puntos de nota en dicha tarea u otra si proced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995640" cy="275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546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e Point, Sept 20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995400" cy="74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96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223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24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28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39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40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nóstico del tiempo químico: ¿cuál es el estado del arte?, ¿qué se está haciendo en América del sur y en Chile? Punto de parti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ema de biomasa y pirocúmulus en el Amaz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olcanes andinos: ¿qué implican para la química atmosférica a escalas local, regional y glob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ación del dimetil sulfuro en modelos atmosfér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 tema a acordar con la pro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metrizaciones de deposición húm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Simulaciones de CO en Santi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9074160" cy="151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De qué depende la formación/destrucción de ozono en la tropó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526080" y="2492280"/>
            <a:ext cx="2222640" cy="2571840"/>
            <a:chOff x="6526080" y="2492280"/>
            <a:chExt cx="2222640" cy="2571840"/>
          </a:xfrm>
        </p:grpSpPr>
        <p:sp>
          <p:nvSpPr>
            <p:cNvPr id="63" name=""/>
            <p:cNvSpPr/>
            <p:nvPr/>
          </p:nvSpPr>
          <p:spPr>
            <a:xfrm>
              <a:off x="7164360" y="2616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37670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77920" y="249228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26080" y="44164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84960" y="3351240"/>
              <a:ext cx="1428840" cy="1128600"/>
            </a:xfrm>
            <a:custGeom>
              <a:avLst/>
              <a:gdLst/>
              <a:ahLst/>
              <a:rect l="l" t="t" r="r" b="b"/>
              <a:pathLst>
                <a:path w="900" h="711">
                  <a:moveTo>
                    <a:pt x="0" y="711"/>
                  </a:moveTo>
                  <a:cubicBezTo>
                    <a:pt x="55" y="546"/>
                    <a:pt x="119" y="397"/>
                    <a:pt x="216" y="252"/>
                  </a:cubicBezTo>
                  <a:cubicBezTo>
                    <a:pt x="246" y="207"/>
                    <a:pt x="259" y="158"/>
                    <a:pt x="306" y="126"/>
                  </a:cubicBezTo>
                  <a:cubicBezTo>
                    <a:pt x="332" y="87"/>
                    <a:pt x="360" y="38"/>
                    <a:pt x="405" y="18"/>
                  </a:cubicBezTo>
                  <a:cubicBezTo>
                    <a:pt x="422" y="10"/>
                    <a:pt x="459" y="0"/>
                    <a:pt x="459" y="0"/>
                  </a:cubicBezTo>
                  <a:cubicBezTo>
                    <a:pt x="507" y="4"/>
                    <a:pt x="574" y="3"/>
                    <a:pt x="621" y="27"/>
                  </a:cubicBezTo>
                  <a:cubicBezTo>
                    <a:pt x="708" y="70"/>
                    <a:pt x="798" y="135"/>
                    <a:pt x="900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26440" y="414972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93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73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588000" y="0"/>
            <a:ext cx="2411280" cy="1506600"/>
            <a:chOff x="6588000" y="0"/>
            <a:chExt cx="2411280" cy="1506600"/>
          </a:xfrm>
        </p:grpSpPr>
        <p:grpSp>
          <p:nvGrpSpPr>
            <p:cNvPr id="77" name=""/>
            <p:cNvGrpSpPr/>
            <p:nvPr/>
          </p:nvGrpSpPr>
          <p:grpSpPr>
            <a:xfrm>
              <a:off x="6588000" y="364320"/>
              <a:ext cx="2411280" cy="653400"/>
              <a:chOff x="6588000" y="364320"/>
              <a:chExt cx="2411280" cy="653400"/>
            </a:xfrm>
          </p:grpSpPr>
          <p:sp>
            <p:nvSpPr>
              <p:cNvPr id="78" name=""/>
              <p:cNvSpPr/>
              <p:nvPr/>
            </p:nvSpPr>
            <p:spPr>
              <a:xfrm>
                <a:off x="839664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7056720" y="535680"/>
                <a:ext cx="4017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58480" y="36432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994520" y="536040"/>
                <a:ext cx="602640" cy="2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922800" y="501840"/>
                <a:ext cx="46872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666120" y="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8480" y="9252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dical hidrox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5832360" cy="218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1164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http://www.atmosphere.mpg.de/enid/24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8244000" cy="6527880"/>
            <a:chOff x="0" y="0"/>
            <a:chExt cx="8244000" cy="65278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874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3860640"/>
              <a:ext cx="2843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radical OH es el “detergente” de la atmósfera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agente que le da su carácter oxida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4932360" y="4133880"/>
              <a:ext cx="3311640" cy="23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238880" y="260280"/>
            <a:ext cx="190512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6-09-27T15:57:26Z</dcterms:modified>
  <cp:revision>29</cp:revision>
  <dc:subject/>
  <dc:title>Transformaciones</dc:title>
</cp:coreProperties>
</file>