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5.jpeg" ContentType="image/jpeg"/>
  <Override PartName="/ppt/media/image12.wmf" ContentType="image/x-wmf"/>
  <Override PartName="/ppt/media/image7.jpeg" ContentType="image/jpeg"/>
  <Override PartName="/ppt/media/image31.wmf" ContentType="image/x-wmf"/>
  <Override PartName="/ppt/media/image27.png" ContentType="image/png"/>
  <Override PartName="/ppt/media/image30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9.jpeg" ContentType="image/jpeg"/>
  <Override PartName="/ppt/media/image29.jpeg" ContentType="image/jpeg"/>
  <Override PartName="/ppt/media/image8.jpeg" ContentType="image/jpeg"/>
  <Override PartName="/ppt/media/image13.wmf" ContentType="image/x-wmf"/>
  <Override PartName="/ppt/media/image4.jpeg" ContentType="image/jpeg"/>
  <Override PartName="/ppt/media/image25.jpeg" ContentType="image/jpeg"/>
  <Override PartName="/ppt/media/image28.wmf" ContentType="image/x-wmf"/>
  <Override PartName="/ppt/media/image3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21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0C2-DA07-4032-A2F2-BBC00D59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56D-8875-44BA-A350-610BCA11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BE0-09DC-4DEC-870E-4A220CF5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A2A-EAC7-48E8-8535-BDBAB2EF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358-6944-4CC7-83F3-006F9DBD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838-02DB-41B6-AA74-8AF3589D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ECA-6947-4940-9D36-5EA2FC3E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616-BC7B-4805-8CA9-AB2F22C3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D54-EB66-42A8-B58E-8DC91979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3E5-9A57-4A5C-BA7A-323D9279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960-D93D-498A-A257-9F45F1A8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ADC7-57B7-4AE3-85DA-FD8EC3BF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456B-7A16-430D-B67C-55A1B378F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2276280"/>
            <a:ext cx="77738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claración púb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Decibamus hier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: OZONO y capacidad oxidativa de la atmósf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ecanismos de remoción (Deposi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úm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F 5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ación atmosférica orientada a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0" y="4941720"/>
            <a:ext cx="2879640" cy="915840"/>
            <a:chOff x="4572000" y="4941720"/>
            <a:chExt cx="2879640" cy="915840"/>
          </a:xfrm>
        </p:grpSpPr>
        <p:sp>
          <p:nvSpPr>
            <p:cNvPr id="45" name=""/>
            <p:cNvSpPr/>
            <p:nvPr/>
          </p:nvSpPr>
          <p:spPr>
            <a:xfrm>
              <a:off x="4723560" y="4941720"/>
              <a:ext cx="2636640" cy="23688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ispersión y transform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728040" y="5182560"/>
              <a:ext cx="0" cy="659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5087880" y="5158440"/>
              <a:ext cx="0" cy="699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0" y="5447880"/>
              <a:ext cx="1179000" cy="26100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mis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59880" y="5447880"/>
              <a:ext cx="1391760" cy="26100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mo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5940360" y="5300640"/>
            <a:ext cx="1609920" cy="6984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90720" y="1600200"/>
            <a:ext cx="7226280" cy="2895120"/>
            <a:chOff x="990720" y="1600200"/>
            <a:chExt cx="7226280" cy="2895120"/>
          </a:xfrm>
        </p:grpSpPr>
        <p:sp>
          <p:nvSpPr>
            <p:cNvPr id="102" name=""/>
            <p:cNvSpPr/>
            <p:nvPr/>
          </p:nvSpPr>
          <p:spPr>
            <a:xfrm>
              <a:off x="1371600" y="1600200"/>
              <a:ext cx="6616800" cy="74916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Dispersión y transform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2361960"/>
              <a:ext cx="0" cy="2082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2286000" y="2285640"/>
              <a:ext cx="0" cy="2209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0720" y="3200040"/>
              <a:ext cx="295884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Em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24280" y="3200040"/>
              <a:ext cx="349272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Remoció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8320" y="2743200"/>
            <a:ext cx="4038480" cy="2209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s de remo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47600" y="261000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osición Húm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1181160" cy="1199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49400" y="428616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4343400"/>
            <a:ext cx="135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U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4572000"/>
            <a:ext cx="1181160" cy="120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962840" y="17524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77320" y="35053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3760" y="914400"/>
            <a:ext cx="83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moción de gases y aerosoles por hidrometeo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276720" y="1905120"/>
            <a:ext cx="4281480" cy="2057400"/>
            <a:chOff x="3276720" y="1905120"/>
            <a:chExt cx="4281480" cy="2057400"/>
          </a:xfrm>
        </p:grpSpPr>
        <p:sp>
          <p:nvSpPr>
            <p:cNvPr id="120" name=""/>
            <p:cNvSpPr/>
            <p:nvPr/>
          </p:nvSpPr>
          <p:spPr>
            <a:xfrm>
              <a:off x="3276720" y="1981080"/>
              <a:ext cx="609480" cy="198144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94240" y="1905120"/>
              <a:ext cx="30639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ub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eblin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luv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ie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7600" y="3296160"/>
            <a:ext cx="8634600" cy="2863080"/>
            <a:chOff x="57600" y="3296160"/>
            <a:chExt cx="8634600" cy="2863080"/>
          </a:xfrm>
        </p:grpSpPr>
        <p:sp>
          <p:nvSpPr>
            <p:cNvPr id="123" name=""/>
            <p:cNvSpPr/>
            <p:nvPr/>
          </p:nvSpPr>
          <p:spPr>
            <a:xfrm rot="5456400">
              <a:off x="4342320" y="533880"/>
              <a:ext cx="914400" cy="777096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202320 h 7770960"/>
                <a:gd name="textAreaBottom" fmla="*/ 7568640 h 777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410000">
              <a:off x="-1080" y="4493160"/>
              <a:ext cx="42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O en estado condens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9279800">
              <a:off x="5006520" y="4276440"/>
              <a:ext cx="33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rrastre/Scaveng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0760" y="5638680"/>
              <a:ext cx="745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ransformaciones de fase y reacciones químic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gua atmosférica y llu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ice" descr=""/>
          <p:cNvPicPr/>
          <p:nvPr/>
        </p:nvPicPr>
        <p:blipFill>
          <a:blip r:embed="rId1"/>
          <a:stretch/>
        </p:blipFill>
        <p:spPr>
          <a:xfrm>
            <a:off x="685800" y="2695680"/>
            <a:ext cx="1504800" cy="1770120"/>
          </a:xfrm>
          <a:prstGeom prst="rect">
            <a:avLst/>
          </a:prstGeom>
          <a:ln w="0">
            <a:noFill/>
          </a:ln>
        </p:spPr>
      </p:pic>
      <p:pic>
        <p:nvPicPr>
          <p:cNvPr id="129" name="liqw" descr=""/>
          <p:cNvPicPr/>
          <p:nvPr/>
        </p:nvPicPr>
        <p:blipFill>
          <a:blip r:embed="rId2"/>
          <a:stretch/>
        </p:blipFill>
        <p:spPr>
          <a:xfrm>
            <a:off x="3948120" y="2695680"/>
            <a:ext cx="1504800" cy="1770120"/>
          </a:xfrm>
          <a:prstGeom prst="rect">
            <a:avLst/>
          </a:prstGeom>
          <a:ln w="0">
            <a:noFill/>
          </a:ln>
        </p:spPr>
      </p:pic>
      <p:pic>
        <p:nvPicPr>
          <p:cNvPr id="130" name="watv" descr=""/>
          <p:cNvPicPr/>
          <p:nvPr/>
        </p:nvPicPr>
        <p:blipFill>
          <a:blip r:embed="rId3"/>
          <a:stretch/>
        </p:blipFill>
        <p:spPr>
          <a:xfrm>
            <a:off x="6629400" y="2685960"/>
            <a:ext cx="1504800" cy="1779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1143000"/>
            <a:ext cx="914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gua (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es un compuesto con una estructura dipolar que se presenta en la atmósfera en fases sólida, líquida y gase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43000" y="4084920"/>
            <a:ext cx="8895240" cy="4301280"/>
            <a:chOff x="243000" y="4084920"/>
            <a:chExt cx="8895240" cy="4301280"/>
          </a:xfrm>
        </p:grpSpPr>
        <p:sp>
          <p:nvSpPr>
            <p:cNvPr id="133" name=""/>
            <p:cNvSpPr/>
            <p:nvPr/>
          </p:nvSpPr>
          <p:spPr>
            <a:xfrm>
              <a:off x="3200400" y="5099040"/>
              <a:ext cx="5410080" cy="520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</a:rPr>
                <a:t>Gota de lluvia (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,1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43000" y="4084920"/>
              <a:ext cx="8895240" cy="4301280"/>
              <a:chOff x="243000" y="4084920"/>
              <a:chExt cx="8895240" cy="430128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879200" y="4084920"/>
                <a:ext cx="4322520" cy="4301280"/>
                <a:chOff x="1879200" y="4084920"/>
                <a:chExt cx="4322520" cy="4301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470320" y="4495680"/>
                  <a:ext cx="27720" cy="2124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648760" y="4495680"/>
                  <a:ext cx="142200" cy="10872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8963600">
                  <a:off x="2311920" y="4914360"/>
                  <a:ext cx="3456720" cy="2642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243000" y="5556240"/>
                <a:ext cx="5719320" cy="5205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Núcleo de condensación (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 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, 10</a:t>
                </a:r>
                <a:r>
                  <a:rPr b="0" lang="es-ES_tradnl" sz="28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4640" y="4648320"/>
                <a:ext cx="3963600" cy="5205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Gota de nube (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, 10</a:t>
                </a:r>
                <a:r>
                  <a:rPr b="0" lang="es-ES_tradnl" sz="28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1447920" y="4571640"/>
                <a:ext cx="106668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>
                <a:off x="5867280" y="4571640"/>
                <a:ext cx="91440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4191120" y="4800600"/>
                <a:ext cx="15228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ara que llu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88748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otas deben crecer. Esto requi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siones y coalesc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ciones entre gotas de agua y cristales de hi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que se den estos procesos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Aeros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vimiento verticales (ascenso y descen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45080" y="0"/>
            <a:ext cx="269892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0"/>
            <a:ext cx="88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Hilding Köhler (1921)...: el agua NO condensa espontáneamente en a atmósfera...debe haber solutos/aero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613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886200" cy="2693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-7920" y="0"/>
            <a:ext cx="667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.igac.noaa.gov/newsletter/23/facchini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400800" y="2590920"/>
            <a:ext cx="2514240" cy="4029840"/>
            <a:chOff x="6400800" y="2590920"/>
            <a:chExt cx="2514240" cy="4029840"/>
          </a:xfrm>
        </p:grpSpPr>
        <p:grpSp>
          <p:nvGrpSpPr>
            <p:cNvPr id="153" name=""/>
            <p:cNvGrpSpPr/>
            <p:nvPr/>
          </p:nvGrpSpPr>
          <p:grpSpPr>
            <a:xfrm>
              <a:off x="7010280" y="3429000"/>
              <a:ext cx="1904760" cy="3191760"/>
              <a:chOff x="7010280" y="3429000"/>
              <a:chExt cx="1904760" cy="3191760"/>
            </a:xfrm>
          </p:grpSpPr>
          <p:pic>
            <p:nvPicPr>
              <p:cNvPr id="1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10280" y="3429000"/>
                <a:ext cx="1792800" cy="152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7110360" y="5002200"/>
                <a:ext cx="1804680" cy="16185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Times New Roman"/>
                  </a:rPr>
                  <a:t>M. Cristina Facchini et al (1999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Dr. Química, Bolog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6400800" y="2590920"/>
              <a:ext cx="8380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238560" y="1256400"/>
            <a:ext cx="1617840" cy="651240"/>
            <a:chOff x="3238560" y="1256400"/>
            <a:chExt cx="1617840" cy="651240"/>
          </a:xfrm>
        </p:grpSpPr>
        <p:sp>
          <p:nvSpPr>
            <p:cNvPr id="158" name=""/>
            <p:cNvSpPr/>
            <p:nvPr/>
          </p:nvSpPr>
          <p:spPr>
            <a:xfrm>
              <a:off x="3505320" y="1447920"/>
              <a:ext cx="135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orga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3238560" y="1256400"/>
              <a:ext cx="989640" cy="30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792160" y="2966760"/>
            <a:ext cx="2532240" cy="1912680"/>
            <a:chOff x="2792160" y="2966760"/>
            <a:chExt cx="2532240" cy="1912680"/>
          </a:xfrm>
        </p:grpSpPr>
        <p:sp>
          <p:nvSpPr>
            <p:cNvPr id="161" name=""/>
            <p:cNvSpPr/>
            <p:nvPr/>
          </p:nvSpPr>
          <p:spPr>
            <a:xfrm>
              <a:off x="2818080" y="4419720"/>
              <a:ext cx="2506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organic+Orga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792160" y="2966760"/>
              <a:ext cx="816120" cy="145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reactores nubo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348080" y="0"/>
            <a:ext cx="479592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4267080" cy="317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733320"/>
            <a:ext cx="861048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uelve una amplia gama de escalas y procesos, desde la microescala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sta la macroescala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34800" y="1676520"/>
            <a:ext cx="8582400" cy="1175760"/>
            <a:chOff x="334800" y="1676520"/>
            <a:chExt cx="8582400" cy="1175760"/>
          </a:xfrm>
        </p:grpSpPr>
        <p:sp>
          <p:nvSpPr>
            <p:cNvPr id="169" name=""/>
            <p:cNvSpPr/>
            <p:nvPr/>
          </p:nvSpPr>
          <p:spPr>
            <a:xfrm>
              <a:off x="334800" y="2209680"/>
              <a:ext cx="8582400" cy="642600"/>
            </a:xfrm>
            <a:prstGeom prst="rect">
              <a:avLst/>
            </a:prstGeom>
            <a:noFill/>
            <a:ln w="507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¡Estos procesos requieren ser parametrizados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1676520"/>
              <a:ext cx="304560" cy="609480"/>
            </a:xfrm>
            <a:prstGeom prst="lightningBol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039680" y="3200400"/>
            <a:ext cx="7736400" cy="3061080"/>
            <a:chOff x="1039680" y="3200400"/>
            <a:chExt cx="7736400" cy="306108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2438280" y="3200400"/>
                  <a:ext cx="3962520" cy="16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Λ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1039680" y="5192640"/>
              <a:ext cx="699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oeficiente de remoción/ “scavenging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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lubilidad, hidrometeoro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86600" y="426708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ípicam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Húme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149640" cy="434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4500720" y="2133720"/>
            <a:ext cx="4338720" cy="2062800"/>
            <a:chOff x="4500720" y="2133720"/>
            <a:chExt cx="4338720" cy="2062800"/>
          </a:xfrm>
        </p:grpSpPr>
        <p:sp>
          <p:nvSpPr>
            <p:cNvPr id="178" name=""/>
            <p:cNvSpPr/>
            <p:nvPr/>
          </p:nvSpPr>
          <p:spPr>
            <a:xfrm>
              <a:off x="5008680" y="2152800"/>
              <a:ext cx="3830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“</a:t>
              </a: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In cloud scavenging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ifus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Ley de Hen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00720" y="2133720"/>
              <a:ext cx="431640" cy="194292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067280" y="4149720"/>
            <a:ext cx="5073480" cy="2014560"/>
            <a:chOff x="4067280" y="4149720"/>
            <a:chExt cx="5073480" cy="2014560"/>
          </a:xfrm>
        </p:grpSpPr>
        <p:sp>
          <p:nvSpPr>
            <p:cNvPr id="181" name=""/>
            <p:cNvSpPr/>
            <p:nvPr/>
          </p:nvSpPr>
          <p:spPr>
            <a:xfrm>
              <a:off x="4505400" y="4149720"/>
              <a:ext cx="4635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“</a:t>
              </a: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Sub-cloud scavenging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cc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Inerci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cc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Col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67280" y="4221000"/>
              <a:ext cx="431640" cy="194328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50400 h 1943280"/>
                <a:gd name="textAreaBottom" fmla="*/ 1892880 h 19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Declaración públ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or diversos motivos, incluyendo cambio de casa, viajes y otros compromisos académicos, la profesora de este curso ha incurrido en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“notable abandono de deberes”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en lo relativo a la corrección de la tarea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a situación se subnará en el día de 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da alumno recibirá un bono de 2 puntos de nota en dicha tarea u otra si procedi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995640" cy="2755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54680" y="61657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e Point, Sept 20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003640" y="5300640"/>
            <a:ext cx="995400" cy="746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72080" y="0"/>
            <a:ext cx="3571920" cy="14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t only collecto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485800" cy="3352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257800" y="1752480"/>
            <a:ext cx="2209680" cy="2068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256360" y="4038480"/>
            <a:ext cx="258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¡Hay mét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ndar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medició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06440" y="5562720"/>
            <a:ext cx="144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=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4519440" cy="6248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487480" y="19368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Y en Chile cuán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5715000" cy="3948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63836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304920" y="-360"/>
            <a:ext cx="8610120" cy="6324120"/>
            <a:chOff x="304920" y="-360"/>
            <a:chExt cx="8610120" cy="6324120"/>
          </a:xfrm>
        </p:grpSpPr>
        <p:sp>
          <p:nvSpPr>
            <p:cNvPr id="196" name=""/>
            <p:cNvSpPr/>
            <p:nvPr/>
          </p:nvSpPr>
          <p:spPr>
            <a:xfrm>
              <a:off x="1850040" y="6138000"/>
              <a:ext cx="5961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29000" y="410868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29000" y="513684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29000" y="256824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3440" y="5373000"/>
              <a:ext cx="28710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Lamin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53440" y="4372200"/>
              <a:ext cx="28710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Superfi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44040" y="3858120"/>
              <a:ext cx="2871000" cy="79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Lím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53440" y="1289520"/>
              <a:ext cx="2871000" cy="79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ropósfera 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29000" y="51372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26760" y="2568240"/>
              <a:ext cx="1440" cy="13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26760" y="4372200"/>
              <a:ext cx="1440" cy="18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850040" y="-360"/>
              <a:ext cx="1440" cy="632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4920" y="4886280"/>
              <a:ext cx="11052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920" y="3859920"/>
              <a:ext cx="11052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4920" y="2317680"/>
              <a:ext cx="1105200" cy="52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k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 txBox="1"/>
          <p:nvPr/>
        </p:nvSpPr>
        <p:spPr>
          <a:xfrm rot="17682600">
            <a:off x="6286320" y="4017960"/>
            <a:ext cx="3419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lujos  turbulento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284720" cy="4221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422600" y="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álogo de Ley de O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177336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17080" y="292428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17080" y="407664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4360" y="144792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istencia 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los flujos turbul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38600" y="2924280"/>
            <a:ext cx="390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s flujos viscosos/lamin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78600" y="4292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stencia Fisiológica/Quí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5157720"/>
            <a:ext cx="415944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40672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Se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46480" y="836640"/>
            <a:ext cx="2324880" cy="1019880"/>
            <a:chOff x="546480" y="836640"/>
            <a:chExt cx="2324880" cy="1019880"/>
          </a:xfrm>
        </p:grpSpPr>
        <p:grpSp>
          <p:nvGrpSpPr>
            <p:cNvPr id="223" name=""/>
            <p:cNvGrpSpPr/>
            <p:nvPr/>
          </p:nvGrpSpPr>
          <p:grpSpPr>
            <a:xfrm>
              <a:off x="546480" y="836640"/>
              <a:ext cx="2324880" cy="1019880"/>
              <a:chOff x="546480" y="836640"/>
              <a:chExt cx="2324880" cy="1019880"/>
            </a:xfrm>
          </p:grpSpPr>
          <p:sp>
            <p:nvSpPr>
              <p:cNvPr id="224" name=""/>
              <p:cNvSpPr/>
              <p:nvPr/>
            </p:nvSpPr>
            <p:spPr>
              <a:xfrm>
                <a:off x="546480" y="1270800"/>
                <a:ext cx="400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487960" y="1396800"/>
                <a:ext cx="3834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308960" y="836640"/>
                <a:ext cx="2829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831240" y="1238400"/>
              <a:ext cx="1375200" cy="560160"/>
              <a:chOff x="831240" y="1238400"/>
              <a:chExt cx="1375200" cy="560160"/>
            </a:xfrm>
          </p:grpSpPr>
          <p:sp>
            <p:nvSpPr>
              <p:cNvPr id="228" name=""/>
              <p:cNvSpPr/>
              <p:nvPr/>
            </p:nvSpPr>
            <p:spPr>
              <a:xfrm>
                <a:off x="1039320" y="123840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831240" y="1238400"/>
                <a:ext cx="1375200" cy="560160"/>
                <a:chOff x="831240" y="1238400"/>
                <a:chExt cx="1375200" cy="5601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1039320" y="1238400"/>
                  <a:ext cx="0" cy="18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" name=""/>
                <p:cNvGrpSpPr/>
                <p:nvPr/>
              </p:nvGrpSpPr>
              <p:grpSpPr>
                <a:xfrm>
                  <a:off x="831240" y="1238400"/>
                  <a:ext cx="1375200" cy="560160"/>
                  <a:chOff x="831240" y="1238400"/>
                  <a:chExt cx="1375200" cy="56016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831240" y="1424880"/>
                    <a:ext cx="485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970200" y="1549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039320" y="1238400"/>
                    <a:ext cx="1167120" cy="560160"/>
                    <a:chOff x="1039320" y="1238400"/>
                    <a:chExt cx="1167120" cy="5601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039320" y="1798560"/>
                      <a:ext cx="901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1885680" y="1253880"/>
                      <a:ext cx="320760" cy="52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408">
                          <a:moveTo>
                            <a:pt x="26" y="0"/>
                          </a:moveTo>
                          <a:cubicBezTo>
                            <a:pt x="30" y="36"/>
                            <a:pt x="38" y="72"/>
                            <a:pt x="38" y="108"/>
                          </a:cubicBezTo>
                          <a:cubicBezTo>
                            <a:pt x="38" y="141"/>
                            <a:pt x="0" y="152"/>
                            <a:pt x="50" y="180"/>
                          </a:cubicBezTo>
                          <a:cubicBezTo>
                            <a:pt x="75" y="194"/>
                            <a:pt x="106" y="197"/>
                            <a:pt x="134" y="204"/>
                          </a:cubicBezTo>
                          <a:cubicBezTo>
                            <a:pt x="158" y="209"/>
                            <a:pt x="182" y="212"/>
                            <a:pt x="206" y="216"/>
                          </a:cubicBezTo>
                          <a:cubicBezTo>
                            <a:pt x="34" y="245"/>
                            <a:pt x="14" y="233"/>
                            <a:pt x="146" y="252"/>
                          </a:cubicBezTo>
                          <a:cubicBezTo>
                            <a:pt x="114" y="256"/>
                            <a:pt x="30" y="239"/>
                            <a:pt x="50" y="264"/>
                          </a:cubicBezTo>
                          <a:cubicBezTo>
                            <a:pt x="82" y="304"/>
                            <a:pt x="222" y="270"/>
                            <a:pt x="194" y="312"/>
                          </a:cubicBezTo>
                          <a:cubicBezTo>
                            <a:pt x="163" y="359"/>
                            <a:pt x="82" y="304"/>
                            <a:pt x="26" y="300"/>
                          </a:cubicBezTo>
                          <a:cubicBezTo>
                            <a:pt x="63" y="356"/>
                            <a:pt x="50" y="322"/>
                            <a:pt x="50" y="40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 flipV="1">
                      <a:off x="1039320" y="1549080"/>
                      <a:ext cx="0" cy="248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1247040" y="1238400"/>
                      <a:ext cx="34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39" name=""/>
          <p:cNvGrpSpPr/>
          <p:nvPr/>
        </p:nvGrpSpPr>
        <p:grpSpPr>
          <a:xfrm>
            <a:off x="8101080" y="1484280"/>
            <a:ext cx="1042920" cy="3889440"/>
            <a:chOff x="8101080" y="1484280"/>
            <a:chExt cx="1042920" cy="3889440"/>
          </a:xfrm>
        </p:grpSpPr>
        <p:sp>
          <p:nvSpPr>
            <p:cNvPr id="240" name=""/>
            <p:cNvSpPr/>
            <p:nvPr/>
          </p:nvSpPr>
          <p:spPr>
            <a:xfrm>
              <a:off x="8388360" y="1484280"/>
              <a:ext cx="1440" cy="388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01080" y="5373720"/>
              <a:ext cx="1042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900000" y="2060640"/>
                <a:ext cx="12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V</m:t>
                    </m:r>
                    <m:r>
                      <m:t xml:space="preserve">=</m:t>
                    </m:r>
                    <m: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033000" y="2178000"/>
            <a:ext cx="34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 hay méto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andari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 med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tamiento en mod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modelos se parametriza en términos de una “velocidad” o tasa de deposición según el medio subyacente, la estabilidad, etc. y típicamente se impone como condición de borde inf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572000" y="4641840"/>
                <a:ext cx="40323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z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*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1684440" cy="11638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659640" y="1700280"/>
            <a:ext cx="2484360" cy="2448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1608120" cy="177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iempo de recambio c/r deposi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140360" y="1773360"/>
                <a:ext cx="1944360" cy="15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24000" y="3789360"/>
            <a:ext cx="415908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940360" y="3716280"/>
                <a:ext cx="23036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_sec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803160" y="553716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Y con respecto a la deposición húme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7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7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S Y GRU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072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nóstico del tiempo químico: ¿cuál es el estado del arte?, ¿qué se está haciendo en América del sur y en Chile? Punto de parti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erosoles y nubes: ¿puede haber una perturbación antrópica de los estratocúmulos costa afuera de Chile? Punto de parti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Quema de biomasa y pirocúmulus en el Amazo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olcanes andinos: ¿qué implican para la química atmosférica a escalas local, regional y glob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ación del dimetil sulfuro en modelos atmosfér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tro tema a acordar con la prof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Parametrizaciones de deposición húm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Simulaciones de CO en Santi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ÚNICA FORM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IR OZONO EN L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OPÓSF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66680" y="2774880"/>
                <a:ext cx="73152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920" y="-27000"/>
            <a:ext cx="9074160" cy="1511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¿De qué depende la formación/destrucción de ozono en la tropósfe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1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presencia de radiación solar y óxidos de nitrógeno (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la oxidación de CO, 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HC da lugar a la formación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ausencia de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os mismos procesos conllevan a la destrucción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526080" y="2492280"/>
            <a:ext cx="2222640" cy="2571840"/>
            <a:chOff x="6526080" y="2492280"/>
            <a:chExt cx="2222640" cy="2571840"/>
          </a:xfrm>
        </p:grpSpPr>
        <p:sp>
          <p:nvSpPr>
            <p:cNvPr id="63" name=""/>
            <p:cNvSpPr/>
            <p:nvPr/>
          </p:nvSpPr>
          <p:spPr>
            <a:xfrm>
              <a:off x="7164360" y="2616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48360" y="37670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77920" y="2492280"/>
              <a:ext cx="65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26080" y="44164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84960" y="3351240"/>
              <a:ext cx="1428840" cy="1128600"/>
            </a:xfrm>
            <a:custGeom>
              <a:avLst/>
              <a:gdLst/>
              <a:ahLst/>
              <a:rect l="l" t="t" r="r" b="b"/>
              <a:pathLst>
                <a:path w="900" h="711">
                  <a:moveTo>
                    <a:pt x="0" y="711"/>
                  </a:moveTo>
                  <a:cubicBezTo>
                    <a:pt x="55" y="546"/>
                    <a:pt x="119" y="397"/>
                    <a:pt x="216" y="252"/>
                  </a:cubicBezTo>
                  <a:cubicBezTo>
                    <a:pt x="246" y="207"/>
                    <a:pt x="259" y="158"/>
                    <a:pt x="306" y="126"/>
                  </a:cubicBezTo>
                  <a:cubicBezTo>
                    <a:pt x="332" y="87"/>
                    <a:pt x="360" y="38"/>
                    <a:pt x="405" y="18"/>
                  </a:cubicBezTo>
                  <a:cubicBezTo>
                    <a:pt x="422" y="10"/>
                    <a:pt x="459" y="0"/>
                    <a:pt x="459" y="0"/>
                  </a:cubicBezTo>
                  <a:cubicBezTo>
                    <a:pt x="507" y="4"/>
                    <a:pt x="574" y="3"/>
                    <a:pt x="621" y="27"/>
                  </a:cubicBezTo>
                  <a:cubicBezTo>
                    <a:pt x="708" y="70"/>
                    <a:pt x="798" y="135"/>
                    <a:pt x="900" y="1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26440" y="414972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9040" y="316080"/>
            <a:ext cx="8305920" cy="622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R: Tropospheric Ozone Residual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ttp://asd-www.larc.nasa.gov/TOR/dat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99932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914400" y="1828800"/>
            <a:ext cx="7924680" cy="3657600"/>
            <a:chOff x="914400" y="1828800"/>
            <a:chExt cx="7924680" cy="3657600"/>
          </a:xfrm>
        </p:grpSpPr>
        <p:sp>
          <p:nvSpPr>
            <p:cNvPr id="73" name=""/>
            <p:cNvSpPr/>
            <p:nvPr/>
          </p:nvSpPr>
          <p:spPr>
            <a:xfrm>
              <a:off x="1905120" y="1828800"/>
              <a:ext cx="76176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14400" y="4343400"/>
              <a:ext cx="76212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77320" y="4267080"/>
              <a:ext cx="76176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588000" y="0"/>
            <a:ext cx="2411280" cy="1506600"/>
            <a:chOff x="6588000" y="0"/>
            <a:chExt cx="2411280" cy="1506600"/>
          </a:xfrm>
        </p:grpSpPr>
        <p:grpSp>
          <p:nvGrpSpPr>
            <p:cNvPr id="77" name=""/>
            <p:cNvGrpSpPr/>
            <p:nvPr/>
          </p:nvGrpSpPr>
          <p:grpSpPr>
            <a:xfrm>
              <a:off x="6588000" y="364320"/>
              <a:ext cx="2411280" cy="653400"/>
              <a:chOff x="6588000" y="364320"/>
              <a:chExt cx="2411280" cy="653400"/>
            </a:xfrm>
          </p:grpSpPr>
          <p:sp>
            <p:nvSpPr>
              <p:cNvPr id="78" name=""/>
              <p:cNvSpPr/>
              <p:nvPr/>
            </p:nvSpPr>
            <p:spPr>
              <a:xfrm>
                <a:off x="8396640" y="742680"/>
                <a:ext cx="602640" cy="275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7056720" y="535680"/>
                <a:ext cx="40176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742680"/>
                <a:ext cx="602640" cy="275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58480" y="364320"/>
                <a:ext cx="602640" cy="275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994520" y="536040"/>
                <a:ext cx="602640" cy="27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6922800" y="501840"/>
                <a:ext cx="468720" cy="24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666120" y="0"/>
              <a:ext cx="59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cc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9900cc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28480" y="925200"/>
              <a:ext cx="59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adical hidroxi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5832360" cy="218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11640" y="652140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http://www.atmosphere.mpg.de/enid/24y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0"/>
            <a:ext cx="8244000" cy="6527880"/>
            <a:chOff x="0" y="0"/>
            <a:chExt cx="8244000" cy="652788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874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0" y="3860640"/>
              <a:ext cx="28432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El radical OH es el “detergente” de la atmósfera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el agente que le da su carácter oxidati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4932360" y="4133880"/>
              <a:ext cx="3311640" cy="239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238880" y="260280"/>
            <a:ext cx="1905120" cy="110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troposférico, lo bu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ímicamente react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Absorbe radiación UV y así protege los tejidos viv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Colabora en el calentamiento global del planeta (lo hace habi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s responsable de la capacidad de limpieza de la tropósfe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troposférico, lo m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ímicamente re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1981080"/>
            <a:ext cx="3809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Hay regiones donde está aumentando y colabora en el calentamiento global “extra” del planeta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n grandes cantidades es corrosivo e irrita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u desbalance puede inducir cambios en otras espec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23:28:45Z</dcterms:created>
  <dc:creator>Laura Gallardo Klenner</dc:creator>
  <dc:description/>
  <dc:language>en-US</dc:language>
  <cp:lastModifiedBy>LGK</cp:lastModifiedBy>
  <cp:lastPrinted>2001-05-02T19:27:25Z</cp:lastPrinted>
  <dcterms:modified xsi:type="dcterms:W3CDTF">2006-09-27T15:57:26Z</dcterms:modified>
  <cp:revision>29</cp:revision>
  <dc:subject/>
  <dc:title>Transformaciones</dc:title>
</cp:coreProperties>
</file>