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wmf" ContentType="image/x-wmf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B97-746E-4DD3-AD35-A4C877A3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8FB-B12A-4644-86DF-75507695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AE2-B678-447B-A8D0-831C13E6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7F0-B8AF-4056-A197-DBE64975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D29-B4C7-4497-B4E1-0B9D04E1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486-8872-4AA8-9AA0-CF98A921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852-2555-4499-9C49-97470CA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2530-65D7-4C34-BA76-78DCBCE1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57A-4FC8-4EE6-B93D-AAFBA98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75B-928F-481B-AB62-CFAD4A8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EF1-BCBB-4DFC-B9E4-86A98DB5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124-8DA1-4067-88B2-27952F4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E97-82C3-4692-A5DF-6DCE53AC8E8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F 5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ación atmosférica orientada a…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3141720"/>
            <a:ext cx="2879640" cy="915840"/>
            <a:chOff x="5292720" y="3141720"/>
            <a:chExt cx="2879640" cy="915840"/>
          </a:xfrm>
        </p:grpSpPr>
        <p:sp>
          <p:nvSpPr>
            <p:cNvPr id="44" name=""/>
            <p:cNvSpPr/>
            <p:nvPr/>
          </p:nvSpPr>
          <p:spPr>
            <a:xfrm>
              <a:off x="5444280" y="3141720"/>
              <a:ext cx="2636640" cy="23688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48760" y="3382560"/>
              <a:ext cx="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808600" y="3358440"/>
              <a:ext cx="0" cy="699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92720" y="3647880"/>
              <a:ext cx="117900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0600" y="3647880"/>
              <a:ext cx="1391760" cy="26100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588000" y="2852640"/>
            <a:ext cx="1609920" cy="6987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09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14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17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20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23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35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39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54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57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60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67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70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173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176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179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182" name=""/>
            <p:cNvCxnSpPr>
              <a:stCxn id="183" idx="0"/>
              <a:endCxn id="184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187" name=""/>
            <p:cNvCxnSpPr>
              <a:stCxn id="184" idx="4"/>
              <a:endCxn id="183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190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193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196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199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02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05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08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11" name=""/>
            <p:cNvCxnSpPr>
              <a:stCxn id="197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14" name=""/>
            <p:cNvCxnSpPr>
              <a:stCxn id="203" idx="1"/>
              <a:endCxn id="196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17" name=""/>
            <p:cNvCxnSpPr>
              <a:stCxn id="190" idx="0"/>
              <a:endCxn id="203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20" name=""/>
            <p:cNvCxnSpPr>
              <a:stCxn id="203" idx="2"/>
              <a:endCxn id="190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23" name=""/>
            <p:cNvCxnSpPr>
              <a:stCxn id="193" idx="7"/>
              <a:endCxn id="167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4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26" name=""/>
            <p:cNvCxnSpPr>
              <a:stCxn id="190" idx="4"/>
              <a:endCxn id="193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7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685800"/>
            <a:ext cx="4190760" cy="2322720"/>
            <a:chOff x="0" y="685800"/>
            <a:chExt cx="4190760" cy="2322720"/>
          </a:xfrm>
        </p:grpSpPr>
        <p:grpSp>
          <p:nvGrpSpPr>
            <p:cNvPr id="229" name=""/>
            <p:cNvGrpSpPr/>
            <p:nvPr/>
          </p:nvGrpSpPr>
          <p:grpSpPr>
            <a:xfrm>
              <a:off x="0" y="1371600"/>
              <a:ext cx="4190760" cy="1230120"/>
              <a:chOff x="0" y="1371600"/>
              <a:chExt cx="4190760" cy="1230120"/>
            </a:xfrm>
          </p:grpSpPr>
          <p:sp>
            <p:nvSpPr>
              <p:cNvPr id="230" name=""/>
              <p:cNvSpPr/>
              <p:nvPr/>
            </p:nvSpPr>
            <p:spPr>
              <a:xfrm>
                <a:off x="3143160" y="2083680"/>
                <a:ext cx="1047600" cy="518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814320" y="1694880"/>
                <a:ext cx="69840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83680"/>
                <a:ext cx="1047600" cy="518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512720" y="1371600"/>
                <a:ext cx="1047600" cy="518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44400" y="1695240"/>
                <a:ext cx="1047600" cy="51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81760" y="1630440"/>
                <a:ext cx="815040" cy="45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37520" y="68580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cc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9900cc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2160" y="242712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0" y="0"/>
            <a:ext cx="47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 (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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=olo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87280" y="457200"/>
            <a:ext cx="7956720" cy="6400800"/>
            <a:chOff x="1187280" y="457200"/>
            <a:chExt cx="7956720" cy="64008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5724360" y="4489560"/>
              <a:ext cx="3419640" cy="23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4343400" y="457200"/>
              <a:ext cx="4572000" cy="31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3635280" y="3789360"/>
              <a:ext cx="2641680" cy="26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1187280" y="3860640"/>
              <a:ext cx="231480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99932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246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88000" y="0"/>
            <a:ext cx="2411280" cy="1506600"/>
            <a:chOff x="6588000" y="0"/>
            <a:chExt cx="2411280" cy="1506600"/>
          </a:xfrm>
        </p:grpSpPr>
        <p:grpSp>
          <p:nvGrpSpPr>
            <p:cNvPr id="250" name=""/>
            <p:cNvGrpSpPr/>
            <p:nvPr/>
          </p:nvGrpSpPr>
          <p:grpSpPr>
            <a:xfrm>
              <a:off x="6588000" y="364320"/>
              <a:ext cx="2411280" cy="653400"/>
              <a:chOff x="6588000" y="364320"/>
              <a:chExt cx="2411280" cy="653400"/>
            </a:xfrm>
          </p:grpSpPr>
          <p:sp>
            <p:nvSpPr>
              <p:cNvPr id="251" name=""/>
              <p:cNvSpPr/>
              <p:nvPr/>
            </p:nvSpPr>
            <p:spPr>
              <a:xfrm>
                <a:off x="839664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056720" y="535680"/>
                <a:ext cx="40176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88000" y="74268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458480" y="364320"/>
                <a:ext cx="602640" cy="275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994520" y="536040"/>
                <a:ext cx="602640" cy="27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6922800" y="501840"/>
                <a:ext cx="468720" cy="24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666120" y="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cc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9900cc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28480" y="925200"/>
              <a:ext cx="59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920" y="-27000"/>
            <a:ext cx="9074160" cy="1511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De qué depende la formación/destrucción de ozono en la tropósf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26080" y="2492280"/>
            <a:ext cx="2222640" cy="2571840"/>
            <a:chOff x="6526080" y="2492280"/>
            <a:chExt cx="2222640" cy="2571840"/>
          </a:xfrm>
        </p:grpSpPr>
        <p:sp>
          <p:nvSpPr>
            <p:cNvPr id="262" name=""/>
            <p:cNvSpPr/>
            <p:nvPr/>
          </p:nvSpPr>
          <p:spPr>
            <a:xfrm>
              <a:off x="7164360" y="2616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48360" y="37670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77920" y="2492280"/>
              <a:ext cx="65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6080" y="441648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84960" y="3351240"/>
              <a:ext cx="1428840" cy="1128600"/>
            </a:xfrm>
            <a:custGeom>
              <a:avLst/>
              <a:gdLst/>
              <a:ahLst/>
              <a:rect l="l" t="t" r="r" b="b"/>
              <a:pathLst>
                <a:path w="900" h="711">
                  <a:moveTo>
                    <a:pt x="0" y="711"/>
                  </a:moveTo>
                  <a:cubicBezTo>
                    <a:pt x="55" y="546"/>
                    <a:pt x="119" y="397"/>
                    <a:pt x="216" y="252"/>
                  </a:cubicBezTo>
                  <a:cubicBezTo>
                    <a:pt x="246" y="207"/>
                    <a:pt x="259" y="158"/>
                    <a:pt x="306" y="126"/>
                  </a:cubicBezTo>
                  <a:cubicBezTo>
                    <a:pt x="332" y="87"/>
                    <a:pt x="360" y="38"/>
                    <a:pt x="405" y="18"/>
                  </a:cubicBezTo>
                  <a:cubicBezTo>
                    <a:pt x="422" y="10"/>
                    <a:pt x="459" y="0"/>
                    <a:pt x="459" y="0"/>
                  </a:cubicBezTo>
                  <a:cubicBezTo>
                    <a:pt x="507" y="4"/>
                    <a:pt x="574" y="3"/>
                    <a:pt x="621" y="27"/>
                  </a:cubicBezTo>
                  <a:cubicBezTo>
                    <a:pt x="708" y="70"/>
                    <a:pt x="798" y="135"/>
                    <a:pt x="900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326440" y="414972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PRODUCIR OZONO EN LA 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116000" y="407664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(p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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276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3789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166212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098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 de los óxidos de nitr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77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78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87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2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4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5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 vs HC y N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488000" cy="49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http://www.asrm.cl/sitio/pag/aire/indexjs3aireindgasesdemo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99160" y="560376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 (al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19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61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64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adical hidroxi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5832360" cy="2187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111640" y="652140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http://www.atmosphere.mpg.de/enid/24y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0"/>
            <a:ext cx="8244000" cy="6527880"/>
            <a:chOff x="0" y="0"/>
            <a:chExt cx="8244000" cy="652788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874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3860640"/>
              <a:ext cx="2843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radical OH es el “detergente” de la atmósfera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el agente que le da su carácter oxida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4932360" y="4133880"/>
              <a:ext cx="3311640" cy="239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7238880" y="260280"/>
            <a:ext cx="1905120" cy="110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73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77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" name=""/>
          <p:cNvSpPr txBox="1"/>
          <p:nvPr/>
        </p:nvSpPr>
        <p:spPr>
          <a:xfrm>
            <a:off x="4427640" y="3284640"/>
            <a:ext cx="366876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+O3-&gt;NO2+O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81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85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1268280"/>
            <a:ext cx="398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+O2+M-&gt;O3+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92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93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4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7020720" y="692280"/>
            <a:ext cx="1776240" cy="2384280"/>
            <a:chOff x="7020720" y="692280"/>
            <a:chExt cx="1776240" cy="238428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7236000" y="692280"/>
              <a:ext cx="133344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020720" y="270828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vante Arrheni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1800" y="0"/>
            <a:ext cx="590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78136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3780000" cy="2649240"/>
            <a:chOff x="0" y="0"/>
            <a:chExt cx="3780000" cy="2649240"/>
          </a:xfrm>
        </p:grpSpPr>
        <p:sp>
          <p:nvSpPr>
            <p:cNvPr id="102" name=""/>
            <p:cNvSpPr/>
            <p:nvPr/>
          </p:nvSpPr>
          <p:spPr>
            <a:xfrm>
              <a:off x="179280" y="1773360"/>
              <a:ext cx="3600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peroxy</a:t>
              </a: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acetyl </a:t>
              </a:r>
              <a:r>
                <a:rPr b="1" lang="es-ES" sz="2400" spc="-1" strike="noStrike">
                  <a:solidFill>
                    <a:srgbClr val="00cc99"/>
                  </a:solidFill>
                  <a:latin typeface="Times New Roman"/>
                </a:rPr>
                <a:t>nitrate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OON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743200" cy="16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6-09-06T16:01:30Z</dcterms:modified>
  <cp:revision>26</cp:revision>
  <dc:subject/>
  <dc:title>Sin título de diapositiva</dc:title>
</cp:coreProperties>
</file>