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wmf" ContentType="image/x-wmf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1C0-9A8F-4593-9C88-F62AECA7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8A6-FDA2-4AA2-91C2-B285C2EE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6CA-7EF9-44EC-9F5E-476D7080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F93-251E-456C-89C8-EE5809E6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2E1-1C85-41F1-A86C-7D286DAB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6C6-71A0-4FD3-B025-B4517614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D90-CCEA-46D8-9BE9-50BA8436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BD5A-9E37-49EA-8F21-C624A743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49F-5569-4E45-B41D-222BE010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786-51C7-4C74-900E-7891F87F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DC2-E2D6-4F30-8212-F415FEE4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0C4-E05C-47BD-8200-7E6D4040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5495-3100-43EE-A5BC-5198FC45698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se representan los procesos de transform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“smog” fotoquímico (primera aproxi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F 5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ación atmosférica orientada a…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e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3141720"/>
            <a:ext cx="2879640" cy="915840"/>
            <a:chOff x="5292720" y="3141720"/>
            <a:chExt cx="2879640" cy="915840"/>
          </a:xfrm>
        </p:grpSpPr>
        <p:sp>
          <p:nvSpPr>
            <p:cNvPr id="44" name=""/>
            <p:cNvSpPr/>
            <p:nvPr/>
          </p:nvSpPr>
          <p:spPr>
            <a:xfrm>
              <a:off x="5444280" y="3141720"/>
              <a:ext cx="2636640" cy="23688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448760" y="3382560"/>
              <a:ext cx="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5808600" y="3358440"/>
              <a:ext cx="0" cy="699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92720" y="3647880"/>
              <a:ext cx="1179000" cy="26100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80600" y="3647880"/>
              <a:ext cx="1391760" cy="26100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588000" y="2852640"/>
            <a:ext cx="1609920" cy="6987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20" y="5400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91440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que una reacción fotoquímica ocurra, energía debe ser incorporada a la molécula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bsor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lo tanto,  la energía de los fotones incidentes debe coincidir con las energías entre los niveles energéticos de l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niveles energéticos se asocian a m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b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vimientos electr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ípicamente, en la atmósfera se requiere de fotones capaces de excitar los niveles electrónicos (IR cercano, visible y 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36600" y="339840"/>
            <a:ext cx="6922800" cy="1252080"/>
            <a:chOff x="336600" y="339840"/>
            <a:chExt cx="6922800" cy="1252080"/>
          </a:xfrm>
        </p:grpSpPr>
        <p:sp>
          <p:nvSpPr>
            <p:cNvPr id="109" name=""/>
            <p:cNvSpPr/>
            <p:nvPr/>
          </p:nvSpPr>
          <p:spPr>
            <a:xfrm>
              <a:off x="336600" y="339840"/>
              <a:ext cx="6922800" cy="125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na vez que una molécula AB ha absorbido energía h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AB+h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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uede devolverla como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990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94960" y="1940040"/>
            <a:ext cx="56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diación/fluorescencia: AB*         AB+h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85680" y="2666880"/>
            <a:ext cx="5442480" cy="825480"/>
            <a:chOff x="985680" y="2666880"/>
            <a:chExt cx="5442480" cy="825480"/>
          </a:xfrm>
        </p:grpSpPr>
        <p:sp>
          <p:nvSpPr>
            <p:cNvPr id="114" name=""/>
            <p:cNvSpPr/>
            <p:nvPr/>
          </p:nvSpPr>
          <p:spPr>
            <a:xfrm>
              <a:off x="985680" y="2666880"/>
              <a:ext cx="544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isipación por colisiones (“Quenching”)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B*+M         AB+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276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600560" y="3581280"/>
            <a:ext cx="3761640" cy="459720"/>
            <a:chOff x="1600560" y="3581280"/>
            <a:chExt cx="3761640" cy="459720"/>
          </a:xfrm>
        </p:grpSpPr>
        <p:sp>
          <p:nvSpPr>
            <p:cNvPr id="117" name=""/>
            <p:cNvSpPr/>
            <p:nvPr/>
          </p:nvSpPr>
          <p:spPr>
            <a:xfrm>
              <a:off x="1600560" y="3581280"/>
              <a:ext cx="37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ociación: AB*         A+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3809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066680" y="4343400"/>
            <a:ext cx="6248520" cy="459720"/>
            <a:chOff x="1066680" y="4343400"/>
            <a:chExt cx="6248520" cy="459720"/>
          </a:xfrm>
        </p:grpSpPr>
        <p:sp>
          <p:nvSpPr>
            <p:cNvPr id="120" name=""/>
            <p:cNvSpPr/>
            <p:nvPr/>
          </p:nvSpPr>
          <p:spPr>
            <a:xfrm>
              <a:off x="1066680" y="4343400"/>
              <a:ext cx="624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encia de energía: AB* +C        AB+C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4572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65240" y="5111640"/>
            <a:ext cx="5076720" cy="459720"/>
            <a:chOff x="1065240" y="5111640"/>
            <a:chExt cx="5076720" cy="459720"/>
          </a:xfrm>
        </p:grpSpPr>
        <p:sp>
          <p:nvSpPr>
            <p:cNvPr id="123" name=""/>
            <p:cNvSpPr/>
            <p:nvPr/>
          </p:nvSpPr>
          <p:spPr>
            <a:xfrm>
              <a:off x="1065240" y="511164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cción química: AB*+C         A+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tasa de reacción 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211400" y="2136600"/>
                <a:ext cx="6145200" cy="26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dℓ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dλ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dλ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rot="16324200">
            <a:off x="2303280" y="4403520"/>
            <a:ext cx="533520" cy="800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41560" y="5070600"/>
            <a:ext cx="25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iciencia cu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 producción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6520" y="487692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rción energética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5890400">
            <a:off x="4266000" y="3667680"/>
            <a:ext cx="533520" cy="1903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49320 h 1903680"/>
              <a:gd name="textAreaBottom" fmla="*/ 1854360 h 190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48360" y="990720"/>
            <a:ext cx="2486520" cy="131292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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7800" y="151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near Sulfur Chemistry (CHEMISTRY_S_LIN.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7840" y="1295280"/>
            <a:ext cx="8864640" cy="3830760"/>
            <a:chOff x="87840" y="1295280"/>
            <a:chExt cx="8864640" cy="3830760"/>
          </a:xfrm>
        </p:grpSpPr>
        <p:sp>
          <p:nvSpPr>
            <p:cNvPr id="135" name=""/>
            <p:cNvSpPr/>
            <p:nvPr/>
          </p:nvSpPr>
          <p:spPr>
            <a:xfrm>
              <a:off x="4335480" y="1295280"/>
              <a:ext cx="7318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K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76960" y="190404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840" y="182772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9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914400" y="1371600"/>
              <a:ext cx="7696080" cy="3754440"/>
              <a:chOff x="914400" y="1371600"/>
              <a:chExt cx="7696080" cy="3754440"/>
            </a:xfrm>
          </p:grpSpPr>
          <p:sp>
            <p:nvSpPr>
              <p:cNvPr id="139" name=""/>
              <p:cNvSpPr/>
              <p:nvPr/>
            </p:nvSpPr>
            <p:spPr>
              <a:xfrm>
                <a:off x="2380320" y="1371600"/>
                <a:ext cx="13435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SO</a:t>
                </a:r>
                <a:r>
                  <a:rPr b="0" lang="es-E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56240" y="1371600"/>
                <a:ext cx="14659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Times New Roman"/>
                  </a:rPr>
                  <a:t>Sulfat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23840" y="2122200"/>
                <a:ext cx="183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9088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4512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3364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13280" y="392436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56040" y="362412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89760" y="3774240"/>
                <a:ext cx="85500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W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36440" y="1821960"/>
                <a:ext cx="610560" cy="9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02920" y="2122200"/>
                <a:ext cx="97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022160" y="2122200"/>
                <a:ext cx="85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14400" y="5126040"/>
                <a:ext cx="769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 txBox="1"/>
          <p:nvPr/>
        </p:nvSpPr>
        <p:spPr>
          <a:xfrm>
            <a:off x="0" y="4994280"/>
            <a:ext cx="2858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 Black"/>
              </a:rPr>
              <a:t>Q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1880" y="4224240"/>
            <a:ext cx="1844640" cy="929880"/>
            <a:chOff x="461880" y="4224240"/>
            <a:chExt cx="1844640" cy="929880"/>
          </a:xfrm>
        </p:grpSpPr>
        <p:sp>
          <p:nvSpPr>
            <p:cNvPr id="154" name=""/>
            <p:cNvSpPr/>
            <p:nvPr/>
          </p:nvSpPr>
          <p:spPr>
            <a:xfrm>
              <a:off x="1603800" y="4224240"/>
              <a:ext cx="7027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61880" y="4448880"/>
              <a:ext cx="1032120" cy="70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82760" y="5186520"/>
            <a:ext cx="1955160" cy="924480"/>
            <a:chOff x="482760" y="5186520"/>
            <a:chExt cx="1955160" cy="924480"/>
          </a:xfrm>
        </p:grpSpPr>
        <p:sp>
          <p:nvSpPr>
            <p:cNvPr id="157" name=""/>
            <p:cNvSpPr/>
            <p:nvPr/>
          </p:nvSpPr>
          <p:spPr>
            <a:xfrm>
              <a:off x="1495080" y="5186520"/>
              <a:ext cx="94284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H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2760" y="5251320"/>
              <a:ext cx="9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61880" y="5475240"/>
            <a:ext cx="1954440" cy="1415880"/>
            <a:chOff x="461880" y="5475240"/>
            <a:chExt cx="1954440" cy="1415880"/>
          </a:xfrm>
        </p:grpSpPr>
        <p:sp>
          <p:nvSpPr>
            <p:cNvPr id="160" name=""/>
            <p:cNvSpPr/>
            <p:nvPr/>
          </p:nvSpPr>
          <p:spPr>
            <a:xfrm>
              <a:off x="658800" y="6276960"/>
              <a:ext cx="1757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- HC - C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1880" y="5475240"/>
              <a:ext cx="96660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515960" y="4129200"/>
            <a:ext cx="770040" cy="747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 FORT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99072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R=30*(MM-1)+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FA=3.1416*(DNR-90.)/18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=3.E-6+2.E-6*SIN(ALF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O 120 K=1,NL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10 J=1,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00 I=1,N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XYZ1=-KT*CONCMLP(I,J,K,C,SO2)*D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1)=CONCMLP(I,J,K,C,XYZ1)+DTX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2)=CONCMLP(I,J,K,C,XYZ2)-DTXY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XYZ1=LXYZ1-DTXYZ1*DXDY(I,J)*LS(I,J,K)*RHO(I,J,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CONTIN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0 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0"/>
            <a:ext cx="7772400" cy="1523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s de nitrógeno 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+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95880" y="2057400"/>
            <a:ext cx="2819520" cy="1600200"/>
            <a:chOff x="6095880" y="2057400"/>
            <a:chExt cx="2819520" cy="1600200"/>
          </a:xfrm>
        </p:grpSpPr>
        <p:sp>
          <p:nvSpPr>
            <p:cNvPr id="167" name=""/>
            <p:cNvSpPr/>
            <p:nvPr/>
          </p:nvSpPr>
          <p:spPr>
            <a:xfrm>
              <a:off x="6095880" y="2057400"/>
              <a:ext cx="281952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77600" y="2514600"/>
              <a:ext cx="2448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0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, nitra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730320" y="1828800"/>
            <a:ext cx="2672640" cy="1295280"/>
            <a:chOff x="3730320" y="1828800"/>
            <a:chExt cx="2672640" cy="1295280"/>
          </a:xfrm>
        </p:grpSpPr>
        <p:sp>
          <p:nvSpPr>
            <p:cNvPr id="170" name=""/>
            <p:cNvSpPr/>
            <p:nvPr/>
          </p:nvSpPr>
          <p:spPr>
            <a:xfrm>
              <a:off x="4114800" y="2438280"/>
              <a:ext cx="1981080" cy="685800"/>
            </a:xfrm>
            <a:prstGeom prst="rightArrow">
              <a:avLst>
                <a:gd name="adj1" fmla="val 50000"/>
                <a:gd name="adj2" fmla="val 72218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30320" y="1828800"/>
              <a:ext cx="267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Oxidación, O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42280" y="3581280"/>
            <a:ext cx="2421000" cy="2873520"/>
            <a:chOff x="1142280" y="3581280"/>
            <a:chExt cx="2421000" cy="2873520"/>
          </a:xfrm>
        </p:grpSpPr>
        <p:sp>
          <p:nvSpPr>
            <p:cNvPr id="173" name=""/>
            <p:cNvSpPr/>
            <p:nvPr/>
          </p:nvSpPr>
          <p:spPr>
            <a:xfrm>
              <a:off x="1614600" y="3581280"/>
              <a:ext cx="533160" cy="2286000"/>
            </a:xfrm>
            <a:prstGeom prst="upArrow">
              <a:avLst>
                <a:gd name="adj1" fmla="val 50000"/>
                <a:gd name="adj2" fmla="val 1071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2280" y="593424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misión direc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620120" y="3581280"/>
            <a:ext cx="1181160" cy="2133720"/>
            <a:chOff x="7620120" y="3581280"/>
            <a:chExt cx="1181160" cy="2133720"/>
          </a:xfrm>
        </p:grpSpPr>
        <p:sp>
          <p:nvSpPr>
            <p:cNvPr id="176" name=""/>
            <p:cNvSpPr/>
            <p:nvPr/>
          </p:nvSpPr>
          <p:spPr>
            <a:xfrm>
              <a:off x="7848720" y="3581280"/>
              <a:ext cx="685800" cy="2133720"/>
            </a:xfrm>
            <a:prstGeom prst="downArrow">
              <a:avLst>
                <a:gd name="adj1" fmla="val 50000"/>
                <a:gd name="adj2" fmla="val 777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620120" y="3733920"/>
              <a:ext cx="1181160" cy="11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380880" y="4340880"/>
            <a:ext cx="533520" cy="2136240"/>
            <a:chOff x="380880" y="4340880"/>
            <a:chExt cx="533520" cy="2136240"/>
          </a:xfrm>
        </p:grpSpPr>
        <p:sp>
          <p:nvSpPr>
            <p:cNvPr id="179" name=""/>
            <p:cNvSpPr/>
            <p:nvPr/>
          </p:nvSpPr>
          <p:spPr>
            <a:xfrm rot="16209000">
              <a:off x="-164520" y="488988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880" y="4343400"/>
              <a:ext cx="533520" cy="2133720"/>
            </a:xfrm>
            <a:prstGeom prst="downArrow">
              <a:avLst>
                <a:gd name="adj1" fmla="val 50000"/>
                <a:gd name="adj2" fmla="val 999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13960" y="1371600"/>
            <a:ext cx="1600560" cy="722520"/>
            <a:chOff x="1713960" y="1371600"/>
            <a:chExt cx="1600560" cy="722520"/>
          </a:xfrm>
        </p:grpSpPr>
        <p:cxnSp>
          <p:nvCxnSpPr>
            <p:cNvPr id="182" name=""/>
            <p:cNvCxnSpPr>
              <a:stCxn id="183" idx="0"/>
              <a:endCxn id="184" idx="0"/>
            </p:cNvCxnSpPr>
            <p:nvPr/>
          </p:nvCxnSpPr>
          <p:spPr>
            <a:xfrm rot="5400000">
              <a:off x="2513160" y="1292760"/>
              <a:ext cx="2160" cy="16009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2440080" y="1371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713600" y="2819520"/>
            <a:ext cx="1600560" cy="650160"/>
            <a:chOff x="1713600" y="2819520"/>
            <a:chExt cx="1600560" cy="650160"/>
          </a:xfrm>
        </p:grpSpPr>
        <p:cxnSp>
          <p:nvCxnSpPr>
            <p:cNvPr id="187" name=""/>
            <p:cNvCxnSpPr>
              <a:stCxn id="184" idx="4"/>
              <a:endCxn id="183" idx="4"/>
            </p:cNvCxnSpPr>
            <p:nvPr/>
          </p:nvCxnSpPr>
          <p:spPr>
            <a:xfrm flipH="1" rot="16200000">
              <a:off x="2512800" y="2359440"/>
              <a:ext cx="2520" cy="1600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2294640" y="2819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733920" y="4419720"/>
            <a:ext cx="1371600" cy="990360"/>
            <a:chOff x="3733920" y="4419720"/>
            <a:chExt cx="1371600" cy="990360"/>
          </a:xfrm>
        </p:grpSpPr>
        <p:sp>
          <p:nvSpPr>
            <p:cNvPr id="190" name=""/>
            <p:cNvSpPr/>
            <p:nvPr/>
          </p:nvSpPr>
          <p:spPr>
            <a:xfrm>
              <a:off x="3733920" y="44197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7840" y="4648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410080" y="4343400"/>
            <a:ext cx="1371600" cy="990720"/>
            <a:chOff x="5410080" y="4343400"/>
            <a:chExt cx="1371600" cy="990720"/>
          </a:xfrm>
        </p:grpSpPr>
        <p:sp>
          <p:nvSpPr>
            <p:cNvPr id="193" name=""/>
            <p:cNvSpPr/>
            <p:nvPr/>
          </p:nvSpPr>
          <p:spPr>
            <a:xfrm>
              <a:off x="5410080" y="4343400"/>
              <a:ext cx="13716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4689360"/>
              <a:ext cx="7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0" y="3505320"/>
            <a:ext cx="1371600" cy="990360"/>
            <a:chOff x="0" y="3505320"/>
            <a:chExt cx="1371600" cy="990360"/>
          </a:xfrm>
        </p:grpSpPr>
        <p:sp>
          <p:nvSpPr>
            <p:cNvPr id="196" name=""/>
            <p:cNvSpPr/>
            <p:nvPr/>
          </p:nvSpPr>
          <p:spPr>
            <a:xfrm>
              <a:off x="0" y="35053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560" y="3733920"/>
              <a:ext cx="121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85800" y="1981080"/>
            <a:ext cx="3429000" cy="1371600"/>
            <a:chOff x="685800" y="1981080"/>
            <a:chExt cx="3429000" cy="1371600"/>
          </a:xfrm>
        </p:grpSpPr>
        <p:grpSp>
          <p:nvGrpSpPr>
            <p:cNvPr id="199" name=""/>
            <p:cNvGrpSpPr/>
            <p:nvPr/>
          </p:nvGrpSpPr>
          <p:grpSpPr>
            <a:xfrm>
              <a:off x="2514600" y="2092320"/>
              <a:ext cx="1600200" cy="1066680"/>
              <a:chOff x="2514600" y="2092320"/>
              <a:chExt cx="1600200" cy="106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3058920" y="2362320"/>
                <a:ext cx="816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146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914400" y="2092320"/>
              <a:ext cx="1600200" cy="1066680"/>
              <a:chOff x="914400" y="2092320"/>
              <a:chExt cx="1600200" cy="1066680"/>
            </a:xfrm>
          </p:grpSpPr>
          <p:sp>
            <p:nvSpPr>
              <p:cNvPr id="202" name=""/>
              <p:cNvSpPr/>
              <p:nvPr/>
            </p:nvSpPr>
            <p:spPr>
              <a:xfrm>
                <a:off x="1371600" y="2438280"/>
                <a:ext cx="71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144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685800" y="1981080"/>
              <a:ext cx="34290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160760" y="3809880"/>
            <a:ext cx="535320" cy="2133720"/>
            <a:chOff x="7160760" y="3809880"/>
            <a:chExt cx="535320" cy="2133720"/>
          </a:xfrm>
        </p:grpSpPr>
        <p:sp>
          <p:nvSpPr>
            <p:cNvPr id="205" name=""/>
            <p:cNvSpPr/>
            <p:nvPr/>
          </p:nvSpPr>
          <p:spPr>
            <a:xfrm rot="16209000">
              <a:off x="6613920" y="435960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920" y="380988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588760" y="3886200"/>
            <a:ext cx="535320" cy="2133720"/>
            <a:chOff x="2588760" y="3886200"/>
            <a:chExt cx="535320" cy="2133720"/>
          </a:xfrm>
        </p:grpSpPr>
        <p:sp>
          <p:nvSpPr>
            <p:cNvPr id="208" name=""/>
            <p:cNvSpPr/>
            <p:nvPr/>
          </p:nvSpPr>
          <p:spPr>
            <a:xfrm rot="16209000">
              <a:off x="2041920" y="443592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0920" y="388620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52080" y="3394080"/>
            <a:ext cx="500400" cy="568440"/>
            <a:chOff x="1252080" y="3394080"/>
            <a:chExt cx="500400" cy="568440"/>
          </a:xfrm>
        </p:grpSpPr>
        <p:cxnSp>
          <p:nvCxnSpPr>
            <p:cNvPr id="211" name=""/>
            <p:cNvCxnSpPr>
              <a:stCxn id="197" idx="3"/>
            </p:cNvCxnSpPr>
            <p:nvPr/>
          </p:nvCxnSpPr>
          <p:spPr>
            <a:xfrm flipV="1">
              <a:off x="1252080" y="3428640"/>
              <a:ext cx="500760" cy="534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1281240" y="339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9000" y="2286000"/>
            <a:ext cx="691560" cy="1364040"/>
            <a:chOff x="9000" y="2286000"/>
            <a:chExt cx="691560" cy="1364040"/>
          </a:xfrm>
        </p:grpSpPr>
        <p:cxnSp>
          <p:nvCxnSpPr>
            <p:cNvPr id="214" name=""/>
            <p:cNvCxnSpPr>
              <a:stCxn id="203" idx="1"/>
              <a:endCxn id="196" idx="1"/>
            </p:cNvCxnSpPr>
            <p:nvPr/>
          </p:nvCxnSpPr>
          <p:spPr>
            <a:xfrm flipV="1" rot="10800000">
              <a:off x="200880" y="2666520"/>
              <a:ext cx="484920" cy="9835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>
              <a:off x="9000" y="2286000"/>
              <a:ext cx="69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114080" y="2666160"/>
            <a:ext cx="929160" cy="1753200"/>
            <a:chOff x="4114080" y="2666160"/>
            <a:chExt cx="929160" cy="1753200"/>
          </a:xfrm>
        </p:grpSpPr>
        <p:cxnSp>
          <p:nvCxnSpPr>
            <p:cNvPr id="217" name=""/>
            <p:cNvCxnSpPr>
              <a:stCxn id="190" idx="0"/>
              <a:endCxn id="203" idx="3"/>
            </p:cNvCxnSpPr>
            <p:nvPr/>
          </p:nvCxnSpPr>
          <p:spPr>
            <a:xfrm flipV="1" rot="16200000">
              <a:off x="3390120" y="3390120"/>
              <a:ext cx="1753560" cy="3056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4557600" y="3241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400480" y="3352320"/>
            <a:ext cx="1535400" cy="1211760"/>
            <a:chOff x="2400480" y="3352320"/>
            <a:chExt cx="1535400" cy="1211760"/>
          </a:xfrm>
        </p:grpSpPr>
        <p:cxnSp>
          <p:nvCxnSpPr>
            <p:cNvPr id="220" name=""/>
            <p:cNvCxnSpPr>
              <a:stCxn id="203" idx="2"/>
              <a:endCxn id="190" idx="1"/>
            </p:cNvCxnSpPr>
            <p:nvPr/>
          </p:nvCxnSpPr>
          <p:spPr>
            <a:xfrm flipH="1" rot="16200000">
              <a:off x="2562120" y="3190320"/>
              <a:ext cx="1212120" cy="1535760"/>
            </a:xfrm>
            <a:prstGeom prst="curvedConnector5">
              <a:avLst>
                <a:gd name="adj1" fmla="val 44028"/>
                <a:gd name="adj2" fmla="val 49988"/>
                <a:gd name="adj3" fmla="val 4402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"/>
            <p:cNvSpPr/>
            <p:nvPr/>
          </p:nvSpPr>
          <p:spPr>
            <a:xfrm>
              <a:off x="343764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508440" y="3421800"/>
            <a:ext cx="736200" cy="1065600"/>
            <a:chOff x="6508440" y="3421800"/>
            <a:chExt cx="736200" cy="1065600"/>
          </a:xfrm>
        </p:grpSpPr>
        <p:cxnSp>
          <p:nvCxnSpPr>
            <p:cNvPr id="223" name=""/>
            <p:cNvCxnSpPr>
              <a:stCxn id="193" idx="7"/>
              <a:endCxn id="167" idx="3"/>
            </p:cNvCxnSpPr>
            <p:nvPr/>
          </p:nvCxnSpPr>
          <p:spPr>
            <a:xfrm flipV="1" rot="16200000">
              <a:off x="6011280" y="3918600"/>
              <a:ext cx="1065960" cy="72000"/>
            </a:xfrm>
            <a:prstGeom prst="curvedConnector5">
              <a:avLst>
                <a:gd name="adj1" fmla="val 45743"/>
                <a:gd name="adj2" fmla="val 49748"/>
                <a:gd name="adj3" fmla="val 4574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>
              <a:off x="6690600" y="3622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419720" y="5333400"/>
            <a:ext cx="1676520" cy="780480"/>
            <a:chOff x="4419720" y="5333400"/>
            <a:chExt cx="1676520" cy="780480"/>
          </a:xfrm>
        </p:grpSpPr>
        <p:cxnSp>
          <p:nvCxnSpPr>
            <p:cNvPr id="226" name=""/>
            <p:cNvCxnSpPr>
              <a:stCxn id="190" idx="4"/>
              <a:endCxn id="193" idx="4"/>
            </p:cNvCxnSpPr>
            <p:nvPr/>
          </p:nvCxnSpPr>
          <p:spPr>
            <a:xfrm flipH="1" flipV="1" rot="5400000">
              <a:off x="5219640" y="4533480"/>
              <a:ext cx="76680" cy="1676880"/>
            </a:xfrm>
            <a:prstGeom prst="curvedConnector5">
              <a:avLst>
                <a:gd name="adj1" fmla="val -300000"/>
                <a:gd name="adj2" fmla="val 49989"/>
                <a:gd name="adj3" fmla="val -3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7" name=""/>
            <p:cNvSpPr/>
            <p:nvPr/>
          </p:nvSpPr>
          <p:spPr>
            <a:xfrm>
              <a:off x="5175000" y="56037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685800"/>
            <a:ext cx="4190760" cy="2322720"/>
            <a:chOff x="0" y="685800"/>
            <a:chExt cx="4190760" cy="2322720"/>
          </a:xfrm>
        </p:grpSpPr>
        <p:grpSp>
          <p:nvGrpSpPr>
            <p:cNvPr id="229" name=""/>
            <p:cNvGrpSpPr/>
            <p:nvPr/>
          </p:nvGrpSpPr>
          <p:grpSpPr>
            <a:xfrm>
              <a:off x="0" y="1371600"/>
              <a:ext cx="4190760" cy="1230120"/>
              <a:chOff x="0" y="1371600"/>
              <a:chExt cx="4190760" cy="1230120"/>
            </a:xfrm>
          </p:grpSpPr>
          <p:sp>
            <p:nvSpPr>
              <p:cNvPr id="230" name=""/>
              <p:cNvSpPr/>
              <p:nvPr/>
            </p:nvSpPr>
            <p:spPr>
              <a:xfrm>
                <a:off x="3143160" y="2083680"/>
                <a:ext cx="1047600" cy="518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814320" y="1694880"/>
                <a:ext cx="698400" cy="38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083680"/>
                <a:ext cx="1047600" cy="518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512720" y="1371600"/>
                <a:ext cx="1047600" cy="518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44400" y="1695240"/>
                <a:ext cx="1047600" cy="51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81760" y="1630440"/>
                <a:ext cx="815040" cy="45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137520" y="68580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cc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9900cc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82160" y="242712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0"/>
            <a:ext cx="47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zono (</a:t>
            </a:r>
            <a:r>
              <a:rPr b="0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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=olo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87280" y="457200"/>
            <a:ext cx="7956720" cy="6400800"/>
            <a:chOff x="1187280" y="457200"/>
            <a:chExt cx="7956720" cy="640080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5724360" y="4489560"/>
              <a:ext cx="3419640" cy="23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4343400" y="457200"/>
              <a:ext cx="4572000" cy="31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3635280" y="3789360"/>
              <a:ext cx="2641680" cy="26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1187280" y="3860640"/>
              <a:ext cx="231480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99932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914400" y="1828800"/>
            <a:ext cx="7924680" cy="3657600"/>
            <a:chOff x="914400" y="1828800"/>
            <a:chExt cx="7924680" cy="3657600"/>
          </a:xfrm>
        </p:grpSpPr>
        <p:sp>
          <p:nvSpPr>
            <p:cNvPr id="246" name=""/>
            <p:cNvSpPr/>
            <p:nvPr/>
          </p:nvSpPr>
          <p:spPr>
            <a:xfrm>
              <a:off x="1905120" y="182880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4400" y="4343400"/>
              <a:ext cx="76212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77320" y="426708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588000" y="0"/>
            <a:ext cx="2411280" cy="1506600"/>
            <a:chOff x="6588000" y="0"/>
            <a:chExt cx="2411280" cy="1506600"/>
          </a:xfrm>
        </p:grpSpPr>
        <p:grpSp>
          <p:nvGrpSpPr>
            <p:cNvPr id="250" name=""/>
            <p:cNvGrpSpPr/>
            <p:nvPr/>
          </p:nvGrpSpPr>
          <p:grpSpPr>
            <a:xfrm>
              <a:off x="6588000" y="364320"/>
              <a:ext cx="2411280" cy="653400"/>
              <a:chOff x="6588000" y="364320"/>
              <a:chExt cx="2411280" cy="653400"/>
            </a:xfrm>
          </p:grpSpPr>
          <p:sp>
            <p:nvSpPr>
              <p:cNvPr id="251" name=""/>
              <p:cNvSpPr/>
              <p:nvPr/>
            </p:nvSpPr>
            <p:spPr>
              <a:xfrm>
                <a:off x="8396640" y="74268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7056720" y="535680"/>
                <a:ext cx="40176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88000" y="74268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58480" y="36432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994520" y="536040"/>
                <a:ext cx="602640" cy="27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922800" y="501840"/>
                <a:ext cx="468720" cy="24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6666120" y="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cc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9900cc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28480" y="92520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920" y="-27000"/>
            <a:ext cx="9074160" cy="1511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De qué depende la formación/destrucción de ozono en la tropósf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1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26080" y="2492280"/>
            <a:ext cx="2222640" cy="2571840"/>
            <a:chOff x="6526080" y="2492280"/>
            <a:chExt cx="2222640" cy="2571840"/>
          </a:xfrm>
        </p:grpSpPr>
        <p:sp>
          <p:nvSpPr>
            <p:cNvPr id="262" name=""/>
            <p:cNvSpPr/>
            <p:nvPr/>
          </p:nvSpPr>
          <p:spPr>
            <a:xfrm>
              <a:off x="7164360" y="2616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48360" y="37670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77920" y="2492280"/>
              <a:ext cx="65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6080" y="44164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84960" y="3351240"/>
              <a:ext cx="1428840" cy="1128600"/>
            </a:xfrm>
            <a:custGeom>
              <a:avLst/>
              <a:gdLst/>
              <a:ahLst/>
              <a:rect l="l" t="t" r="r" b="b"/>
              <a:pathLst>
                <a:path w="900" h="711">
                  <a:moveTo>
                    <a:pt x="0" y="711"/>
                  </a:moveTo>
                  <a:cubicBezTo>
                    <a:pt x="55" y="546"/>
                    <a:pt x="119" y="397"/>
                    <a:pt x="216" y="252"/>
                  </a:cubicBezTo>
                  <a:cubicBezTo>
                    <a:pt x="246" y="207"/>
                    <a:pt x="259" y="158"/>
                    <a:pt x="306" y="126"/>
                  </a:cubicBezTo>
                  <a:cubicBezTo>
                    <a:pt x="332" y="87"/>
                    <a:pt x="360" y="38"/>
                    <a:pt x="405" y="18"/>
                  </a:cubicBezTo>
                  <a:cubicBezTo>
                    <a:pt x="422" y="10"/>
                    <a:pt x="459" y="0"/>
                    <a:pt x="459" y="0"/>
                  </a:cubicBezTo>
                  <a:cubicBezTo>
                    <a:pt x="507" y="4"/>
                    <a:pt x="574" y="3"/>
                    <a:pt x="621" y="27"/>
                  </a:cubicBezTo>
                  <a:cubicBezTo>
                    <a:pt x="708" y="70"/>
                    <a:pt x="798" y="135"/>
                    <a:pt x="900" y="1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8326440" y="414972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ÚNICA FORMA DE PRODUCIR OZONO EN LA 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116000" y="407664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D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p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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bios de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2276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3789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166212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80988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de los óxidos de nitró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NO -&gt; OH+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h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&lt;410 nm)-&gt;NO+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M -&gt;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+2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&gt; 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OH +2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&gt;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atmósferas limpi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143000" y="1508040"/>
                <a:ext cx="7315200" cy="240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457560" y="4648320"/>
            <a:ext cx="7505280" cy="1447200"/>
            <a:chOff x="457560" y="4648320"/>
            <a:chExt cx="7505280" cy="1447200"/>
          </a:xfrm>
        </p:grpSpPr>
        <p:grpSp>
          <p:nvGrpSpPr>
            <p:cNvPr id="277" name=""/>
            <p:cNvGrpSpPr/>
            <p:nvPr/>
          </p:nvGrpSpPr>
          <p:grpSpPr>
            <a:xfrm>
              <a:off x="457560" y="4648320"/>
              <a:ext cx="3885840" cy="1447200"/>
              <a:chOff x="457560" y="4648320"/>
              <a:chExt cx="3885840" cy="1447200"/>
            </a:xfrm>
          </p:grpSpPr>
          <p:sp>
            <p:nvSpPr>
              <p:cNvPr id="278" name=""/>
              <p:cNvSpPr/>
              <p:nvPr/>
            </p:nvSpPr>
            <p:spPr>
              <a:xfrm>
                <a:off x="685800" y="510516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457560" y="4648320"/>
                <a:ext cx="3816000" cy="1447200"/>
                <a:chOff x="457560" y="4648320"/>
                <a:chExt cx="3816000" cy="14472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905120" y="5105160"/>
                  <a:ext cx="838080" cy="990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57560" y="4648320"/>
                  <a:ext cx="102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P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00400" y="4648320"/>
                  <a:ext cx="107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5029200" y="4724280"/>
                  <a:ext cx="2933640" cy="11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g” Fotoquímico (atmósferas suci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as actividades humanas que dan lugar a emisiones de precursores de ozono (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H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ciones meteorológicas que permiten la acumulación de los precursores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743560" y="4191120"/>
            <a:ext cx="3663720" cy="1904400"/>
            <a:chOff x="2743560" y="4191120"/>
            <a:chExt cx="3663720" cy="1904400"/>
          </a:xfrm>
        </p:grpSpPr>
        <p:sp>
          <p:nvSpPr>
            <p:cNvPr id="287" name=""/>
            <p:cNvSpPr/>
            <p:nvPr/>
          </p:nvSpPr>
          <p:spPr>
            <a:xfrm>
              <a:off x="2743560" y="4647960"/>
              <a:ext cx="102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91120" y="5105160"/>
              <a:ext cx="838080" cy="9903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4120" y="4191120"/>
              <a:ext cx="10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505320" y="4800600"/>
              <a:ext cx="236196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066680" y="609480"/>
                <a:ext cx="731520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360" y="4572000"/>
            <a:ext cx="9097560" cy="1905120"/>
            <a:chOff x="360" y="4572000"/>
            <a:chExt cx="9097560" cy="1905120"/>
          </a:xfrm>
        </p:grpSpPr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3895560" y="4691160"/>
                  <a:ext cx="520236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*R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94" name=""/>
            <p:cNvGrpSpPr/>
            <p:nvPr/>
          </p:nvGrpSpPr>
          <p:grpSpPr>
            <a:xfrm>
              <a:off x="360" y="4572000"/>
              <a:ext cx="3663720" cy="1905120"/>
              <a:chOff x="360" y="4572000"/>
              <a:chExt cx="3663720" cy="1905120"/>
            </a:xfrm>
          </p:grpSpPr>
          <p:sp>
            <p:nvSpPr>
              <p:cNvPr id="295" name=""/>
              <p:cNvSpPr/>
              <p:nvPr/>
            </p:nvSpPr>
            <p:spPr>
              <a:xfrm>
                <a:off x="360" y="5029200"/>
                <a:ext cx="102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P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47920" y="5486400"/>
                <a:ext cx="8380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4572000"/>
                <a:ext cx="107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62120" y="5181480"/>
                <a:ext cx="23619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zono vs HC y N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488000" cy="49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n la atmósfer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320040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5334120"/>
            <a:ext cx="6933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2362320"/>
            <a:ext cx="990720" cy="1447560"/>
          </a:xfrm>
          <a:prstGeom prst="downArrow">
            <a:avLst>
              <a:gd name="adj1" fmla="val 50000"/>
              <a:gd name="adj2" fmla="val 3652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23240" y="2381400"/>
            <a:ext cx="37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rusión desde arr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4114800"/>
            <a:ext cx="1371600" cy="1219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5410080"/>
            <a:ext cx="414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ursores (HC, CO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82480" y="4100400"/>
            <a:ext cx="5940720" cy="82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ción Foto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38880" y="4343400"/>
            <a:ext cx="762120" cy="1676520"/>
          </a:xfrm>
          <a:prstGeom prst="downArrow">
            <a:avLst>
              <a:gd name="adj1" fmla="val 50000"/>
              <a:gd name="adj2" fmla="val 549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6019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906480" cy="9032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1087560" cy="698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76560" y="3352680"/>
            <a:ext cx="21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410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105520" cy="48276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uente: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asrm.cl/sitio/pag/aire/indexjs3aireindgasesdemo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99160" y="560376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ximo registrado: 208 ppbv (al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1523880" y="2371680"/>
            <a:ext cx="4800600" cy="2819520"/>
            <a:chOff x="1523880" y="2371680"/>
            <a:chExt cx="4800600" cy="2819520"/>
          </a:xfrm>
        </p:grpSpPr>
        <p:sp>
          <p:nvSpPr>
            <p:cNvPr id="319" name=""/>
            <p:cNvSpPr/>
            <p:nvPr/>
          </p:nvSpPr>
          <p:spPr>
            <a:xfrm>
              <a:off x="1523880" y="2371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52480" y="5191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657600" y="19144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51240" y="175248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lujo desde la estratósfera (11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465768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57913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Flujo hacia la superficie (-4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524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1240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Producción fotoquímica (19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3040" y="304920"/>
            <a:ext cx="529668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en la tropósf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38480" y="3962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estrucción fotoquímica (-25.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26920" y="5840280"/>
            <a:ext cx="39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udget: Crutzen et al, 1999 (Tel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lec/cm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19040" y="316080"/>
            <a:ext cx="8305920" cy="6224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R: Tropospheric Ozone Residual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ttp://asd-www.larc.nasa.gov/TOR/dat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59920" cy="52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y estequiom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0" y="1600200"/>
            <a:ext cx="90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número de átomos de cada tipo que participan en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ción química permanece constante (La masa se conser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3200400"/>
                <a:ext cx="6178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597680" y="3947760"/>
            <a:ext cx="2289600" cy="2181240"/>
            <a:chOff x="1597680" y="3947760"/>
            <a:chExt cx="2289600" cy="2181240"/>
          </a:xfrm>
        </p:grpSpPr>
        <p:sp>
          <p:nvSpPr>
            <p:cNvPr id="61" name=""/>
            <p:cNvSpPr/>
            <p:nvPr/>
          </p:nvSpPr>
          <p:spPr>
            <a:xfrm rot="16161600">
              <a:off x="2513520" y="3046680"/>
              <a:ext cx="457200" cy="22845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59400 h 2284560"/>
                <a:gd name="textAreaBottom" fmla="*/ 2225160 h 228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3680" y="4572000"/>
              <a:ext cx="1589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eactan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74400" y="3945600"/>
            <a:ext cx="2670480" cy="2259720"/>
            <a:chOff x="4874400" y="3945600"/>
            <a:chExt cx="2670480" cy="2259720"/>
          </a:xfrm>
        </p:grpSpPr>
        <p:sp>
          <p:nvSpPr>
            <p:cNvPr id="64" name=""/>
            <p:cNvSpPr/>
            <p:nvPr/>
          </p:nvSpPr>
          <p:spPr>
            <a:xfrm rot="16161600">
              <a:off x="5980680" y="2856240"/>
              <a:ext cx="457200" cy="26654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5440"/>
                <a:gd name="textAreaBottom" fmla="*/ 259596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81840" y="4648320"/>
              <a:ext cx="14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oduct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9480" y="522360"/>
            <a:ext cx="822960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adical hidroxi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5832360" cy="2187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5111640" y="652140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http://www.atmosphere.mpg.de/enid/24y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0" y="0"/>
            <a:ext cx="8244000" cy="6527880"/>
            <a:chOff x="0" y="0"/>
            <a:chExt cx="8244000" cy="652788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874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3860640"/>
              <a:ext cx="28432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El radical OH es el “detergente” de la atmósfera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el agente que le da su carácter oxidati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3"/>
            <a:stretch/>
          </p:blipFill>
          <p:spPr>
            <a:xfrm>
              <a:off x="4932360" y="4133880"/>
              <a:ext cx="3311640" cy="239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7238880" y="260280"/>
            <a:ext cx="1905120" cy="110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bu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Absorbe radiación UV y así protege los tejidos viv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Colabora en el calentamiento global del planeta (lo hace habi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s responsable de la capacidad de limpieza de la tropósf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m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981080"/>
            <a:ext cx="3809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Hay regiones donde está aumentando y colabora en el calentamiento global “extra” del planet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n grandes cantidades es corrosivo e irrita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u desbalance puede inducir cambios en otras espec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0880" y="2101680"/>
                <a:ext cx="76964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14796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omposición unimole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3920" y="3657600"/>
            <a:ext cx="7776720" cy="2056680"/>
            <a:chOff x="223920" y="3657600"/>
            <a:chExt cx="7776720" cy="2056680"/>
          </a:xfrm>
        </p:grpSpPr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808200" y="4416120"/>
                  <a:ext cx="7192440" cy="12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  <m:r>
                        <m:t xml:space="preserve">,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71" name=""/>
            <p:cNvSpPr/>
            <p:nvPr/>
          </p:nvSpPr>
          <p:spPr>
            <a:xfrm>
              <a:off x="223920" y="3657600"/>
              <a:ext cx="39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scomposición un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78720" y="1600200"/>
            <a:ext cx="8125560" cy="1854360"/>
            <a:chOff x="378720" y="1600200"/>
            <a:chExt cx="8125560" cy="1854360"/>
          </a:xfrm>
        </p:grpSpPr>
        <p:sp>
          <p:nvSpPr>
            <p:cNvPr id="73" name=""/>
            <p:cNvSpPr/>
            <p:nvPr/>
          </p:nvSpPr>
          <p:spPr>
            <a:xfrm>
              <a:off x="378720" y="160020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709560" y="2133720"/>
                  <a:ext cx="7794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55040" y="4038480"/>
            <a:ext cx="8238240" cy="1854360"/>
            <a:chOff x="455040" y="4038480"/>
            <a:chExt cx="8238240" cy="1854360"/>
          </a:xfrm>
        </p:grpSpPr>
        <p:sp>
          <p:nvSpPr>
            <p:cNvPr id="77" name=""/>
            <p:cNvSpPr/>
            <p:nvPr/>
          </p:nvSpPr>
          <p:spPr>
            <a:xfrm>
              <a:off x="455040" y="403848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673200" y="4572000"/>
                  <a:ext cx="8020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" name=""/>
          <p:cNvSpPr txBox="1"/>
          <p:nvPr/>
        </p:nvSpPr>
        <p:spPr>
          <a:xfrm>
            <a:off x="4427640" y="3284640"/>
            <a:ext cx="366876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+O3-&gt;NO2+O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02040" y="1066680"/>
            <a:ext cx="8400240" cy="1854360"/>
            <a:chOff x="302040" y="1066680"/>
            <a:chExt cx="8400240" cy="1854360"/>
          </a:xfrm>
        </p:grpSpPr>
        <p:sp>
          <p:nvSpPr>
            <p:cNvPr id="81" name=""/>
            <p:cNvSpPr/>
            <p:nvPr/>
          </p:nvSpPr>
          <p:spPr>
            <a:xfrm>
              <a:off x="302040" y="10666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360360" y="1600200"/>
                  <a:ext cx="83419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78000" y="3124080"/>
            <a:ext cx="7432560" cy="1854360"/>
            <a:chOff x="378000" y="3124080"/>
            <a:chExt cx="7432560" cy="1854360"/>
          </a:xfrm>
        </p:grpSpPr>
        <p:sp>
          <p:nvSpPr>
            <p:cNvPr id="85" name=""/>
            <p:cNvSpPr/>
            <p:nvPr/>
          </p:nvSpPr>
          <p:spPr>
            <a:xfrm>
              <a:off x="378000" y="31240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401480" y="3657600"/>
                  <a:ext cx="6409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" name=""/>
          <p:cNvSpPr/>
          <p:nvPr/>
        </p:nvSpPr>
        <p:spPr>
          <a:xfrm>
            <a:off x="141480" y="5334120"/>
            <a:ext cx="8413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B. M significa una molécula que actúa como catalizador per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cambia en la reacción. Típicamente 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0" y="1268280"/>
            <a:ext cx="398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+O2+M-&gt;O3+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280" y="990720"/>
            <a:ext cx="581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asas de las reacciones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imolec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ípicamente independientes de la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s respecto de la temperatur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79080" y="2666880"/>
            <a:ext cx="6211800" cy="3233520"/>
            <a:chOff x="379080" y="2666880"/>
            <a:chExt cx="6211800" cy="3233520"/>
          </a:xfrm>
        </p:grpSpPr>
        <p:grpSp>
          <p:nvGrpSpPr>
            <p:cNvPr id="92" name=""/>
            <p:cNvGrpSpPr/>
            <p:nvPr/>
          </p:nvGrpSpPr>
          <p:grpSpPr>
            <a:xfrm>
              <a:off x="379080" y="2666880"/>
              <a:ext cx="5834520" cy="1535400"/>
              <a:chOff x="379080" y="2666880"/>
              <a:chExt cx="5834520" cy="1535400"/>
            </a:xfrm>
          </p:grpSpPr>
          <p:sp>
            <p:nvSpPr>
              <p:cNvPr id="93" name=""/>
              <p:cNvSpPr/>
              <p:nvPr/>
            </p:nvSpPr>
            <p:spPr>
              <a:xfrm>
                <a:off x="379080" y="2666880"/>
                <a:ext cx="194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rmalmen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" name=""/>
                  <p:cNvSpPr txBox="1"/>
                  <p:nvPr/>
                </p:nvSpPr>
                <p:spPr>
                  <a:xfrm>
                    <a:off x="2971800" y="2743200"/>
                    <a:ext cx="3241800" cy="145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a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gT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5" name=""/>
            <p:cNvSpPr/>
            <p:nvPr/>
          </p:nvSpPr>
          <p:spPr>
            <a:xfrm>
              <a:off x="678240" y="4343400"/>
              <a:ext cx="5912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: Relacionado con la frecuencia de colis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a: Energía de activación 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(&lt;50 KJ/m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g: Constante de los g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k es típicamente menor que 10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-10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 cm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/molec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7020720" y="692280"/>
            <a:ext cx="1776240" cy="2384280"/>
            <a:chOff x="7020720" y="692280"/>
            <a:chExt cx="1776240" cy="238428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7236000" y="692280"/>
              <a:ext cx="133344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020720" y="270828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vante Arrheni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1800" y="0"/>
            <a:ext cx="590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781360"/>
            <a:ext cx="83818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escomposición térm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poco frecuente pues no son muchas las moléculas con enlaces de baja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tipo de reacciones presenta típicamente tasas dependientes tanto de la temperatura como de la presión:  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k=k(p, 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da la estratificación atmosférica, este tipo de moléculas  resultan menos estables cerca de la superficie y más estables en las capas sup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3780000" cy="2649240"/>
            <a:chOff x="0" y="0"/>
            <a:chExt cx="3780000" cy="2649240"/>
          </a:xfrm>
        </p:grpSpPr>
        <p:sp>
          <p:nvSpPr>
            <p:cNvPr id="102" name=""/>
            <p:cNvSpPr/>
            <p:nvPr/>
          </p:nvSpPr>
          <p:spPr>
            <a:xfrm>
              <a:off x="179280" y="1773360"/>
              <a:ext cx="3600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peroxy</a:t>
              </a: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acetyl </a:t>
              </a:r>
              <a:r>
                <a:rPr b="1" lang="es-ES" sz="2400" spc="-1" strike="noStrike">
                  <a:solidFill>
                    <a:srgbClr val="00cc99"/>
                  </a:solidFill>
                  <a:latin typeface="Times New Roman"/>
                </a:rPr>
                <a:t>nitrate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P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OOON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743200" cy="163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828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ciones de recombin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n el inverso de la disociación molecular y por lo tanto también presentan: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=k(p, T)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normalmente la dependencia de la temperatura es débil  y/o inversa.Además, requieren típicamente de un tercer cuerpo que se lleve la energía en exc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9:44Z</dcterms:created>
  <dc:creator>Laura Gallardo Klenner</dc:creator>
  <dc:description/>
  <dc:language>en-US</dc:language>
  <cp:lastModifiedBy>LGK</cp:lastModifiedBy>
  <cp:lastPrinted>2001-04-25T14:48:12Z</cp:lastPrinted>
  <dcterms:modified xsi:type="dcterms:W3CDTF">2006-09-06T16:01:30Z</dcterms:modified>
  <cp:revision>26</cp:revision>
  <dc:subject/>
  <dc:title>Sin título de diapositiva</dc:title>
</cp:coreProperties>
</file>