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2.jpeg" ContentType="image/jpeg"/>
  <Override PartName="/ppt/media/image6.png" ContentType="image/png"/>
  <Override PartName="/ppt/media/image21.jpeg" ContentType="image/jpeg"/>
  <Override PartName="/ppt/media/image15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16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4.jpeg" ContentType="image/jpeg"/>
  <Override PartName="/ppt/media/image2.png" ContentType="image/png"/>
  <Override PartName="/ppt/media/image5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945-1ED9-4B72-BE5B-39A3DF07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B2F-6849-4A2D-A795-2EEDB7E8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6ED-0614-4B1B-8E6A-1E24480E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41D-07BA-4291-8CE2-C01A532C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893-22CF-457C-8A9A-4425FBD0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E0E-2CD9-4987-8900-B41C8C2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0F9-9B0B-48CA-826E-637A9008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355-EE38-4D19-99C5-AAC4FA9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3B2-4B33-4007-88EB-5415924E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1B6-7BB7-4C07-9D06-BDF6DC0E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878-369A-4BC8-90E3-89BD72FE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245-1055-4F5F-B411-EF67B20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77F-1BF1-4282-9AB5-C777875F4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composición d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vección y mezcla turbu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y mod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alidad del aire viento abajo de una gran fundición de co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59640" y="2997360"/>
            <a:ext cx="1609560" cy="1773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F 51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ación atmosférica orientada 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5120" y="3999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ndo las identidad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514600" y="1371600"/>
                <a:ext cx="3583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130480" y="4140360"/>
                <a:ext cx="48085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81080" y="3429000"/>
            <a:ext cx="614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076640" y="266400"/>
            <a:ext cx="1143000" cy="5791320"/>
          </a:xfrm>
          <a:custGeom>
            <a:avLst/>
            <a:gdLst>
              <a:gd name="textAreaLeft" fmla="*/ 0 w 1143000"/>
              <a:gd name="textAreaRight" fmla="*/ 412560 w 11430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5080" y="533520"/>
            <a:ext cx="8908920" cy="2044440"/>
            <a:chOff x="235080" y="533520"/>
            <a:chExt cx="8908920" cy="20444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235080" y="5335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7162920" y="205740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60880" y="3581280"/>
            <a:ext cx="4455360" cy="2045160"/>
          </a:xfrm>
          <a:prstGeom prst="rect">
            <a:avLst/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0"/>
            <a:ext cx="5029200" cy="3048120"/>
          </a:xfrm>
          <a:prstGeom prst="wedgeEllipseCallout">
            <a:avLst>
              <a:gd name="adj1" fmla="val -46967"/>
              <a:gd name="adj2" fmla="val 4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 en fase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762120"/>
            <a:ext cx="4038480" cy="1752480"/>
            <a:chOff x="0" y="762120"/>
            <a:chExt cx="4038480" cy="1752480"/>
          </a:xfrm>
        </p:grpSpPr>
        <p:sp>
          <p:nvSpPr>
            <p:cNvPr id="137" name=""/>
            <p:cNvSpPr/>
            <p:nvPr/>
          </p:nvSpPr>
          <p:spPr>
            <a:xfrm>
              <a:off x="0" y="762120"/>
              <a:ext cx="4038480" cy="1752480"/>
            </a:xfrm>
            <a:prstGeom prst="cloudCallout">
              <a:avLst>
                <a:gd name="adj1" fmla="val 92333"/>
                <a:gd name="adj2" fmla="val 317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880" y="106668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Aerosoles y nub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486400" y="3886200"/>
            <a:ext cx="3352680" cy="2590920"/>
          </a:xfrm>
          <a:prstGeom prst="downArrowCallout">
            <a:avLst>
              <a:gd name="adj1" fmla="val 32353"/>
              <a:gd name="adj2" fmla="val 32350"/>
              <a:gd name="adj3" fmla="val 16667"/>
              <a:gd name="adj4" fmla="val 6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Húmeda (n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1066680"/>
            <a:ext cx="4647960" cy="2209680"/>
            <a:chOff x="304920" y="1066680"/>
            <a:chExt cx="4647960" cy="2209680"/>
          </a:xfrm>
        </p:grpSpPr>
        <p:grpSp>
          <p:nvGrpSpPr>
            <p:cNvPr id="142" name=""/>
            <p:cNvGrpSpPr/>
            <p:nvPr/>
          </p:nvGrpSpPr>
          <p:grpSpPr>
            <a:xfrm>
              <a:off x="304920" y="1066680"/>
              <a:ext cx="4647960" cy="1315440"/>
              <a:chOff x="304920" y="1066680"/>
              <a:chExt cx="4647960" cy="1315440"/>
            </a:xfrm>
          </p:grpSpPr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304920" y="1066680"/>
                    <a:ext cx="4647960" cy="57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4" name=""/>
                  <p:cNvSpPr txBox="1"/>
                  <p:nvPr/>
                </p:nvSpPr>
                <p:spPr>
                  <a:xfrm>
                    <a:off x="665280" y="1803240"/>
                    <a:ext cx="3726360" cy="57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u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704520" y="2697840"/>
                  <a:ext cx="3727440" cy="57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456840" y="4267080"/>
            <a:ext cx="403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Quím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/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4120" y="722160"/>
            <a:ext cx="3025800" cy="2478240"/>
            <a:chOff x="5334120" y="722160"/>
            <a:chExt cx="3025800" cy="2478240"/>
          </a:xfrm>
        </p:grpSpPr>
        <p:sp>
          <p:nvSpPr>
            <p:cNvPr id="148" name=""/>
            <p:cNvSpPr/>
            <p:nvPr/>
          </p:nvSpPr>
          <p:spPr>
            <a:xfrm>
              <a:off x="5334120" y="838080"/>
              <a:ext cx="990360" cy="2362320"/>
            </a:xfrm>
            <a:custGeom>
              <a:avLst/>
              <a:gdLst>
                <a:gd name="textAreaLeft" fmla="*/ 632880 w 990360"/>
                <a:gd name="textAreaRight" fmla="*/ 990720 w 99036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62640" y="722160"/>
              <a:ext cx="1997280" cy="24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ff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n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257800" y="3276720"/>
            <a:ext cx="3886920" cy="3154320"/>
            <a:chOff x="5257800" y="3276720"/>
            <a:chExt cx="3886920" cy="31543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88620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428440" y="32767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Inventarios de emis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7200" y="3124080"/>
            <a:ext cx="7015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Métodos numéricos y resolución de E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20" y="0"/>
            <a:ext cx="3654000" cy="1922400"/>
          </a:xfrm>
          <a:prstGeom prst="rect">
            <a:avLst/>
          </a:prstGeom>
          <a:noFill/>
          <a:ln w="5724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v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reci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servadores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13440" y="2057400"/>
            <a:ext cx="5787360" cy="1495800"/>
          </a:xfrm>
          <a:prstGeom prst="rect">
            <a:avLst/>
          </a:prstGeom>
          <a:noFill/>
          <a:ln w="763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ametrizaciones de subgr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v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ezcla turbul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24200" y="4495680"/>
            <a:ext cx="3282120" cy="13737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Lat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Borde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0" y="5638680"/>
            <a:ext cx="3047400" cy="5205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pidez, memor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496280" y="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2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81360" y="66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5050"/>
                </a:solidFill>
                <a:latin typeface="Times New Roman"/>
              </a:rPr>
              <a:t>¡APROXIMACIÓN SISTÉMI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57600" y="2790720"/>
            <a:ext cx="944640" cy="117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30384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781680" y="2486160"/>
            <a:ext cx="1981440" cy="1295280"/>
            <a:chOff x="6781680" y="2486160"/>
            <a:chExt cx="1981440" cy="1295280"/>
          </a:xfrm>
        </p:grpSpPr>
        <p:sp>
          <p:nvSpPr>
            <p:cNvPr id="166" name=""/>
            <p:cNvSpPr/>
            <p:nvPr/>
          </p:nvSpPr>
          <p:spPr>
            <a:xfrm>
              <a:off x="6781680" y="2486160"/>
              <a:ext cx="19814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43800" y="286704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5200" y="271476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9" name=""/>
          <p:cNvCxnSpPr/>
          <p:nvPr/>
        </p:nvCxnSpPr>
        <p:spPr>
          <a:xfrm flipV="1">
            <a:off x="3048120" y="2866680"/>
            <a:ext cx="1092960" cy="738720"/>
          </a:xfrm>
          <a:prstGeom prst="bentConnector4">
            <a:avLst>
              <a:gd name="adj1" fmla="val 28336"/>
              <a:gd name="adj2" fmla="val 13096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6" idx="1"/>
          </p:cNvCxnSpPr>
          <p:nvPr/>
        </p:nvCxnSpPr>
        <p:spPr>
          <a:xfrm flipV="1">
            <a:off x="4602240" y="2676600"/>
            <a:ext cx="2180160" cy="705240"/>
          </a:xfrm>
          <a:prstGeom prst="bentConnector3">
            <a:avLst>
              <a:gd name="adj1" fmla="val 49958"/>
            </a:avLst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-1440" y="1143000"/>
            <a:ext cx="92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tracción...Simplificación...Síntesis...Evaluación...Pro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5080" y="4495680"/>
            <a:ext cx="8908920" cy="2044800"/>
            <a:chOff x="235080" y="4495680"/>
            <a:chExt cx="8908920" cy="2044800"/>
          </a:xfrm>
        </p:grpSpPr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35080" y="4495680"/>
                  <a:ext cx="890892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7162920" y="601992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nsideración 1: Emision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hile es un país minero (Cu-S-As-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0" y="6095880"/>
            <a:ext cx="2094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efhon et al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AMA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5033880" cy="206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981000"/>
            <a:ext cx="611964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misiones de Azufre Oxid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6280" y="380880"/>
          <a:ext cx="276552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80880"/>
                    <a:ext cx="27655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0" y="1557360"/>
          <a:ext cx="2971800" cy="453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57360"/>
                    <a:ext cx="29718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743200" y="1066680"/>
            <a:ext cx="563868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Volc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Océ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00"/>
                </a:solidFill>
                <a:latin typeface="Times New Roman"/>
              </a:rPr>
              <a:t>Descomposición de   materia orgá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Quema de combustibles fósiles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fuentes moviles y fij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Quema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ndición de Me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3505320"/>
            <a:ext cx="7754760" cy="2770560"/>
            <a:chOff x="838080" y="3505320"/>
            <a:chExt cx="7754760" cy="2770560"/>
          </a:xfrm>
        </p:grpSpPr>
        <p:sp>
          <p:nvSpPr>
            <p:cNvPr id="189" name=""/>
            <p:cNvSpPr/>
            <p:nvPr/>
          </p:nvSpPr>
          <p:spPr>
            <a:xfrm>
              <a:off x="838080" y="3505320"/>
              <a:ext cx="635040" cy="143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33680" y="4724280"/>
              <a:ext cx="5159160" cy="1551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70% de emisiones naci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30 % de emisiones sudamerica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1% de emisiones glob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9" idx="6"/>
              <a:endCxn id="190" idx="1"/>
            </p:cNvCxnSpPr>
            <p:nvPr/>
          </p:nvCxnSpPr>
          <p:spPr>
            <a:xfrm>
              <a:off x="1501560" y="4224240"/>
              <a:ext cx="1927800" cy="1278720"/>
            </a:xfrm>
            <a:prstGeom prst="curvedConnector5">
              <a:avLst>
                <a:gd name="adj1" fmla="val 49252"/>
                <a:gd name="adj2" fmla="val 49985"/>
                <a:gd name="adj3" fmla="val 49252"/>
              </a:avLst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12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Consideración2: 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TOPOGRAFÍA Y CIRCULACIÓN COMPLEJAS (¡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28880" y="1252440"/>
            <a:ext cx="6984720" cy="560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5364000" y="2565360"/>
            <a:ext cx="3780000" cy="4218120"/>
            <a:chOff x="5364000" y="2565360"/>
            <a:chExt cx="3780000" cy="421812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5637240" y="4152960"/>
              <a:ext cx="35067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364000" y="2565360"/>
              <a:ext cx="1295640" cy="10796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8101080" y="602136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Cale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5805360"/>
            <a:ext cx="216000" cy="21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550836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condiciones sinópticas afectarán a la zona de interés?, ¿Cuáles condiciones locales?, ¿cuáles serán más relevantes, cuá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afectará al azufre oxidado una vez emitido?(¿Cuáles son sus propiedades físico-química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aspectos será más relevantes de considerar en un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y dónde habría que observ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ción de masa para cada tra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58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86000" y="905040"/>
            <a:ext cx="4889880" cy="1000080"/>
            <a:chOff x="2286000" y="905040"/>
            <a:chExt cx="4889880" cy="1000080"/>
          </a:xfrm>
        </p:grpSpPr>
        <p:sp>
          <p:nvSpPr>
            <p:cNvPr id="61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3880" y="90504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64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67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70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0" y="476280"/>
            <a:ext cx="8908920" cy="2743200"/>
            <a:chOff x="0" y="4762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0" y="15433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28480" y="4762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81560" y="6289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viene la ecuación de continu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505320" y="2133720"/>
            <a:ext cx="1861920" cy="2314440"/>
            <a:chOff x="3505320" y="2133720"/>
            <a:chExt cx="1861920" cy="2314440"/>
          </a:xfrm>
        </p:grpSpPr>
        <p:sp>
          <p:nvSpPr>
            <p:cNvPr id="78" name=""/>
            <p:cNvSpPr/>
            <p:nvPr/>
          </p:nvSpPr>
          <p:spPr>
            <a:xfrm>
              <a:off x="3505320" y="2133720"/>
              <a:ext cx="1861920" cy="2314440"/>
            </a:xfrm>
            <a:custGeom>
              <a:avLst/>
              <a:gdLst/>
              <a:ahLst/>
              <a:rect l="l" t="t" r="r" b="b"/>
              <a:pathLst>
                <a:path w="1173" h="1458">
                  <a:moveTo>
                    <a:pt x="633" y="158"/>
                  </a:moveTo>
                  <a:cubicBezTo>
                    <a:pt x="465" y="168"/>
                    <a:pt x="429" y="164"/>
                    <a:pt x="297" y="230"/>
                  </a:cubicBezTo>
                  <a:cubicBezTo>
                    <a:pt x="234" y="262"/>
                    <a:pt x="208" y="352"/>
                    <a:pt x="141" y="374"/>
                  </a:cubicBezTo>
                  <a:cubicBezTo>
                    <a:pt x="117" y="382"/>
                    <a:pt x="93" y="390"/>
                    <a:pt x="69" y="398"/>
                  </a:cubicBezTo>
                  <a:cubicBezTo>
                    <a:pt x="34" y="538"/>
                    <a:pt x="0" y="658"/>
                    <a:pt x="33" y="806"/>
                  </a:cubicBezTo>
                  <a:cubicBezTo>
                    <a:pt x="36" y="820"/>
                    <a:pt x="57" y="822"/>
                    <a:pt x="69" y="830"/>
                  </a:cubicBezTo>
                  <a:cubicBezTo>
                    <a:pt x="85" y="842"/>
                    <a:pt x="101" y="854"/>
                    <a:pt x="117" y="866"/>
                  </a:cubicBezTo>
                  <a:cubicBezTo>
                    <a:pt x="121" y="890"/>
                    <a:pt x="121" y="915"/>
                    <a:pt x="129" y="938"/>
                  </a:cubicBezTo>
                  <a:cubicBezTo>
                    <a:pt x="134" y="952"/>
                    <a:pt x="152" y="960"/>
                    <a:pt x="153" y="974"/>
                  </a:cubicBezTo>
                  <a:cubicBezTo>
                    <a:pt x="156" y="1030"/>
                    <a:pt x="145" y="1086"/>
                    <a:pt x="141" y="1142"/>
                  </a:cubicBezTo>
                  <a:cubicBezTo>
                    <a:pt x="246" y="1458"/>
                    <a:pt x="865" y="1369"/>
                    <a:pt x="1053" y="1118"/>
                  </a:cubicBezTo>
                  <a:cubicBezTo>
                    <a:pt x="1107" y="955"/>
                    <a:pt x="1046" y="761"/>
                    <a:pt x="993" y="602"/>
                  </a:cubicBezTo>
                  <a:cubicBezTo>
                    <a:pt x="989" y="574"/>
                    <a:pt x="979" y="546"/>
                    <a:pt x="981" y="518"/>
                  </a:cubicBezTo>
                  <a:cubicBezTo>
                    <a:pt x="988" y="412"/>
                    <a:pt x="1043" y="357"/>
                    <a:pt x="1137" y="326"/>
                  </a:cubicBezTo>
                  <a:cubicBezTo>
                    <a:pt x="1173" y="183"/>
                    <a:pt x="1145" y="155"/>
                    <a:pt x="1065" y="62"/>
                  </a:cubicBezTo>
                  <a:cubicBezTo>
                    <a:pt x="1012" y="0"/>
                    <a:pt x="1074" y="48"/>
                    <a:pt x="1005" y="2"/>
                  </a:cubicBezTo>
                  <a:cubicBezTo>
                    <a:pt x="941" y="66"/>
                    <a:pt x="1000" y="15"/>
                    <a:pt x="921" y="62"/>
                  </a:cubicBezTo>
                  <a:cubicBezTo>
                    <a:pt x="850" y="105"/>
                    <a:pt x="811" y="144"/>
                    <a:pt x="729" y="158"/>
                  </a:cubicBezTo>
                  <a:cubicBezTo>
                    <a:pt x="629" y="175"/>
                    <a:pt x="633" y="202"/>
                    <a:pt x="633" y="158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8520" y="289548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H="1" flipV="1">
            <a:off x="4876920" y="35809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276360" y="3048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5800" y="449568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176760" y="1197000"/>
            <a:ext cx="8485920" cy="2895480"/>
            <a:chOff x="176760" y="1197000"/>
            <a:chExt cx="8485920" cy="2895480"/>
          </a:xfrm>
        </p:grpSpPr>
        <p:sp>
          <p:nvSpPr>
            <p:cNvPr id="84" name=""/>
            <p:cNvSpPr/>
            <p:nvPr/>
          </p:nvSpPr>
          <p:spPr>
            <a:xfrm>
              <a:off x="176760" y="1977840"/>
              <a:ext cx="351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voisier (1789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 masa se conser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6711840" y="1197000"/>
              <a:ext cx="195084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324000" y="314172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a un volumen 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rbitrari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V que contiene una masa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8360" y="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3880" y="4495680"/>
                <a:ext cx="8437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611280" y="1844640"/>
            <a:ext cx="6592680" cy="2057400"/>
            <a:chOff x="611280" y="1844640"/>
            <a:chExt cx="6592680" cy="2057400"/>
          </a:xfrm>
        </p:grpSpPr>
        <p:sp>
          <p:nvSpPr>
            <p:cNvPr id="90" name=""/>
            <p:cNvSpPr/>
            <p:nvPr/>
          </p:nvSpPr>
          <p:spPr>
            <a:xfrm>
              <a:off x="3583080" y="2205000"/>
              <a:ext cx="1295280" cy="1066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670720" y="1844640"/>
              <a:ext cx="15332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11280" y="2370240"/>
              <a:ext cx="25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racias a Gauss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V es arbitrari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7200" y="1905120"/>
                <a:ext cx="84376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39960" y="4572000"/>
                <a:ext cx="3718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9360" y="2514600"/>
            <a:ext cx="221832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mosfé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¿Qué 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66520" y="3047760"/>
            <a:ext cx="6172560" cy="2729880"/>
            <a:chOff x="2666520" y="3047760"/>
            <a:chExt cx="6172560" cy="2729880"/>
          </a:xfrm>
        </p:grpSpPr>
        <p:sp>
          <p:nvSpPr>
            <p:cNvPr id="99" name=""/>
            <p:cNvSpPr/>
            <p:nvPr/>
          </p:nvSpPr>
          <p:spPr>
            <a:xfrm>
              <a:off x="3581280" y="3124080"/>
              <a:ext cx="5257800" cy="265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rganizado y colectivo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guiendo el viento promed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/>
            <p:nvPr/>
          </p:nvCxnSpPr>
          <p:spPr>
            <a:xfrm>
              <a:off x="2666520" y="3047760"/>
              <a:ext cx="902520" cy="14022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1" name=""/>
          <p:cNvGrpSpPr/>
          <p:nvPr/>
        </p:nvGrpSpPr>
        <p:grpSpPr>
          <a:xfrm>
            <a:off x="2742840" y="533520"/>
            <a:ext cx="6096240" cy="2552040"/>
            <a:chOff x="2742840" y="533520"/>
            <a:chExt cx="6096240" cy="2552040"/>
          </a:xfrm>
        </p:grpSpPr>
        <p:sp>
          <p:nvSpPr>
            <p:cNvPr id="102" name=""/>
            <p:cNvSpPr/>
            <p:nvPr/>
          </p:nvSpPr>
          <p:spPr>
            <a:xfrm>
              <a:off x="3429000" y="533520"/>
              <a:ext cx="5410080" cy="25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organizado e individual, difusión molec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/>
            <p:nvPr/>
          </p:nvCxnSpPr>
          <p:spPr>
            <a:xfrm flipV="1">
              <a:off x="2742840" y="1065960"/>
              <a:ext cx="826200" cy="20106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343400" y="1676520"/>
                <a:ext cx="23623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54440" y="4495680"/>
                <a:ext cx="1890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523880" y="1295280"/>
                <a:ext cx="563904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3962520"/>
                <a:ext cx="818496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7543800" y="1676520"/>
            <a:ext cx="762120" cy="2971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en la práct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8280" y="106668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 La difusión molecular 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emp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pre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3753000"/>
            <a:ext cx="78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Las variables se conocen sólo c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medios temporales y/o espaciales</a:t>
            </a:r>
            <a:r>
              <a:rPr b="0" lang="es-MX" sz="3200" spc="-1" strike="noStrike">
                <a:solidFill>
                  <a:srgbClr val="3333cc"/>
                </a:solidFill>
                <a:latin typeface="Times New Roman"/>
              </a:rPr>
              <a:t> (Partición de Reyno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2057400"/>
                <a:ext cx="746748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4114800" y="1619280"/>
            <a:ext cx="1513080" cy="1961640"/>
            <a:chOff x="4114800" y="1619280"/>
            <a:chExt cx="1513080" cy="1961640"/>
          </a:xfrm>
        </p:grpSpPr>
        <p:sp>
          <p:nvSpPr>
            <p:cNvPr id="115" name=""/>
            <p:cNvSpPr/>
            <p:nvPr/>
          </p:nvSpPr>
          <p:spPr>
            <a:xfrm flipV="1">
              <a:off x="4114800" y="2057040"/>
              <a:ext cx="9907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4304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990720" y="2438280"/>
            <a:ext cx="7958160" cy="3886200"/>
            <a:chOff x="990720" y="2438280"/>
            <a:chExt cx="7958160" cy="38862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990720" y="5410080"/>
                  <a:ext cx="281916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384800" y="5348160"/>
                  <a:ext cx="2889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7543800" y="2438280"/>
              <a:ext cx="1405080" cy="19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6-08-16T15:21:54Z</dcterms:modified>
  <cp:revision>53</cp:revision>
  <dc:subject/>
  <dc:title>GF515 Modelación atmosférica orientada a la dispersión de contaminantes</dc:title>
</cp:coreProperties>
</file>