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9.wmf" ContentType="image/x-wmf"/>
  <Override PartName="/ppt/media/image11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A94-BD2C-459D-BF39-7BF33DF0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D80-7CA7-4CCA-8F71-EF51F633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FC33-87D9-43CC-A0D6-49F2F977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FF04-7EE3-4721-A467-FDC08A16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6C2-C17C-4DCD-B154-CDE3B5F9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BD86-3CBF-468B-A061-78B68721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B25-98C2-4EC2-9E18-DEF59001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7652-AA11-4A7A-8E85-D2CE7A1C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D84-F2FC-44A0-8A8D-D11D97F8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B42E-3C25-4DD1-B899-6643467C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1B3A-64AD-4880-A647-76EDFF7E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1CB3-BCF9-4DFE-B914-2424A76C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E177-263F-4385-909A-62939E481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6.png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elación atmosférica y dispersión de contaminan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F5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4800600"/>
            <a:ext cx="8763120" cy="2057400"/>
            <a:chOff x="0" y="4800600"/>
            <a:chExt cx="8763120" cy="20574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657600" y="5105520"/>
              <a:ext cx="94464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4829040"/>
              <a:ext cx="3038400" cy="202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6781680" y="4800600"/>
              <a:ext cx="1981440" cy="1295280"/>
              <a:chOff x="6781680" y="4800600"/>
              <a:chExt cx="1981440" cy="1295280"/>
            </a:xfrm>
          </p:grpSpPr>
          <p:sp>
            <p:nvSpPr>
              <p:cNvPr id="46" name=""/>
              <p:cNvSpPr/>
              <p:nvPr/>
            </p:nvSpPr>
            <p:spPr>
              <a:xfrm>
                <a:off x="6781680" y="4800600"/>
                <a:ext cx="1981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43800" y="5181480"/>
                <a:ext cx="4572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5029200"/>
                <a:ext cx="914400" cy="91440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9" name=""/>
            <p:cNvCxnSpPr/>
            <p:nvPr/>
          </p:nvCxnSpPr>
          <p:spPr>
            <a:xfrm flipV="1">
              <a:off x="3048120" y="5180760"/>
              <a:ext cx="1092960" cy="739080"/>
            </a:xfrm>
            <a:prstGeom prst="bentConnector4">
              <a:avLst>
                <a:gd name="adj1" fmla="val 28336"/>
                <a:gd name="adj2" fmla="val 130945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50" name=""/>
            <p:cNvCxnSpPr>
              <a:stCxn id="43" idx="3"/>
              <a:endCxn id="46" idx="1"/>
            </p:cNvCxnSpPr>
            <p:nvPr/>
          </p:nvCxnSpPr>
          <p:spPr>
            <a:xfrm flipV="1">
              <a:off x="4602240" y="4991040"/>
              <a:ext cx="2179800" cy="704520"/>
            </a:xfrm>
            <a:prstGeom prst="bentConnector3">
              <a:avLst>
                <a:gd name="adj1" fmla="val 49900"/>
              </a:avLst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Ju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emas de profundización </a:t>
            </a:r>
            <a:br>
              <a:rPr sz="4000"/>
            </a:br>
            <a:r>
              <a:rPr b="0" lang="es-ES" sz="4000" spc="-1" strike="noStrike">
                <a:solidFill>
                  <a:srgbClr val="cc0000"/>
                </a:solidFill>
                <a:latin typeface="Times New Roman"/>
              </a:rPr>
              <a:t>EN GRUPO</a:t>
            </a:r>
            <a:r>
              <a:rPr b="0" lang="es-ES" sz="4000" spc="-1" strike="noStrike">
                <a:solidFill>
                  <a:srgbClr val="cc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teracciones entre aerosoles, nubes y clima en el Pacífico sur or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lidad del aire en América del Sur: análisis y simul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nóstico operacional del tiempo quím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olcanes y aerosoles y su impacto en la tropósf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tro tema a acor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Ju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ción y caracterización de problemas de di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s de emisión, dispersión y re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banos y reg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3480" y="198108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62360" y="6095880"/>
            <a:ext cx="2307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279f"/>
                </a:solidFill>
                <a:latin typeface="Times New Roman"/>
              </a:rPr>
              <a:t>...”Le tenimos”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Ju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0384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miliarizar a los estudiantes con modelos de dispersión atmosf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arrollar habilidades y establecer criterios pertinentes al desarrollo y aplicación de los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2880" y="456840"/>
            <a:ext cx="3810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Clasificar problemas según escalas de tiempo y espa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Definir concep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Identificar y describir leyes atmosfé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Reconocer términos de la ec. de contin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Resolver ecs. si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Aplicar modelos si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Caracterizar modelos comple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Describir y analizar parametrizaciones de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Establecer criterios de el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Establecer procedimientos de val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Ju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rsos básic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ís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¡Gana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76560" y="838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bajo de investigación y pres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</a:rPr>
              <a:t>Trabajo equivalente a 9 hrs/seman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Ju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Ejercicios y controles de lectura periódicos (30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0000"/>
                </a:solidFill>
                <a:latin typeface="Times New Roman"/>
              </a:rPr>
              <a:t>Presentación de proyecto de investigación de 4 semanas de duración (40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xamen (30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Ju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2286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atmósfera un fluído cambi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..caótico y complej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rtur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5200" y="0"/>
            <a:ext cx="67788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4352760"/>
            <a:ext cx="3505320" cy="250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Ju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ro el fluído </a:t>
            </a: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es inerte químicamente ni transparente radiativ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357280"/>
            <a:ext cx="4572000" cy="36324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4572000" y="2133720"/>
            <a:ext cx="4140360" cy="4724280"/>
            <a:chOff x="4572000" y="2133720"/>
            <a:chExt cx="4140360" cy="4724280"/>
          </a:xfrm>
        </p:grpSpPr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4572000" y="2133720"/>
              <a:ext cx="4140360" cy="31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6781680" y="5154480"/>
              <a:ext cx="1752840" cy="170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Ju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0" y="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114800" y="1600200"/>
            <a:ext cx="1066680" cy="1219320"/>
          </a:xfrm>
          <a:prstGeom prst="upDownArrow">
            <a:avLst>
              <a:gd name="adj1" fmla="val 50000"/>
              <a:gd name="adj2" fmla="val 22756"/>
            </a:avLst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3352680"/>
            <a:ext cx="661680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ispersión y transform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4114800"/>
            <a:ext cx="0" cy="208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86000" y="4038120"/>
            <a:ext cx="0" cy="2210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4952880"/>
            <a:ext cx="295884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4952880"/>
            <a:ext cx="349272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mo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96960" y="17175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Times New Roman"/>
              </a:rPr>
              <a:t>+CI &amp;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1489320" cy="1828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59240" y="3032280"/>
            <a:ext cx="17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Lavoisier, 17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Ju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828800" y="304920"/>
            <a:ext cx="3951360" cy="5257800"/>
            <a:chOff x="1828800" y="304920"/>
            <a:chExt cx="3951360" cy="52578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1828800" y="3124080"/>
              <a:ext cx="205740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3886200" y="304920"/>
              <a:ext cx="189396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2895480" y="609480"/>
              <a:ext cx="701640" cy="70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1080" y="5791320"/>
            <a:ext cx="8914320" cy="1068120"/>
            <a:chOff x="1080" y="5791320"/>
            <a:chExt cx="8914320" cy="1068120"/>
          </a:xfrm>
        </p:grpSpPr>
        <p:sp>
          <p:nvSpPr>
            <p:cNvPr id="87" name=""/>
            <p:cNvSpPr/>
            <p:nvPr/>
          </p:nvSpPr>
          <p:spPr>
            <a:xfrm>
              <a:off x="228600" y="6095880"/>
              <a:ext cx="8686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0880" y="5867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0020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95480" y="5867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3848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86400" y="5867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05720" y="5791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01000" y="5943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8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7268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3936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1096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7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0660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5416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9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73480" y="6338880"/>
              <a:ext cx="65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00"/>
                  </a:solidFill>
                  <a:latin typeface="Times New Roman"/>
                </a:rPr>
                <a:t>00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181480" y="228600"/>
            <a:ext cx="3733920" cy="5286240"/>
            <a:chOff x="5181480" y="228600"/>
            <a:chExt cx="3733920" cy="5286240"/>
          </a:xfrm>
        </p:grpSpPr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5791320" y="228600"/>
              <a:ext cx="31240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5"/>
            <a:stretch/>
          </p:blipFill>
          <p:spPr>
            <a:xfrm>
              <a:off x="5181480" y="3352680"/>
              <a:ext cx="2219400" cy="2162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05" name=""/>
            <p:cNvGraphicFramePr/>
            <p:nvPr/>
          </p:nvGraphicFramePr>
          <p:xfrm>
            <a:off x="6553080" y="2057400"/>
            <a:ext cx="2300400" cy="2471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553080" y="2057400"/>
                      <a:ext cx="2300400" cy="247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7" name=""/>
          <p:cNvGrpSpPr/>
          <p:nvPr/>
        </p:nvGrpSpPr>
        <p:grpSpPr>
          <a:xfrm>
            <a:off x="0" y="914400"/>
            <a:ext cx="3049560" cy="4419720"/>
            <a:chOff x="0" y="914400"/>
            <a:chExt cx="3049560" cy="4419720"/>
          </a:xfrm>
        </p:grpSpPr>
        <p:pic>
          <p:nvPicPr>
            <p:cNvPr id="108" name="" descr=""/>
            <p:cNvPicPr/>
            <p:nvPr/>
          </p:nvPicPr>
          <p:blipFill>
            <a:blip r:embed="rId8"/>
            <a:stretch/>
          </p:blipFill>
          <p:spPr>
            <a:xfrm>
              <a:off x="1447920" y="1600200"/>
              <a:ext cx="1601640" cy="132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9"/>
            <a:stretch/>
          </p:blipFill>
          <p:spPr>
            <a:xfrm>
              <a:off x="0" y="914400"/>
              <a:ext cx="20574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33520" y="4267080"/>
              <a:ext cx="838080" cy="106704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0" y="2286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HISTO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Jul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10:34Z</dcterms:created>
  <dc:creator>***</dc:creator>
  <dc:description/>
  <dc:language>en-US</dc:language>
  <cp:lastModifiedBy>LGK</cp:lastModifiedBy>
  <dcterms:modified xsi:type="dcterms:W3CDTF">2006-07-28T17:00:02Z</dcterms:modified>
  <cp:revision>39</cp:revision>
  <dc:subject/>
  <dc:title>GF515 Modelación atmosférica orientada a la dispersión de contaminantes</dc:title>
</cp:coreProperties>
</file>