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wmf" ContentType="image/x-wmf"/>
  <Override PartName="/ppt/media/image11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534-BF31-4B85-9302-5A269EDD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675-E49C-46D4-B708-70E69083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406-7FD7-4640-8153-4A8A928A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67B-7FC7-425E-BBF1-C6A5412B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16B-7907-48CA-9980-32359435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A18-01A9-4843-8CE1-64084E61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465-09BD-4459-BDFC-59863DBD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5F9-4942-4287-9783-02196721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AFC-1BEE-4776-BD73-8F000D53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A4C-4261-4110-AE22-FDB725C0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C19-647F-4508-9819-3E7AFB6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385-506C-4714-8F75-7073329B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FD16-34CC-4DB5-AE93-E00EFD7D4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png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5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emas de profundización </a:t>
            </a:r>
            <a:br>
              <a:rPr sz="4000"/>
            </a:br>
            <a:r>
              <a:rPr b="0" lang="es-ES" sz="4000" spc="-1" strike="noStrike">
                <a:solidFill>
                  <a:srgbClr val="cc0000"/>
                </a:solidFill>
                <a:latin typeface="Times New Roman"/>
              </a:rPr>
              <a:t>EN GRUPO</a:t>
            </a:r>
            <a:r>
              <a:rPr b="0" lang="es-ES" sz="40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teracciones entre aerosoles, nubes y clima en el Pacífico sur or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lidad del aire en América del Sur: análisis y simul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nóstico operacional del tiempo quí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olcanes y aerosoles y su impacto en la tropósf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tro tema a acor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ción y caracterización de problemas de di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emisión, dispersión y re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banos y reg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3480" y="198108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360" y="6095880"/>
            <a:ext cx="230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...”Le tenimos”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0384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miliarizar a los estudiantes con modelos de disper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r habilidades y establecer criterios pertinentes al desarrollo y aplicación de l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880" y="45684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lasificar problemas según escalas de tiempo y espa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finir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Identificar y describir leyes 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conocer términos de la ec.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solver ecs.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Aplicar modelos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aracterizar modelos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scribir y analizar parametrizaciones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criterios de el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procedimientos de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rsos básic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ís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¡Gan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76560" y="838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 de investigación y 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Trabajo equivalente a 9 hrs/sema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Ejercicios y controles de lectura periódicos (3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0000"/>
                </a:solidFill>
                <a:latin typeface="Times New Roman"/>
              </a:rPr>
              <a:t>Presentación de proyecto de investigación de 4 semanas de duración (4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amen (3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2286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atmósfera un fluído camb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..caótico y complej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tur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5200" y="0"/>
            <a:ext cx="67788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4352760"/>
            <a:ext cx="3505320" cy="25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 el fluído </a:t>
            </a: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es inerte químicamente ni transparente radiativ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357280"/>
            <a:ext cx="4572000" cy="36324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4572000" y="2133720"/>
            <a:ext cx="4140360" cy="4724280"/>
            <a:chOff x="4572000" y="2133720"/>
            <a:chExt cx="4140360" cy="472428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4572000" y="2133720"/>
              <a:ext cx="41403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6781680" y="5154480"/>
              <a:ext cx="1752840" cy="170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828800" y="304920"/>
            <a:ext cx="3951360" cy="5257800"/>
            <a:chOff x="1828800" y="304920"/>
            <a:chExt cx="3951360" cy="52578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828800" y="3124080"/>
              <a:ext cx="205740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886200" y="304920"/>
              <a:ext cx="189396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2895480" y="609480"/>
              <a:ext cx="701640" cy="70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80" y="5791320"/>
            <a:ext cx="8914320" cy="1068120"/>
            <a:chOff x="1080" y="5791320"/>
            <a:chExt cx="8914320" cy="1068120"/>
          </a:xfrm>
        </p:grpSpPr>
        <p:sp>
          <p:nvSpPr>
            <p:cNvPr id="87" name=""/>
            <p:cNvSpPr/>
            <p:nvPr/>
          </p:nvSpPr>
          <p:spPr>
            <a:xfrm>
              <a:off x="228600" y="6095880"/>
              <a:ext cx="8686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088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020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548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848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8640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05720" y="5791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0100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726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93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109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660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41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34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Times New Roman"/>
                </a:rPr>
                <a:t>0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181480" y="228600"/>
            <a:ext cx="3733920" cy="5286240"/>
            <a:chOff x="5181480" y="228600"/>
            <a:chExt cx="3733920" cy="5286240"/>
          </a:xfrm>
        </p:grpSpPr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5791320" y="228600"/>
              <a:ext cx="31240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5181480" y="3352680"/>
              <a:ext cx="2219400" cy="2162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5" name=""/>
            <p:cNvGraphicFramePr/>
            <p:nvPr/>
          </p:nvGraphicFramePr>
          <p:xfrm>
            <a:off x="6553080" y="2057400"/>
            <a:ext cx="2300400" cy="2471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53080" y="2057400"/>
                      <a:ext cx="2300400" cy="24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7" name=""/>
          <p:cNvGrpSpPr/>
          <p:nvPr/>
        </p:nvGrpSpPr>
        <p:grpSpPr>
          <a:xfrm>
            <a:off x="0" y="914400"/>
            <a:ext cx="3049560" cy="4419720"/>
            <a:chOff x="0" y="914400"/>
            <a:chExt cx="3049560" cy="4419720"/>
          </a:xfrm>
        </p:grpSpPr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1447920" y="1600200"/>
              <a:ext cx="1601640" cy="13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0" y="914400"/>
              <a:ext cx="20574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33520" y="4267080"/>
              <a:ext cx="838080" cy="10670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0" y="228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HIST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6-07-28T17:00:02Z</dcterms:modified>
  <cp:revision>39</cp:revision>
  <dc:subject/>
  <dc:title>GF515 Modelación atmosférica orientada a la dispersión de contaminantes</dc:title>
</cp:coreProperties>
</file>