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D92-237C-4F6B-893D-BFEF7968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8E6-B05C-4EE9-A4D1-DD44125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E29-B8B9-4137-846A-CD5BD540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CA3-4838-4076-8479-144BF28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D60-3B1C-49E1-8E31-AD01231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CDD-1A02-4534-84C3-1691DFF3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F2E-AC8E-4BFA-9895-09C2F02F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133-776F-4E61-A097-18B2AB9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232-7186-4A89-B058-915A421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9EA-A8AA-4511-9CF8-C8090C3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5BB-350C-4167-929A-187CE6C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1EB-C0B1-464B-AB60-26569D8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7C78-21AF-4A98-91C3-31A371D42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e Auxiliar FI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357336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nter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422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dores * y ++ se asocian de derecha 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es equivalente a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a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por lo tanto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*(a+i) es equivalente a 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 cálculo del largo de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(n=0; *s!=‘\0’; ++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con aritmética de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har*p=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*p!=‘\0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p-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Esta rutina NO INTERCAMBIA VALORE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swap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hacer con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*x, int *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*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swap2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puntero se puede considerar como un índice de un gran arreglo de bytes, que representa la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reservamos “n” bytes de memoria, se está reservando “n” elementos contiguos del arreglo de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asignamos un puntero a esa reserva, apuntará al primer byte re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j[1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*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j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p= &amp;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jp=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f(“ip = 0x%x jp= 0x%x\n”, ip, j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punteros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loc: reserva un espacio de memoria del tamaño que se indica y retorna un pu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poner un cast para que el tipo de puntero se adapte a lo que s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= (char *) malloc(100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reserva un área de 100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bytes*/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reves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que reserva un espacio de memoria de tamaño exacto para copiar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my_strdup(char *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= (char *)malloc(strlen(s)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p !=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cpy(p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dir memoria para un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malloc y calcular el espacio 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 =(int *)malloc(100*sizeof(int)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100 in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calloc con dos parámetros: número de celdas y tamaño de las cel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 (int *)calloc(100,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oc inicializa en cero la memoria qu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rminar de usar la memoria pedida dinámicamente, es necesario devolve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p apunta al inicia del área de memoria que se libera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 no hay recolección automática de basura por default (como e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mory Leak”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de error que se presenta en los programas que funcionan por mucho tiempo y “olvidan” liberar memoria: errores muy difíciles de invest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Malo!!!! Porque primero libera y luego acced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correcta de liberar memoria de una lista enlaz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q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q= p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Courier New"/>
              </a:rPr>
              <a:t>/*guarda donde estaba parado p y luego lo libera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correcta es guardar lo necesario antes de lib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z[0]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2:18:38Z</dcterms:created>
  <dc:creator>Maria Fernanda Duran</dc:creator>
  <dc:description/>
  <dc:language>en-US</dc:language>
  <cp:lastModifiedBy>Maria Fernanda Duran</cp:lastModifiedBy>
  <dcterms:modified xsi:type="dcterms:W3CDTF">2006-08-30T14:30:50Z</dcterms:modified>
  <cp:revision>14</cp:revision>
  <dc:subject/>
  <dc:title>Clase Auxiliar nº1  FI46A</dc:title>
</cp:coreProperties>
</file>